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C4A-794E-4053-890E-4281ED7B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A59-F014-4808-9FD5-EBA8F7D8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DA8-FD30-438B-966E-65277913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2D5-ECC7-4D94-A9FB-9E45A971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45C7-6011-483A-AE53-46DC0522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3FF6-0EF8-4E27-8B04-52BA121F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7CF-479A-46F4-8E07-DF71F30F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4500-BC98-4E60-B61B-BA94942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BB7B-B7E7-4A15-97C3-8F29174E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09A8-0671-4F84-8A92-7BF5F818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53C9-E816-4DAE-9B04-D851EA8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097-2B5F-4A07-8B5A-440B3E82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AA21-F22B-4C5E-9114-E1026C8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5CBA-9D60-4CEB-8D05-9E7A0C4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E50E-1588-48C8-ADE1-529AD0E0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FD3-921B-4D46-BBF1-0D2102EC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F68C-A24C-410E-A159-5D27A268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BC3-7821-4C04-ACBC-72156F8C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53F-C47A-44BE-83C1-CFF78FC5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6C0-ACA1-46F8-9E04-88ACBB6F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96F-3EBC-48EB-958A-D6008B70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2B4-6134-4128-BEDE-698E61D1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6BA-DE6E-420A-A317-B99D306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04D-0D50-45E4-B90F-0062ABF2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-141120" y="0"/>
            <a:ext cx="9427680" cy="6858000"/>
            <a:chOff x="-141120" y="0"/>
            <a:chExt cx="942768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-141120" y="146160"/>
              <a:ext cx="9427680" cy="6439680"/>
              <a:chOff x="-141120" y="146160"/>
              <a:chExt cx="9427680" cy="6439680"/>
            </a:xfrm>
          </p:grpSpPr>
          <p:grpSp>
            <p:nvGrpSpPr>
              <p:cNvPr id="2" name="Group 121"/>
              <p:cNvGrpSpPr/>
              <p:nvPr/>
            </p:nvGrpSpPr>
            <p:grpSpPr>
              <a:xfrm>
                <a:off x="-141120" y="185400"/>
                <a:ext cx="1426680" cy="1398600"/>
                <a:chOff x="-141120" y="185400"/>
                <a:chExt cx="1426680" cy="1398600"/>
              </a:xfrm>
            </p:grpSpPr>
            <p:sp>
              <p:nvSpPr>
                <p:cNvPr id="3" name="Freeform 72"/>
                <p:cNvSpPr/>
                <p:nvPr/>
              </p:nvSpPr>
              <p:spPr>
                <a:xfrm rot="2428800">
                  <a:off x="782640" y="602280"/>
                  <a:ext cx="144360" cy="21600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Freeform 73"/>
                <p:cNvSpPr/>
                <p:nvPr/>
              </p:nvSpPr>
              <p:spPr>
                <a:xfrm rot="2428800">
                  <a:off x="836640" y="84384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22" h="104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0" y="10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4"/>
                <p:cNvSpPr/>
                <p:nvPr/>
              </p:nvSpPr>
              <p:spPr>
                <a:xfrm rot="2428800">
                  <a:off x="900000" y="702720"/>
                  <a:ext cx="145800" cy="2160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75"/>
                <p:cNvSpPr/>
                <p:nvPr/>
              </p:nvSpPr>
              <p:spPr>
                <a:xfrm rot="2428800">
                  <a:off x="7920" y="446760"/>
                  <a:ext cx="1128240" cy="875880"/>
                </a:xfrm>
                <a:custGeom>
                  <a:avLst/>
                  <a:gdLst>
                    <a:gd name="textAreaLeft" fmla="*/ 0 w 1128240"/>
                    <a:gd name="textAreaRight" fmla="*/ 1128600 w 1128240"/>
                    <a:gd name="textAreaTop" fmla="*/ 0 h 875880"/>
                    <a:gd name="textAreaBottom" fmla="*/ 876240 h 87588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Group 142"/>
              <p:cNvGrpSpPr/>
              <p:nvPr/>
            </p:nvGrpSpPr>
            <p:grpSpPr>
              <a:xfrm>
                <a:off x="209880" y="1459800"/>
                <a:ext cx="1280160" cy="1236960"/>
                <a:chOff x="209880" y="1459800"/>
                <a:chExt cx="1280160" cy="1236960"/>
              </a:xfrm>
            </p:grpSpPr>
            <p:sp>
              <p:nvSpPr>
                <p:cNvPr id="8" name="Freeform 79"/>
                <p:cNvSpPr/>
                <p:nvPr/>
              </p:nvSpPr>
              <p:spPr>
                <a:xfrm rot="19493400">
                  <a:off x="619920" y="184896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80"/>
                <p:cNvSpPr/>
                <p:nvPr/>
              </p:nvSpPr>
              <p:spPr>
                <a:xfrm rot="19493400">
                  <a:off x="771120" y="19692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75" h="47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81"/>
                <p:cNvSpPr/>
                <p:nvPr/>
              </p:nvSpPr>
              <p:spPr>
                <a:xfrm rot="19493400">
                  <a:off x="716760" y="1780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82"/>
                <p:cNvSpPr/>
                <p:nvPr/>
              </p:nvSpPr>
              <p:spPr>
                <a:xfrm rot="19493400">
                  <a:off x="353520" y="1671120"/>
                  <a:ext cx="992520" cy="813960"/>
                </a:xfrm>
                <a:custGeom>
                  <a:avLst/>
                  <a:gdLst>
                    <a:gd name="textAreaLeft" fmla="*/ 0 w 992520"/>
                    <a:gd name="textAreaRight" fmla="*/ 992880 w 992520"/>
                    <a:gd name="textAreaTop" fmla="*/ 0 h 813960"/>
                    <a:gd name="textAreaBottom" fmla="*/ 814320 h 8139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Group 147"/>
              <p:cNvGrpSpPr/>
              <p:nvPr/>
            </p:nvGrpSpPr>
            <p:grpSpPr>
              <a:xfrm>
                <a:off x="227880" y="4343400"/>
                <a:ext cx="1421280" cy="1368000"/>
                <a:chOff x="227880" y="4343400"/>
                <a:chExt cx="1421280" cy="1368000"/>
              </a:xfrm>
            </p:grpSpPr>
            <p:sp>
              <p:nvSpPr>
                <p:cNvPr id="13" name="Freeform 86"/>
                <p:cNvSpPr/>
                <p:nvPr/>
              </p:nvSpPr>
              <p:spPr>
                <a:xfrm rot="19710600">
                  <a:off x="679680" y="474588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87"/>
                <p:cNvSpPr/>
                <p:nvPr/>
              </p:nvSpPr>
              <p:spPr>
                <a:xfrm rot="19710600">
                  <a:off x="856080" y="4896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37" h="5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88"/>
                <p:cNvSpPr/>
                <p:nvPr/>
              </p:nvSpPr>
              <p:spPr>
                <a:xfrm rot="19710600">
                  <a:off x="800280" y="467100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89"/>
                <p:cNvSpPr/>
                <p:nvPr/>
              </p:nvSpPr>
              <p:spPr>
                <a:xfrm rot="19710600">
                  <a:off x="390960" y="4560120"/>
                  <a:ext cx="1094760" cy="93384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840"/>
                    <a:gd name="textAreaBottom" fmla="*/ 934200 h 9338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Group 172"/>
              <p:cNvGrpSpPr/>
              <p:nvPr/>
            </p:nvGrpSpPr>
            <p:grpSpPr>
              <a:xfrm>
                <a:off x="7499520" y="146160"/>
                <a:ext cx="1787040" cy="1720080"/>
                <a:chOff x="7499520" y="146160"/>
                <a:chExt cx="1787040" cy="1720080"/>
              </a:xfrm>
            </p:grpSpPr>
            <p:sp>
              <p:nvSpPr>
                <p:cNvPr id="18" name="Freeform 86"/>
                <p:cNvSpPr/>
                <p:nvPr/>
              </p:nvSpPr>
              <p:spPr>
                <a:xfrm rot="19710600">
                  <a:off x="8067960" y="652320"/>
                  <a:ext cx="164880" cy="2462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87"/>
                <p:cNvSpPr/>
                <p:nvPr/>
              </p:nvSpPr>
              <p:spPr>
                <a:xfrm rot="19710600">
                  <a:off x="8288640" y="8413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6" h="67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88"/>
                <p:cNvSpPr/>
                <p:nvPr/>
              </p:nvSpPr>
              <p:spPr>
                <a:xfrm rot="19710600">
                  <a:off x="8218800" y="558360"/>
                  <a:ext cx="164880" cy="2476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89"/>
                <p:cNvSpPr/>
                <p:nvPr/>
              </p:nvSpPr>
              <p:spPr>
                <a:xfrm rot="19710600">
                  <a:off x="7704720" y="419040"/>
                  <a:ext cx="1376640" cy="1173960"/>
                </a:xfrm>
                <a:custGeom>
                  <a:avLst/>
                  <a:gdLst>
                    <a:gd name="textAreaLeft" fmla="*/ 0 w 1376640"/>
                    <a:gd name="textAreaRight" fmla="*/ 1377000 w 1376640"/>
                    <a:gd name="textAreaTop" fmla="*/ 0 h 1173960"/>
                    <a:gd name="textAreaBottom" fmla="*/ 1174320 h 117396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Group 177"/>
              <p:cNvGrpSpPr/>
              <p:nvPr/>
            </p:nvGrpSpPr>
            <p:grpSpPr>
              <a:xfrm>
                <a:off x="7129440" y="3505320"/>
                <a:ext cx="1861560" cy="1825200"/>
                <a:chOff x="7129440" y="3505320"/>
                <a:chExt cx="1861560" cy="1825200"/>
              </a:xfrm>
            </p:grpSpPr>
            <p:sp>
              <p:nvSpPr>
                <p:cNvPr id="23" name="Freeform 72"/>
                <p:cNvSpPr/>
                <p:nvPr/>
              </p:nvSpPr>
              <p:spPr>
                <a:xfrm rot="2428800">
                  <a:off x="8006760" y="4073040"/>
                  <a:ext cx="189000" cy="2826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73"/>
                <p:cNvSpPr/>
                <p:nvPr/>
              </p:nvSpPr>
              <p:spPr>
                <a:xfrm rot="2428800">
                  <a:off x="8078400" y="43887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81" h="136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74"/>
                <p:cNvSpPr/>
                <p:nvPr/>
              </p:nvSpPr>
              <p:spPr>
                <a:xfrm rot="2428800">
                  <a:off x="8160840" y="4206600"/>
                  <a:ext cx="190440" cy="2808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75"/>
                <p:cNvSpPr/>
                <p:nvPr/>
              </p:nvSpPr>
              <p:spPr>
                <a:xfrm rot="2428800">
                  <a:off x="7324200" y="3846240"/>
                  <a:ext cx="1472040" cy="114300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Group 182"/>
              <p:cNvGrpSpPr/>
              <p:nvPr/>
            </p:nvGrpSpPr>
            <p:grpSpPr>
              <a:xfrm>
                <a:off x="7611120" y="5105160"/>
                <a:ext cx="1532520" cy="1480680"/>
                <a:chOff x="7611120" y="5105160"/>
                <a:chExt cx="1532520" cy="1480680"/>
              </a:xfrm>
            </p:grpSpPr>
            <p:sp>
              <p:nvSpPr>
                <p:cNvPr id="28" name="Freeform 79"/>
                <p:cNvSpPr/>
                <p:nvPr/>
              </p:nvSpPr>
              <p:spPr>
                <a:xfrm rot="19493400">
                  <a:off x="8101800" y="5570640"/>
                  <a:ext cx="131400" cy="19656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80"/>
                <p:cNvSpPr/>
                <p:nvPr/>
              </p:nvSpPr>
              <p:spPr>
                <a:xfrm rot="19493400">
                  <a:off x="8282880" y="57153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69" h="5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81"/>
                <p:cNvSpPr/>
                <p:nvPr/>
              </p:nvSpPr>
              <p:spPr>
                <a:xfrm rot="19493400">
                  <a:off x="821736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82"/>
                <p:cNvSpPr/>
                <p:nvPr/>
              </p:nvSpPr>
              <p:spPr>
                <a:xfrm rot="19493400">
                  <a:off x="7783200" y="5358240"/>
                  <a:ext cx="1188360" cy="974520"/>
                </a:xfrm>
                <a:custGeom>
                  <a:avLst/>
                  <a:gdLst>
                    <a:gd name="textAreaLeft" fmla="*/ 0 w 1188360"/>
                    <a:gd name="textAreaRight" fmla="*/ 1188720 w 1188360"/>
                    <a:gd name="textAreaTop" fmla="*/ 0 h 974520"/>
                    <a:gd name="textAreaBottom" fmla="*/ 974880 h 9745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669"/>
            <p:cNvGrpSpPr/>
            <p:nvPr/>
          </p:nvGrpSpPr>
          <p:grpSpPr>
            <a:xfrm>
              <a:off x="0" y="57960"/>
              <a:ext cx="9184680" cy="6800040"/>
              <a:chOff x="0" y="57960"/>
              <a:chExt cx="9184680" cy="6800040"/>
            </a:xfrm>
          </p:grpSpPr>
          <p:grpSp>
            <p:nvGrpSpPr>
              <p:cNvPr id="33" name="Group 32"/>
              <p:cNvGrpSpPr/>
              <p:nvPr/>
            </p:nvGrpSpPr>
            <p:grpSpPr>
              <a:xfrm>
                <a:off x="72000" y="57960"/>
                <a:ext cx="1895400" cy="1689480"/>
                <a:chOff x="72000" y="57960"/>
                <a:chExt cx="1895400" cy="1689480"/>
              </a:xfrm>
            </p:grpSpPr>
            <p:sp>
              <p:nvSpPr>
                <p:cNvPr id="34" name="Freeform 79"/>
                <p:cNvSpPr/>
                <p:nvPr/>
              </p:nvSpPr>
              <p:spPr>
                <a:xfrm rot="20059200">
                  <a:off x="761760" y="591120"/>
                  <a:ext cx="199800" cy="2970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80"/>
                <p:cNvSpPr/>
                <p:nvPr/>
              </p:nvSpPr>
              <p:spPr>
                <a:xfrm rot="20059200">
                  <a:off x="1022040" y="83736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862" h="8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81"/>
                <p:cNvSpPr/>
                <p:nvPr/>
              </p:nvSpPr>
              <p:spPr>
                <a:xfrm rot="20059200">
                  <a:off x="956880" y="498960"/>
                  <a:ext cx="199800" cy="2952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82"/>
                <p:cNvSpPr/>
                <p:nvPr/>
              </p:nvSpPr>
              <p:spPr>
                <a:xfrm rot="20710200">
                  <a:off x="214200" y="241920"/>
                  <a:ext cx="1611000" cy="132120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321200"/>
                    <a:gd name="textAreaBottom" fmla="*/ 1321560 h 13212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8"/>
              <p:cNvGrpSpPr/>
              <p:nvPr/>
            </p:nvGrpSpPr>
            <p:grpSpPr>
              <a:xfrm>
                <a:off x="7238880" y="456840"/>
                <a:ext cx="1316520" cy="1237320"/>
                <a:chOff x="7238880" y="456840"/>
                <a:chExt cx="1316520" cy="1237320"/>
              </a:xfrm>
            </p:grpSpPr>
            <p:sp>
              <p:nvSpPr>
                <p:cNvPr id="39" name="Freeform 86"/>
                <p:cNvSpPr/>
                <p:nvPr/>
              </p:nvSpPr>
              <p:spPr>
                <a:xfrm rot="1419600">
                  <a:off x="7872840" y="730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87"/>
                <p:cNvSpPr/>
                <p:nvPr/>
              </p:nvSpPr>
              <p:spPr>
                <a:xfrm rot="1419600">
                  <a:off x="7953840" y="93852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14" h="5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88"/>
                <p:cNvSpPr/>
                <p:nvPr/>
              </p:nvSpPr>
              <p:spPr>
                <a:xfrm rot="1419600">
                  <a:off x="7996680" y="784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89"/>
                <p:cNvSpPr/>
                <p:nvPr/>
              </p:nvSpPr>
              <p:spPr>
                <a:xfrm rot="1419600">
                  <a:off x="7373880" y="628920"/>
                  <a:ext cx="1046160" cy="89244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440"/>
                    <a:gd name="textAreaBottom" fmla="*/ 892800 h 8924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" name="Freeform 73"/>
              <p:cNvSpPr/>
              <p:nvPr/>
            </p:nvSpPr>
            <p:spPr>
              <a:xfrm rot="1542000">
                <a:off x="7057800" y="3703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1757">
                    <a:moveTo>
                      <a:pt x="0" y="0"/>
                    </a:moveTo>
                    <a:lnTo>
                      <a:pt x="0" y="0"/>
                    </a:lnTo>
                    <a:lnTo>
                      <a:pt x="0" y="1757"/>
                    </a:lnTo>
                    <a:lnTo>
                      <a:pt x="0" y="17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63"/>
              <p:cNvGrpSpPr/>
              <p:nvPr/>
            </p:nvGrpSpPr>
            <p:grpSpPr>
              <a:xfrm>
                <a:off x="7833600" y="4215960"/>
                <a:ext cx="1351080" cy="1224360"/>
                <a:chOff x="7833600" y="4215960"/>
                <a:chExt cx="1351080" cy="1224360"/>
              </a:xfrm>
            </p:grpSpPr>
            <p:sp>
              <p:nvSpPr>
                <p:cNvPr id="45" name="Freeform 79"/>
                <p:cNvSpPr/>
                <p:nvPr/>
              </p:nvSpPr>
              <p:spPr>
                <a:xfrm rot="1645200">
                  <a:off x="8359200" y="4886280"/>
                  <a:ext cx="125280" cy="18432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80"/>
                <p:cNvSpPr/>
                <p:nvPr/>
              </p:nvSpPr>
              <p:spPr>
                <a:xfrm rot="1645200">
                  <a:off x="8434440" y="50929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535" h="5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81"/>
                <p:cNvSpPr/>
                <p:nvPr/>
              </p:nvSpPr>
              <p:spPr>
                <a:xfrm rot="1645200">
                  <a:off x="8478360" y="4947840"/>
                  <a:ext cx="123840" cy="182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82"/>
                <p:cNvSpPr/>
                <p:nvPr/>
              </p:nvSpPr>
              <p:spPr>
                <a:xfrm rot="20491200">
                  <a:off x="7949880" y="4369680"/>
                  <a:ext cx="1118160" cy="916920"/>
                </a:xfrm>
                <a:custGeom>
                  <a:avLst/>
                  <a:gdLst>
                    <a:gd name="textAreaLeft" fmla="*/ 0 w 1118160"/>
                    <a:gd name="textAreaRight" fmla="*/ 1118520 w 1118160"/>
                    <a:gd name="textAreaTop" fmla="*/ 0 h 916920"/>
                    <a:gd name="textAreaBottom" fmla="*/ 917280 h 916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Group 87"/>
              <p:cNvGrpSpPr/>
              <p:nvPr/>
            </p:nvGrpSpPr>
            <p:grpSpPr>
              <a:xfrm>
                <a:off x="0" y="5334120"/>
                <a:ext cx="1188000" cy="1523880"/>
                <a:chOff x="0" y="5334120"/>
                <a:chExt cx="1188000" cy="1523880"/>
              </a:xfrm>
            </p:grpSpPr>
            <p:sp>
              <p:nvSpPr>
                <p:cNvPr id="50" name="Freeform 21"/>
                <p:cNvSpPr/>
                <p:nvPr/>
              </p:nvSpPr>
              <p:spPr>
                <a:xfrm>
                  <a:off x="373320" y="5703840"/>
                  <a:ext cx="21960" cy="3063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22"/>
                <p:cNvSpPr/>
                <p:nvPr/>
              </p:nvSpPr>
              <p:spPr>
                <a:xfrm>
                  <a:off x="392400" y="6015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23"/>
                <p:cNvSpPr/>
                <p:nvPr/>
              </p:nvSpPr>
              <p:spPr>
                <a:xfrm>
                  <a:off x="406440" y="5883480"/>
                  <a:ext cx="276120" cy="13464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4"/>
                <p:cNvSpPr/>
                <p:nvPr/>
              </p:nvSpPr>
              <p:spPr>
                <a:xfrm>
                  <a:off x="0" y="5334120"/>
                  <a:ext cx="1188000" cy="152388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880"/>
                    <a:gd name="textAreaBottom" fmla="*/ 1524240 h 152388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92"/>
              <p:cNvGrpSpPr/>
              <p:nvPr/>
            </p:nvGrpSpPr>
            <p:grpSpPr>
              <a:xfrm>
                <a:off x="0" y="2846160"/>
                <a:ext cx="930240" cy="1301760"/>
                <a:chOff x="0" y="2846160"/>
                <a:chExt cx="930240" cy="1301760"/>
              </a:xfrm>
            </p:grpSpPr>
            <p:sp>
              <p:nvSpPr>
                <p:cNvPr id="55" name="Freeform 49"/>
                <p:cNvSpPr/>
                <p:nvPr/>
              </p:nvSpPr>
              <p:spPr>
                <a:xfrm>
                  <a:off x="0" y="3446280"/>
                  <a:ext cx="83880" cy="13176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0"/>
                <p:cNvSpPr/>
                <p:nvPr/>
              </p:nvSpPr>
              <p:spPr>
                <a:xfrm>
                  <a:off x="87120" y="3584520"/>
                  <a:ext cx="360" cy="2880"/>
                </a:xfrm>
                <a:custGeom>
                  <a:avLst/>
                  <a:gdLst/>
                  <a:ahLst/>
                  <a:rect l="l" t="t" r="r" b="b"/>
                  <a:pathLst>
                    <a:path w="0" h="235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350"/>
                      </a:lnTo>
                      <a:lnTo>
                        <a:pt x="0" y="235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1"/>
                <p:cNvSpPr/>
                <p:nvPr/>
              </p:nvSpPr>
              <p:spPr>
                <a:xfrm>
                  <a:off x="101520" y="3255840"/>
                  <a:ext cx="215640" cy="3222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2200"/>
                    <a:gd name="textAreaBottom" fmla="*/ 322560 h 32220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52"/>
                <p:cNvSpPr/>
                <p:nvPr/>
              </p:nvSpPr>
              <p:spPr>
                <a:xfrm>
                  <a:off x="0" y="2846160"/>
                  <a:ext cx="930240" cy="130176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760"/>
                    <a:gd name="textAreaBottom" fmla="*/ 1302120 h 130176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rgbClr val="d8f2ab">
                    <a:alpha val="14000"/>
                  </a:srgbClr>
                </a:solidFill>
                <a:ln w="9360">
                  <a:solidFill>
                    <a:srgbClr val="abcb6a">
                      <a:alpha val="1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97"/>
              <p:cNvGrpSpPr/>
              <p:nvPr/>
            </p:nvGrpSpPr>
            <p:grpSpPr>
              <a:xfrm>
                <a:off x="4876920" y="5704560"/>
                <a:ext cx="1752480" cy="1153440"/>
                <a:chOff x="4876920" y="5704560"/>
                <a:chExt cx="1752480" cy="1153440"/>
              </a:xfrm>
            </p:grpSpPr>
            <p:sp>
              <p:nvSpPr>
                <p:cNvPr id="60" name="Freeform 28"/>
                <p:cNvSpPr/>
                <p:nvPr/>
              </p:nvSpPr>
              <p:spPr>
                <a:xfrm>
                  <a:off x="5599080" y="6247080"/>
                  <a:ext cx="15840" cy="3855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9"/>
                <p:cNvSpPr/>
                <p:nvPr/>
              </p:nvSpPr>
              <p:spPr>
                <a:xfrm>
                  <a:off x="5610240" y="6640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30"/>
                <p:cNvSpPr/>
                <p:nvPr/>
              </p:nvSpPr>
              <p:spPr>
                <a:xfrm>
                  <a:off x="5627880" y="6482160"/>
                  <a:ext cx="353880" cy="16164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31"/>
                <p:cNvSpPr/>
                <p:nvPr/>
              </p:nvSpPr>
              <p:spPr>
                <a:xfrm>
                  <a:off x="4876920" y="5704560"/>
                  <a:ext cx="1752480" cy="115344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153440"/>
                    <a:gd name="textAreaBottom" fmla="*/ 1153800 h 115344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rgbClr val="d8f2ab">
                    <a:alpha val="9000"/>
                  </a:srgbClr>
                </a:solidFill>
                <a:ln w="9360">
                  <a:solidFill>
                    <a:srgbClr val="feffff">
                      <a:alpha val="12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02"/>
              <p:cNvGrpSpPr/>
              <p:nvPr/>
            </p:nvGrpSpPr>
            <p:grpSpPr>
              <a:xfrm>
                <a:off x="7848720" y="1523520"/>
                <a:ext cx="1295280" cy="1685520"/>
                <a:chOff x="7848720" y="1523520"/>
                <a:chExt cx="1295280" cy="1685520"/>
              </a:xfrm>
            </p:grpSpPr>
            <p:sp>
              <p:nvSpPr>
                <p:cNvPr id="65" name="Freeform 70"/>
                <p:cNvSpPr/>
                <p:nvPr/>
              </p:nvSpPr>
              <p:spPr>
                <a:xfrm>
                  <a:off x="8456760" y="1991520"/>
                  <a:ext cx="296640" cy="195120"/>
                </a:xfrm>
                <a:custGeom>
                  <a:avLst/>
                  <a:gdLst>
                    <a:gd name="textAreaLeft" fmla="*/ 0 w 296640"/>
                    <a:gd name="textAreaRight" fmla="*/ 297000 w 29664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1"/>
                <p:cNvSpPr/>
                <p:nvPr/>
              </p:nvSpPr>
              <p:spPr>
                <a:xfrm>
                  <a:off x="8758440" y="2194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2"/>
                <p:cNvSpPr/>
                <p:nvPr/>
              </p:nvSpPr>
              <p:spPr>
                <a:xfrm>
                  <a:off x="8769600" y="1831320"/>
                  <a:ext cx="66600" cy="3506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3"/>
                <p:cNvSpPr/>
                <p:nvPr/>
              </p:nvSpPr>
              <p:spPr>
                <a:xfrm>
                  <a:off x="7848720" y="1523520"/>
                  <a:ext cx="1295280" cy="168552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685520"/>
                    <a:gd name="textAreaBottom" fmla="*/ 1685880 h 16855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112"/>
              <p:cNvGrpSpPr/>
              <p:nvPr/>
            </p:nvGrpSpPr>
            <p:grpSpPr>
              <a:xfrm>
                <a:off x="7679520" y="5943600"/>
                <a:ext cx="1331640" cy="914400"/>
                <a:chOff x="7679520" y="5943600"/>
                <a:chExt cx="1331640" cy="914400"/>
              </a:xfrm>
            </p:grpSpPr>
            <p:sp>
              <p:nvSpPr>
                <p:cNvPr id="70" name="Freeform 35"/>
                <p:cNvSpPr/>
                <p:nvPr/>
              </p:nvSpPr>
              <p:spPr>
                <a:xfrm>
                  <a:off x="7679520" y="6346800"/>
                  <a:ext cx="203040" cy="9504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>
                  <a:off x="7884000" y="6446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7"/>
                <p:cNvSpPr/>
                <p:nvPr/>
              </p:nvSpPr>
              <p:spPr>
                <a:xfrm>
                  <a:off x="7889040" y="6215040"/>
                  <a:ext cx="14040" cy="2221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8"/>
                <p:cNvSpPr/>
                <p:nvPr/>
              </p:nvSpPr>
              <p:spPr>
                <a:xfrm>
                  <a:off x="7920720" y="5943600"/>
                  <a:ext cx="1090440" cy="914400"/>
                </a:xfrm>
                <a:custGeom>
                  <a:avLst/>
                  <a:gdLst>
                    <a:gd name="textAreaLeft" fmla="*/ 0 w 1090440"/>
                    <a:gd name="textAreaRight" fmla="*/ 1090800 w 10904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715"/>
            <p:cNvGrpSpPr/>
            <p:nvPr/>
          </p:nvGrpSpPr>
          <p:grpSpPr>
            <a:xfrm>
              <a:off x="0" y="0"/>
              <a:ext cx="9211320" cy="6829560"/>
              <a:chOff x="0" y="0"/>
              <a:chExt cx="9211320" cy="6829560"/>
            </a:xfrm>
          </p:grpSpPr>
          <p:grpSp>
            <p:nvGrpSpPr>
              <p:cNvPr id="75" name="Group 129"/>
              <p:cNvGrpSpPr/>
              <p:nvPr/>
            </p:nvGrpSpPr>
            <p:grpSpPr>
              <a:xfrm>
                <a:off x="7696080" y="2819520"/>
                <a:ext cx="1404000" cy="3468600"/>
                <a:chOff x="7696080" y="2819520"/>
                <a:chExt cx="1404000" cy="3468600"/>
              </a:xfrm>
            </p:grpSpPr>
            <p:sp>
              <p:nvSpPr>
                <p:cNvPr id="76" name="Freeform 86"/>
                <p:cNvSpPr/>
                <p:nvPr/>
              </p:nvSpPr>
              <p:spPr>
                <a:xfrm rot="20119200">
                  <a:off x="8079120" y="3112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7"/>
                <p:cNvSpPr/>
                <p:nvPr/>
              </p:nvSpPr>
              <p:spPr>
                <a:xfrm rot="20119200">
                  <a:off x="822096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51" h="45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8"/>
                <p:cNvSpPr/>
                <p:nvPr/>
              </p:nvSpPr>
              <p:spPr>
                <a:xfrm rot="20119200">
                  <a:off x="8187120" y="3062160"/>
                  <a:ext cx="109440" cy="16488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9"/>
                <p:cNvSpPr/>
                <p:nvPr/>
              </p:nvSpPr>
              <p:spPr>
                <a:xfrm rot="20119200">
                  <a:off x="7817400" y="2975040"/>
                  <a:ext cx="917280" cy="782640"/>
                </a:xfrm>
                <a:custGeom>
                  <a:avLst/>
                  <a:gdLst>
                    <a:gd name="textAreaLeft" fmla="*/ 0 w 917280"/>
                    <a:gd name="textAreaRight" fmla="*/ 917640 w 91728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2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9"/>
                <p:cNvSpPr/>
                <p:nvPr/>
              </p:nvSpPr>
              <p:spPr>
                <a:xfrm rot="822600">
                  <a:off x="7925040" y="5250600"/>
                  <a:ext cx="1081080" cy="922320"/>
                </a:xfrm>
                <a:custGeom>
                  <a:avLst/>
                  <a:gdLst>
                    <a:gd name="textAreaLeft" fmla="*/ 0 w 1081080"/>
                    <a:gd name="textAreaRight" fmla="*/ 1081440 w 108108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34"/>
              <p:cNvGrpSpPr/>
              <p:nvPr/>
            </p:nvGrpSpPr>
            <p:grpSpPr>
              <a:xfrm>
                <a:off x="6854760" y="5524920"/>
                <a:ext cx="1110960" cy="1304640"/>
                <a:chOff x="6854760" y="5524920"/>
                <a:chExt cx="1110960" cy="1304640"/>
              </a:xfrm>
            </p:grpSpPr>
            <p:sp>
              <p:nvSpPr>
                <p:cNvPr id="82" name="Freeform 80"/>
                <p:cNvSpPr/>
                <p:nvPr/>
              </p:nvSpPr>
              <p:spPr>
                <a:xfrm rot="1992000">
                  <a:off x="7714800" y="5525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472" h="4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2"/>
                <p:cNvSpPr/>
                <p:nvPr/>
              </p:nvSpPr>
              <p:spPr>
                <a:xfrm rot="592800">
                  <a:off x="6916680" y="5941080"/>
                  <a:ext cx="986760" cy="809640"/>
                </a:xfrm>
                <a:custGeom>
                  <a:avLst/>
                  <a:gdLst>
                    <a:gd name="textAreaLeft" fmla="*/ 0 w 986760"/>
                    <a:gd name="textAreaRight" fmla="*/ 987120 w 98676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abcb6a">
                    <a:alpha val="10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154"/>
              <p:cNvGrpSpPr/>
              <p:nvPr/>
            </p:nvGrpSpPr>
            <p:grpSpPr>
              <a:xfrm>
                <a:off x="6317280" y="1055520"/>
                <a:ext cx="1840320" cy="1753560"/>
                <a:chOff x="6317280" y="1055520"/>
                <a:chExt cx="1840320" cy="1753560"/>
              </a:xfrm>
            </p:grpSpPr>
            <p:sp>
              <p:nvSpPr>
                <p:cNvPr id="85" name="Freeform 72"/>
                <p:cNvSpPr/>
                <p:nvPr/>
              </p:nvSpPr>
              <p:spPr>
                <a:xfrm rot="2047200">
                  <a:off x="7162560" y="158904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73"/>
                <p:cNvSpPr/>
                <p:nvPr/>
              </p:nvSpPr>
              <p:spPr>
                <a:xfrm rot="2047200">
                  <a:off x="7253280" y="19015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4" h="134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47"/>
                      </a:lnTo>
                      <a:lnTo>
                        <a:pt x="0" y="134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74"/>
                <p:cNvSpPr/>
                <p:nvPr/>
              </p:nvSpPr>
              <p:spPr>
                <a:xfrm rot="2047200">
                  <a:off x="7329240" y="170172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75"/>
                <p:cNvSpPr/>
                <p:nvPr/>
              </p:nvSpPr>
              <p:spPr>
                <a:xfrm rot="2047200">
                  <a:off x="6508800" y="1366560"/>
                  <a:ext cx="1456920" cy="1131120"/>
                </a:xfrm>
                <a:custGeom>
                  <a:avLst/>
                  <a:gdLst>
                    <a:gd name="textAreaLeft" fmla="*/ 0 w 1456920"/>
                    <a:gd name="textAreaRight" fmla="*/ 1457280 w 1456920"/>
                    <a:gd name="textAreaTop" fmla="*/ 0 h 1131120"/>
                    <a:gd name="textAreaBottom" fmla="*/ 1131480 h 11311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9360">
                  <a:solidFill>
                    <a:srgbClr val="d8f2ab">
                      <a:alpha val="1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164"/>
              <p:cNvGrpSpPr/>
              <p:nvPr/>
            </p:nvGrpSpPr>
            <p:grpSpPr>
              <a:xfrm>
                <a:off x="8125920" y="3738600"/>
                <a:ext cx="1085400" cy="916200"/>
                <a:chOff x="8125920" y="3738600"/>
                <a:chExt cx="1085400" cy="916200"/>
              </a:xfrm>
            </p:grpSpPr>
            <p:sp>
              <p:nvSpPr>
                <p:cNvPr id="90" name="Freeform 72"/>
                <p:cNvSpPr/>
                <p:nvPr/>
              </p:nvSpPr>
              <p:spPr>
                <a:xfrm rot="20119800">
                  <a:off x="8498160" y="40240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73"/>
                <p:cNvSpPr/>
                <p:nvPr/>
              </p:nvSpPr>
              <p:spPr>
                <a:xfrm rot="20119800">
                  <a:off x="8656560" y="41763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44" h="8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87"/>
                      </a:lnTo>
                      <a:lnTo>
                        <a:pt x="0" y="88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74"/>
                <p:cNvSpPr/>
                <p:nvPr/>
              </p:nvSpPr>
              <p:spPr>
                <a:xfrm rot="20119800">
                  <a:off x="8618760" y="39682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75"/>
                <p:cNvSpPr/>
                <p:nvPr/>
              </p:nvSpPr>
              <p:spPr>
                <a:xfrm rot="20932800">
                  <a:off x="8188560" y="3823920"/>
                  <a:ext cx="959760" cy="74520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5200"/>
                    <a:gd name="textAreaBottom" fmla="*/ 745560 h 7452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95" name="Freeform 42"/>
                <p:cNvSpPr/>
                <p:nvPr/>
              </p:nvSpPr>
              <p:spPr>
                <a:xfrm>
                  <a:off x="387360" y="1444320"/>
                  <a:ext cx="357120" cy="19188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3"/>
                <p:cNvSpPr/>
                <p:nvPr/>
              </p:nvSpPr>
              <p:spPr>
                <a:xfrm>
                  <a:off x="750600" y="1641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4"/>
                <p:cNvSpPr/>
                <p:nvPr/>
              </p:nvSpPr>
              <p:spPr>
                <a:xfrm>
                  <a:off x="760320" y="122544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3"/>
              <p:cNvGrpSpPr/>
              <p:nvPr/>
            </p:nvGrpSpPr>
            <p:grpSpPr>
              <a:xfrm>
                <a:off x="0" y="4273560"/>
                <a:ext cx="1192320" cy="1365120"/>
                <a:chOff x="0" y="4273560"/>
                <a:chExt cx="1192320" cy="1365120"/>
              </a:xfrm>
            </p:grpSpPr>
            <p:sp>
              <p:nvSpPr>
                <p:cNvPr id="100" name="Freeform 56"/>
                <p:cNvSpPr/>
                <p:nvPr/>
              </p:nvSpPr>
              <p:spPr>
                <a:xfrm>
                  <a:off x="399960" y="4638600"/>
                  <a:ext cx="14040" cy="3618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7"/>
                <p:cNvSpPr/>
                <p:nvPr/>
              </p:nvSpPr>
              <p:spPr>
                <a:xfrm>
                  <a:off x="439560" y="4930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8"/>
                <p:cNvSpPr/>
                <p:nvPr/>
              </p:nvSpPr>
              <p:spPr>
                <a:xfrm>
                  <a:off x="415800" y="4870440"/>
                  <a:ext cx="334800" cy="14112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9"/>
                <p:cNvSpPr/>
                <p:nvPr/>
              </p:nvSpPr>
              <p:spPr>
                <a:xfrm>
                  <a:off x="0" y="4273560"/>
                  <a:ext cx="1192320" cy="136512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5120"/>
                    <a:gd name="textAreaBottom" fmla="*/ 1365480 h 136512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58"/>
              <p:cNvGrpSpPr/>
              <p:nvPr/>
            </p:nvGrpSpPr>
            <p:grpSpPr>
              <a:xfrm>
                <a:off x="7366680" y="0"/>
                <a:ext cx="1266480" cy="990360"/>
                <a:chOff x="7366680" y="0"/>
                <a:chExt cx="1266480" cy="990360"/>
              </a:xfrm>
            </p:grpSpPr>
            <p:sp>
              <p:nvSpPr>
                <p:cNvPr id="105" name="Freeform 63"/>
                <p:cNvSpPr/>
                <p:nvPr/>
              </p:nvSpPr>
              <p:spPr>
                <a:xfrm>
                  <a:off x="7700040" y="0"/>
                  <a:ext cx="185400" cy="1886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64"/>
                <p:cNvSpPr/>
                <p:nvPr/>
              </p:nvSpPr>
              <p:spPr>
                <a:xfrm>
                  <a:off x="7887240" y="193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65"/>
                <p:cNvSpPr/>
                <p:nvPr/>
              </p:nvSpPr>
              <p:spPr>
                <a:xfrm>
                  <a:off x="7895160" y="0"/>
                  <a:ext cx="85680" cy="18576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66"/>
                <p:cNvSpPr/>
                <p:nvPr/>
              </p:nvSpPr>
              <p:spPr>
                <a:xfrm>
                  <a:off x="7366680" y="0"/>
                  <a:ext cx="1266480" cy="990360"/>
                </a:xfrm>
                <a:custGeom>
                  <a:avLst/>
                  <a:gdLst>
                    <a:gd name="textAreaLeft" fmla="*/ 0 w 1266480"/>
                    <a:gd name="textAreaRight" fmla="*/ 1266840 w 126648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3"/>
              <p:cNvGrpSpPr/>
              <p:nvPr/>
            </p:nvGrpSpPr>
            <p:grpSpPr>
              <a:xfrm>
                <a:off x="8323920" y="990360"/>
                <a:ext cx="819720" cy="1066680"/>
                <a:chOff x="8323920" y="990360"/>
                <a:chExt cx="819720" cy="1066680"/>
              </a:xfrm>
            </p:grpSpPr>
            <p:sp>
              <p:nvSpPr>
                <p:cNvPr id="110" name="Freeform 70"/>
                <p:cNvSpPr/>
                <p:nvPr/>
              </p:nvSpPr>
              <p:spPr>
                <a:xfrm>
                  <a:off x="8709120" y="1287000"/>
                  <a:ext cx="186840" cy="12204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71"/>
                <p:cNvSpPr/>
                <p:nvPr/>
              </p:nvSpPr>
              <p:spPr>
                <a:xfrm>
                  <a:off x="8899560" y="1415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72"/>
                <p:cNvSpPr/>
                <p:nvPr/>
              </p:nvSpPr>
              <p:spPr>
                <a:xfrm>
                  <a:off x="8907480" y="1185480"/>
                  <a:ext cx="41040" cy="2221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73"/>
                <p:cNvSpPr/>
                <p:nvPr/>
              </p:nvSpPr>
              <p:spPr>
                <a:xfrm>
                  <a:off x="8323920" y="990360"/>
                  <a:ext cx="819720" cy="1066680"/>
                </a:xfrm>
                <a:custGeom>
                  <a:avLst/>
                  <a:gdLst>
                    <a:gd name="textAreaLeft" fmla="*/ 0 w 819720"/>
                    <a:gd name="textAreaRight" fmla="*/ 820080 w 81972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15F0-7F4E-4760-9B98-BC4E2B606652}" type="datetime">
              <a:rPr b="0" lang="es-ES" sz="900" spc="-1" strike="noStrike">
                <a:solidFill>
                  <a:srgbClr val="404040"/>
                </a:solidFill>
                <a:latin typeface="Verdana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49F-1331-4F24-B365-7A7F25AD8936}" type="slidenum">
              <a:rPr b="0" lang="es-E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34"/>
          <p:cNvGrpSpPr/>
          <p:nvPr/>
        </p:nvGrpSpPr>
        <p:grpSpPr>
          <a:xfrm>
            <a:off x="-141120" y="0"/>
            <a:ext cx="9427680" cy="6858000"/>
            <a:chOff x="-141120" y="0"/>
            <a:chExt cx="9427680" cy="6858000"/>
          </a:xfrm>
        </p:grpSpPr>
        <p:grpSp>
          <p:nvGrpSpPr>
            <p:cNvPr id="156" name="Group 638"/>
            <p:cNvGrpSpPr/>
            <p:nvPr/>
          </p:nvGrpSpPr>
          <p:grpSpPr>
            <a:xfrm>
              <a:off x="-141120" y="146160"/>
              <a:ext cx="9427680" cy="6439680"/>
              <a:chOff x="-141120" y="146160"/>
              <a:chExt cx="9427680" cy="6439680"/>
            </a:xfrm>
          </p:grpSpPr>
          <p:grpSp>
            <p:nvGrpSpPr>
              <p:cNvPr id="157" name="Group 121"/>
              <p:cNvGrpSpPr/>
              <p:nvPr/>
            </p:nvGrpSpPr>
            <p:grpSpPr>
              <a:xfrm>
                <a:off x="-141120" y="185400"/>
                <a:ext cx="1426680" cy="1398600"/>
                <a:chOff x="-141120" y="185400"/>
                <a:chExt cx="1426680" cy="1398600"/>
              </a:xfrm>
            </p:grpSpPr>
            <p:sp>
              <p:nvSpPr>
                <p:cNvPr id="158" name="Freeform 72"/>
                <p:cNvSpPr/>
                <p:nvPr/>
              </p:nvSpPr>
              <p:spPr>
                <a:xfrm rot="2428800">
                  <a:off x="782640" y="602280"/>
                  <a:ext cx="144360" cy="216000"/>
                </a:xfrm>
                <a:custGeom>
                  <a:avLst/>
                  <a:gdLst>
                    <a:gd name="textAreaLeft" fmla="*/ 0 w 144360"/>
                    <a:gd name="textAreaRight" fmla="*/ 144360 w 14436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73"/>
                <p:cNvSpPr/>
                <p:nvPr/>
              </p:nvSpPr>
              <p:spPr>
                <a:xfrm rot="2428800">
                  <a:off x="836640" y="84384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22" h="104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0" y="10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4"/>
                <p:cNvSpPr/>
                <p:nvPr/>
              </p:nvSpPr>
              <p:spPr>
                <a:xfrm rot="2428800">
                  <a:off x="900000" y="702720"/>
                  <a:ext cx="145800" cy="2160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6000"/>
                    <a:gd name="textAreaBottom" fmla="*/ 216360 h 2160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5"/>
                <p:cNvSpPr/>
                <p:nvPr/>
              </p:nvSpPr>
              <p:spPr>
                <a:xfrm rot="2428800">
                  <a:off x="7920" y="446760"/>
                  <a:ext cx="1128240" cy="875880"/>
                </a:xfrm>
                <a:custGeom>
                  <a:avLst/>
                  <a:gdLst>
                    <a:gd name="textAreaLeft" fmla="*/ 0 w 1128240"/>
                    <a:gd name="textAreaRight" fmla="*/ 1128600 w 1128240"/>
                    <a:gd name="textAreaTop" fmla="*/ 0 h 875880"/>
                    <a:gd name="textAreaBottom" fmla="*/ 876240 h 87588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142"/>
              <p:cNvGrpSpPr/>
              <p:nvPr/>
            </p:nvGrpSpPr>
            <p:grpSpPr>
              <a:xfrm>
                <a:off x="209880" y="1459800"/>
                <a:ext cx="1280160" cy="1236960"/>
                <a:chOff x="209880" y="1459800"/>
                <a:chExt cx="1280160" cy="1236960"/>
              </a:xfrm>
            </p:grpSpPr>
            <p:sp>
              <p:nvSpPr>
                <p:cNvPr id="163" name="Freeform 79"/>
                <p:cNvSpPr/>
                <p:nvPr/>
              </p:nvSpPr>
              <p:spPr>
                <a:xfrm rot="19493400">
                  <a:off x="619920" y="184896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0"/>
                <p:cNvSpPr/>
                <p:nvPr/>
              </p:nvSpPr>
              <p:spPr>
                <a:xfrm rot="19493400">
                  <a:off x="771120" y="19692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75" h="47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81"/>
                <p:cNvSpPr/>
                <p:nvPr/>
              </p:nvSpPr>
              <p:spPr>
                <a:xfrm rot="19493400">
                  <a:off x="716760" y="1780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82"/>
                <p:cNvSpPr/>
                <p:nvPr/>
              </p:nvSpPr>
              <p:spPr>
                <a:xfrm rot="19493400">
                  <a:off x="353520" y="1671120"/>
                  <a:ext cx="992520" cy="813960"/>
                </a:xfrm>
                <a:custGeom>
                  <a:avLst/>
                  <a:gdLst>
                    <a:gd name="textAreaLeft" fmla="*/ 0 w 992520"/>
                    <a:gd name="textAreaRight" fmla="*/ 992880 w 992520"/>
                    <a:gd name="textAreaTop" fmla="*/ 0 h 813960"/>
                    <a:gd name="textAreaBottom" fmla="*/ 814320 h 81396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47"/>
              <p:cNvGrpSpPr/>
              <p:nvPr/>
            </p:nvGrpSpPr>
            <p:grpSpPr>
              <a:xfrm>
                <a:off x="227880" y="4343400"/>
                <a:ext cx="1421280" cy="1368000"/>
                <a:chOff x="227880" y="4343400"/>
                <a:chExt cx="1421280" cy="1368000"/>
              </a:xfrm>
            </p:grpSpPr>
            <p:sp>
              <p:nvSpPr>
                <p:cNvPr id="168" name="Freeform 86"/>
                <p:cNvSpPr/>
                <p:nvPr/>
              </p:nvSpPr>
              <p:spPr>
                <a:xfrm rot="19710600">
                  <a:off x="679680" y="474588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87"/>
                <p:cNvSpPr/>
                <p:nvPr/>
              </p:nvSpPr>
              <p:spPr>
                <a:xfrm rot="19710600">
                  <a:off x="856080" y="4896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537" h="53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8"/>
                <p:cNvSpPr/>
                <p:nvPr/>
              </p:nvSpPr>
              <p:spPr>
                <a:xfrm rot="19710600">
                  <a:off x="800280" y="4671000"/>
                  <a:ext cx="131400" cy="1969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920"/>
                    <a:gd name="textAreaBottom" fmla="*/ 197280 h 19692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89"/>
                <p:cNvSpPr/>
                <p:nvPr/>
              </p:nvSpPr>
              <p:spPr>
                <a:xfrm rot="19710600">
                  <a:off x="390960" y="4560120"/>
                  <a:ext cx="1094760" cy="933840"/>
                </a:xfrm>
                <a:custGeom>
                  <a:avLst/>
                  <a:gdLst>
                    <a:gd name="textAreaLeft" fmla="*/ 0 w 1094760"/>
                    <a:gd name="textAreaRight" fmla="*/ 1095120 w 1094760"/>
                    <a:gd name="textAreaTop" fmla="*/ 0 h 933840"/>
                    <a:gd name="textAreaBottom" fmla="*/ 934200 h 9338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72"/>
              <p:cNvGrpSpPr/>
              <p:nvPr/>
            </p:nvGrpSpPr>
            <p:grpSpPr>
              <a:xfrm>
                <a:off x="7499520" y="146160"/>
                <a:ext cx="1787040" cy="1720080"/>
                <a:chOff x="7499520" y="146160"/>
                <a:chExt cx="1787040" cy="1720080"/>
              </a:xfrm>
            </p:grpSpPr>
            <p:sp>
              <p:nvSpPr>
                <p:cNvPr id="173" name="Freeform 86"/>
                <p:cNvSpPr/>
                <p:nvPr/>
              </p:nvSpPr>
              <p:spPr>
                <a:xfrm rot="19710600">
                  <a:off x="8067960" y="652320"/>
                  <a:ext cx="164880" cy="2462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6240"/>
                    <a:gd name="textAreaBottom" fmla="*/ 246600 h 2462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87"/>
                <p:cNvSpPr/>
                <p:nvPr/>
              </p:nvSpPr>
              <p:spPr>
                <a:xfrm rot="19710600">
                  <a:off x="8288640" y="8413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6" h="67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8"/>
                <p:cNvSpPr/>
                <p:nvPr/>
              </p:nvSpPr>
              <p:spPr>
                <a:xfrm rot="19710600">
                  <a:off x="8218800" y="558360"/>
                  <a:ext cx="164880" cy="24768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89"/>
                <p:cNvSpPr/>
                <p:nvPr/>
              </p:nvSpPr>
              <p:spPr>
                <a:xfrm rot="19710600">
                  <a:off x="7704720" y="419040"/>
                  <a:ext cx="1376640" cy="1173960"/>
                </a:xfrm>
                <a:custGeom>
                  <a:avLst/>
                  <a:gdLst>
                    <a:gd name="textAreaLeft" fmla="*/ 0 w 1376640"/>
                    <a:gd name="textAreaRight" fmla="*/ 1377000 w 1376640"/>
                    <a:gd name="textAreaTop" fmla="*/ 0 h 1173960"/>
                    <a:gd name="textAreaBottom" fmla="*/ 1174320 h 117396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77"/>
              <p:cNvGrpSpPr/>
              <p:nvPr/>
            </p:nvGrpSpPr>
            <p:grpSpPr>
              <a:xfrm>
                <a:off x="7129440" y="3505320"/>
                <a:ext cx="1861560" cy="1825200"/>
                <a:chOff x="7129440" y="3505320"/>
                <a:chExt cx="1861560" cy="1825200"/>
              </a:xfrm>
            </p:grpSpPr>
            <p:sp>
              <p:nvSpPr>
                <p:cNvPr id="178" name="Freeform 72"/>
                <p:cNvSpPr/>
                <p:nvPr/>
              </p:nvSpPr>
              <p:spPr>
                <a:xfrm rot="2428800">
                  <a:off x="8006760" y="4073040"/>
                  <a:ext cx="189000" cy="28260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3"/>
                <p:cNvSpPr/>
                <p:nvPr/>
              </p:nvSpPr>
              <p:spPr>
                <a:xfrm rot="2428800">
                  <a:off x="8078400" y="43887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681" h="136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4"/>
                <p:cNvSpPr/>
                <p:nvPr/>
              </p:nvSpPr>
              <p:spPr>
                <a:xfrm rot="2428800">
                  <a:off x="8160840" y="4206600"/>
                  <a:ext cx="190440" cy="280800"/>
                </a:xfrm>
                <a:custGeom>
                  <a:avLst/>
                  <a:gdLst>
                    <a:gd name="textAreaLeft" fmla="*/ 0 w 190440"/>
                    <a:gd name="textAreaRight" fmla="*/ 190800 w 19044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5"/>
                <p:cNvSpPr/>
                <p:nvPr/>
              </p:nvSpPr>
              <p:spPr>
                <a:xfrm rot="2428800">
                  <a:off x="7324200" y="3846240"/>
                  <a:ext cx="1472040" cy="1143000"/>
                </a:xfrm>
                <a:custGeom>
                  <a:avLst/>
                  <a:gdLst>
                    <a:gd name="textAreaLeft" fmla="*/ 0 w 1472040"/>
                    <a:gd name="textAreaRight" fmla="*/ 1472400 w 147204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82"/>
              <p:cNvGrpSpPr/>
              <p:nvPr/>
            </p:nvGrpSpPr>
            <p:grpSpPr>
              <a:xfrm>
                <a:off x="7611120" y="5105160"/>
                <a:ext cx="1532520" cy="1480680"/>
                <a:chOff x="7611120" y="5105160"/>
                <a:chExt cx="1532520" cy="1480680"/>
              </a:xfrm>
            </p:grpSpPr>
            <p:sp>
              <p:nvSpPr>
                <p:cNvPr id="183" name="Freeform 79"/>
                <p:cNvSpPr/>
                <p:nvPr/>
              </p:nvSpPr>
              <p:spPr>
                <a:xfrm rot="19493400">
                  <a:off x="8101800" y="5570640"/>
                  <a:ext cx="131400" cy="19656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0"/>
                <p:cNvSpPr/>
                <p:nvPr/>
              </p:nvSpPr>
              <p:spPr>
                <a:xfrm rot="19493400">
                  <a:off x="8282880" y="57153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69" h="56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81"/>
                <p:cNvSpPr/>
                <p:nvPr/>
              </p:nvSpPr>
              <p:spPr>
                <a:xfrm rot="19493400">
                  <a:off x="8217360" y="5490000"/>
                  <a:ext cx="131400" cy="195120"/>
                </a:xfrm>
                <a:custGeom>
                  <a:avLst/>
                  <a:gdLst>
                    <a:gd name="textAreaLeft" fmla="*/ 0 w 131400"/>
                    <a:gd name="textAreaRight" fmla="*/ 131760 w 13140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82"/>
                <p:cNvSpPr/>
                <p:nvPr/>
              </p:nvSpPr>
              <p:spPr>
                <a:xfrm rot="19493400">
                  <a:off x="7783200" y="5358240"/>
                  <a:ext cx="1188360" cy="974520"/>
                </a:xfrm>
                <a:custGeom>
                  <a:avLst/>
                  <a:gdLst>
                    <a:gd name="textAreaLeft" fmla="*/ 0 w 1188360"/>
                    <a:gd name="textAreaRight" fmla="*/ 1188720 w 1188360"/>
                    <a:gd name="textAreaTop" fmla="*/ 0 h 974520"/>
                    <a:gd name="textAreaBottom" fmla="*/ 974880 h 9745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Group 669"/>
            <p:cNvGrpSpPr/>
            <p:nvPr/>
          </p:nvGrpSpPr>
          <p:grpSpPr>
            <a:xfrm>
              <a:off x="0" y="57960"/>
              <a:ext cx="9184680" cy="6800040"/>
              <a:chOff x="0" y="57960"/>
              <a:chExt cx="9184680" cy="6800040"/>
            </a:xfrm>
          </p:grpSpPr>
          <p:grpSp>
            <p:nvGrpSpPr>
              <p:cNvPr id="188" name="Group 32"/>
              <p:cNvGrpSpPr/>
              <p:nvPr/>
            </p:nvGrpSpPr>
            <p:grpSpPr>
              <a:xfrm>
                <a:off x="72000" y="57960"/>
                <a:ext cx="1895400" cy="1689480"/>
                <a:chOff x="72000" y="57960"/>
                <a:chExt cx="1895400" cy="1689480"/>
              </a:xfrm>
            </p:grpSpPr>
            <p:sp>
              <p:nvSpPr>
                <p:cNvPr id="189" name="Freeform 79"/>
                <p:cNvSpPr/>
                <p:nvPr/>
              </p:nvSpPr>
              <p:spPr>
                <a:xfrm rot="20059200">
                  <a:off x="761760" y="591120"/>
                  <a:ext cx="199800" cy="2970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7000"/>
                    <a:gd name="textAreaBottom" fmla="*/ 297000 h 2970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80"/>
                <p:cNvSpPr/>
                <p:nvPr/>
              </p:nvSpPr>
              <p:spPr>
                <a:xfrm rot="20059200">
                  <a:off x="1022040" y="83736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862" h="8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81"/>
                <p:cNvSpPr/>
                <p:nvPr/>
              </p:nvSpPr>
              <p:spPr>
                <a:xfrm rot="20059200">
                  <a:off x="956880" y="498960"/>
                  <a:ext cx="199800" cy="29520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5200"/>
                    <a:gd name="textAreaBottom" fmla="*/ 295560 h 29520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82"/>
                <p:cNvSpPr/>
                <p:nvPr/>
              </p:nvSpPr>
              <p:spPr>
                <a:xfrm rot="20710200">
                  <a:off x="214200" y="241920"/>
                  <a:ext cx="1611000" cy="1321200"/>
                </a:xfrm>
                <a:custGeom>
                  <a:avLst/>
                  <a:gdLst>
                    <a:gd name="textAreaLeft" fmla="*/ 0 w 1611000"/>
                    <a:gd name="textAreaRight" fmla="*/ 1611360 w 1611000"/>
                    <a:gd name="textAreaTop" fmla="*/ 0 h 1321200"/>
                    <a:gd name="textAreaBottom" fmla="*/ 1321560 h 132120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7238880" y="456840"/>
                <a:ext cx="1316520" cy="1237320"/>
                <a:chOff x="7238880" y="456840"/>
                <a:chExt cx="1316520" cy="1237320"/>
              </a:xfrm>
            </p:grpSpPr>
            <p:sp>
              <p:nvSpPr>
                <p:cNvPr id="194" name="Freeform 86"/>
                <p:cNvSpPr/>
                <p:nvPr/>
              </p:nvSpPr>
              <p:spPr>
                <a:xfrm rot="1419600">
                  <a:off x="7872840" y="730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87"/>
                <p:cNvSpPr/>
                <p:nvPr/>
              </p:nvSpPr>
              <p:spPr>
                <a:xfrm rot="1419600">
                  <a:off x="7953840" y="93852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14" h="5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88"/>
                <p:cNvSpPr/>
                <p:nvPr/>
              </p:nvSpPr>
              <p:spPr>
                <a:xfrm rot="1419600">
                  <a:off x="7996680" y="784440"/>
                  <a:ext cx="125280" cy="18720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7200"/>
                    <a:gd name="textAreaBottom" fmla="*/ 187560 h 18720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89"/>
                <p:cNvSpPr/>
                <p:nvPr/>
              </p:nvSpPr>
              <p:spPr>
                <a:xfrm rot="1419600">
                  <a:off x="7373880" y="628920"/>
                  <a:ext cx="1046160" cy="89244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892440"/>
                    <a:gd name="textAreaBottom" fmla="*/ 892800 h 8924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Freeform 73"/>
              <p:cNvSpPr/>
              <p:nvPr/>
            </p:nvSpPr>
            <p:spPr>
              <a:xfrm rot="1542000">
                <a:off x="7057800" y="3703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1757">
                    <a:moveTo>
                      <a:pt x="0" y="0"/>
                    </a:moveTo>
                    <a:lnTo>
                      <a:pt x="0" y="0"/>
                    </a:lnTo>
                    <a:lnTo>
                      <a:pt x="0" y="1757"/>
                    </a:lnTo>
                    <a:lnTo>
                      <a:pt x="0" y="17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3"/>
              <p:cNvGrpSpPr/>
              <p:nvPr/>
            </p:nvGrpSpPr>
            <p:grpSpPr>
              <a:xfrm>
                <a:off x="7833600" y="4215960"/>
                <a:ext cx="1351080" cy="1224360"/>
                <a:chOff x="7833600" y="4215960"/>
                <a:chExt cx="1351080" cy="1224360"/>
              </a:xfrm>
            </p:grpSpPr>
            <p:sp>
              <p:nvSpPr>
                <p:cNvPr id="200" name="Freeform 79"/>
                <p:cNvSpPr/>
                <p:nvPr/>
              </p:nvSpPr>
              <p:spPr>
                <a:xfrm rot="1645200">
                  <a:off x="8359200" y="4886280"/>
                  <a:ext cx="125280" cy="184320"/>
                </a:xfrm>
                <a:custGeom>
                  <a:avLst/>
                  <a:gdLst>
                    <a:gd name="textAreaLeft" fmla="*/ 0 w 125280"/>
                    <a:gd name="textAreaRight" fmla="*/ 125640 w 1252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30" y="344"/>
                      </a:moveTo>
                      <a:lnTo>
                        <a:pt x="230" y="344"/>
                      </a:lnTo>
                      <a:lnTo>
                        <a:pt x="232" y="344"/>
                      </a:lnTo>
                      <a:lnTo>
                        <a:pt x="232" y="342"/>
                      </a:lnTo>
                      <a:lnTo>
                        <a:pt x="232" y="342"/>
                      </a:lnTo>
                      <a:lnTo>
                        <a:pt x="224" y="328"/>
                      </a:lnTo>
                      <a:lnTo>
                        <a:pt x="48" y="50"/>
                      </a:lnTo>
                      <a:lnTo>
                        <a:pt x="48" y="50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22" y="1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4"/>
                      </a:lnTo>
                      <a:lnTo>
                        <a:pt x="10" y="22"/>
                      </a:lnTo>
                      <a:lnTo>
                        <a:pt x="10" y="22"/>
                      </a:lnTo>
                      <a:lnTo>
                        <a:pt x="18" y="30"/>
                      </a:lnTo>
                      <a:lnTo>
                        <a:pt x="26" y="42"/>
                      </a:lnTo>
                      <a:lnTo>
                        <a:pt x="218" y="332"/>
                      </a:lnTo>
                      <a:lnTo>
                        <a:pt x="218" y="332"/>
                      </a:lnTo>
                      <a:lnTo>
                        <a:pt x="226" y="340"/>
                      </a:lnTo>
                      <a:lnTo>
                        <a:pt x="230" y="344"/>
                      </a:lnTo>
                      <a:lnTo>
                        <a:pt x="230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80"/>
                <p:cNvSpPr/>
                <p:nvPr/>
              </p:nvSpPr>
              <p:spPr>
                <a:xfrm rot="1645200">
                  <a:off x="8434440" y="50929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535" h="5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81"/>
                <p:cNvSpPr/>
                <p:nvPr/>
              </p:nvSpPr>
              <p:spPr>
                <a:xfrm rot="1645200">
                  <a:off x="8478360" y="4947840"/>
                  <a:ext cx="123840" cy="182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32" h="344">
                      <a:moveTo>
                        <a:pt x="2" y="344"/>
                      </a:moveTo>
                      <a:lnTo>
                        <a:pt x="2" y="344"/>
                      </a:lnTo>
                      <a:lnTo>
                        <a:pt x="6" y="340"/>
                      </a:lnTo>
                      <a:lnTo>
                        <a:pt x="14" y="332"/>
                      </a:lnTo>
                      <a:lnTo>
                        <a:pt x="206" y="42"/>
                      </a:lnTo>
                      <a:lnTo>
                        <a:pt x="206" y="42"/>
                      </a:lnTo>
                      <a:lnTo>
                        <a:pt x="214" y="30"/>
                      </a:lnTo>
                      <a:lnTo>
                        <a:pt x="222" y="22"/>
                      </a:lnTo>
                      <a:lnTo>
                        <a:pt x="222" y="22"/>
                      </a:lnTo>
                      <a:lnTo>
                        <a:pt x="228" y="14"/>
                      </a:lnTo>
                      <a:lnTo>
                        <a:pt x="232" y="4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2" y="2"/>
                      </a:lnTo>
                      <a:lnTo>
                        <a:pt x="222" y="2"/>
                      </a:lnTo>
                      <a:lnTo>
                        <a:pt x="210" y="12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184" y="50"/>
                      </a:lnTo>
                      <a:lnTo>
                        <a:pt x="8" y="328"/>
                      </a:lnTo>
                      <a:lnTo>
                        <a:pt x="8" y="328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0" y="344"/>
                      </a:lnTo>
                      <a:lnTo>
                        <a:pt x="2" y="344"/>
                      </a:lnTo>
                      <a:lnTo>
                        <a:pt x="2" y="344"/>
                      </a:lnTo>
                      <a:close/>
                    </a:path>
                  </a:pathLst>
                </a:custGeom>
                <a:solidFill>
                  <a:srgbClr val="d8f2ab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82"/>
                <p:cNvSpPr/>
                <p:nvPr/>
              </p:nvSpPr>
              <p:spPr>
                <a:xfrm rot="20491200">
                  <a:off x="7949880" y="4369680"/>
                  <a:ext cx="1118160" cy="916920"/>
                </a:xfrm>
                <a:custGeom>
                  <a:avLst/>
                  <a:gdLst>
                    <a:gd name="textAreaLeft" fmla="*/ 0 w 1118160"/>
                    <a:gd name="textAreaRight" fmla="*/ 1118520 w 1118160"/>
                    <a:gd name="textAreaTop" fmla="*/ 0 h 916920"/>
                    <a:gd name="textAreaBottom" fmla="*/ 917280 h 91692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87"/>
              <p:cNvGrpSpPr/>
              <p:nvPr/>
            </p:nvGrpSpPr>
            <p:grpSpPr>
              <a:xfrm>
                <a:off x="0" y="5334120"/>
                <a:ext cx="1188000" cy="1523880"/>
                <a:chOff x="0" y="5334120"/>
                <a:chExt cx="1188000" cy="1523880"/>
              </a:xfrm>
            </p:grpSpPr>
            <p:sp>
              <p:nvSpPr>
                <p:cNvPr id="205" name="Freeform 21"/>
                <p:cNvSpPr/>
                <p:nvPr/>
              </p:nvSpPr>
              <p:spPr>
                <a:xfrm>
                  <a:off x="373320" y="5703840"/>
                  <a:ext cx="21960" cy="3063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22" h="304">
                      <a:moveTo>
                        <a:pt x="20" y="304"/>
                      </a:moveTo>
                      <a:lnTo>
                        <a:pt x="20" y="304"/>
                      </a:lnTo>
                      <a:lnTo>
                        <a:pt x="22" y="304"/>
                      </a:lnTo>
                      <a:lnTo>
                        <a:pt x="22" y="304"/>
                      </a:lnTo>
                      <a:lnTo>
                        <a:pt x="22" y="286"/>
                      </a:lnTo>
                      <a:lnTo>
                        <a:pt x="14" y="54"/>
                      </a:lnTo>
                      <a:lnTo>
                        <a:pt x="14" y="54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16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4" y="40"/>
                      </a:lnTo>
                      <a:lnTo>
                        <a:pt x="18" y="286"/>
                      </a:lnTo>
                      <a:lnTo>
                        <a:pt x="18" y="286"/>
                      </a:lnTo>
                      <a:lnTo>
                        <a:pt x="20" y="304"/>
                      </a:lnTo>
                      <a:lnTo>
                        <a:pt x="20" y="30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2"/>
                <p:cNvSpPr/>
                <p:nvPr/>
              </p:nvSpPr>
              <p:spPr>
                <a:xfrm>
                  <a:off x="392400" y="6015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23"/>
                <p:cNvSpPr/>
                <p:nvPr/>
              </p:nvSpPr>
              <p:spPr>
                <a:xfrm>
                  <a:off x="406440" y="5883480"/>
                  <a:ext cx="276120" cy="134640"/>
                </a:xfrm>
                <a:custGeom>
                  <a:avLst/>
                  <a:gdLst>
                    <a:gd name="textAreaLeft" fmla="*/ 0 w 276120"/>
                    <a:gd name="textAreaRight" fmla="*/ 276480 w 2761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276" h="134">
                      <a:moveTo>
                        <a:pt x="2" y="134"/>
                      </a:moveTo>
                      <a:lnTo>
                        <a:pt x="2" y="134"/>
                      </a:lnTo>
                      <a:lnTo>
                        <a:pt x="16" y="128"/>
                      </a:lnTo>
                      <a:lnTo>
                        <a:pt x="238" y="20"/>
                      </a:lnTo>
                      <a:lnTo>
                        <a:pt x="238" y="20"/>
                      </a:lnTo>
                      <a:lnTo>
                        <a:pt x="260" y="12"/>
                      </a:lnTo>
                      <a:lnTo>
                        <a:pt x="260" y="12"/>
                      </a:lnTo>
                      <a:lnTo>
                        <a:pt x="268" y="10"/>
                      </a:lnTo>
                      <a:lnTo>
                        <a:pt x="274" y="6"/>
                      </a:lnTo>
                      <a:lnTo>
                        <a:pt x="274" y="6"/>
                      </a:lnTo>
                      <a:lnTo>
                        <a:pt x="276" y="2"/>
                      </a:lnTo>
                      <a:lnTo>
                        <a:pt x="274" y="2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58" y="2"/>
                      </a:lnTo>
                      <a:lnTo>
                        <a:pt x="248" y="6"/>
                      </a:lnTo>
                      <a:lnTo>
                        <a:pt x="248" y="6"/>
                      </a:lnTo>
                      <a:lnTo>
                        <a:pt x="222" y="18"/>
                      </a:lnTo>
                      <a:lnTo>
                        <a:pt x="16" y="124"/>
                      </a:lnTo>
                      <a:lnTo>
                        <a:pt x="16" y="124"/>
                      </a:lnTo>
                      <a:lnTo>
                        <a:pt x="0" y="132"/>
                      </a:lnTo>
                      <a:lnTo>
                        <a:pt x="0" y="132"/>
                      </a:lnTo>
                      <a:lnTo>
                        <a:pt x="0" y="134"/>
                      </a:lnTo>
                      <a:lnTo>
                        <a:pt x="0" y="134"/>
                      </a:lnTo>
                      <a:lnTo>
                        <a:pt x="2" y="134"/>
                      </a:lnTo>
                      <a:lnTo>
                        <a:pt x="2" y="13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4"/>
                <p:cNvSpPr/>
                <p:nvPr/>
              </p:nvSpPr>
              <p:spPr>
                <a:xfrm>
                  <a:off x="0" y="5334120"/>
                  <a:ext cx="1188000" cy="1523880"/>
                </a:xfrm>
                <a:custGeom>
                  <a:avLst/>
                  <a:gdLst>
                    <a:gd name="textAreaLeft" fmla="*/ 0 w 1188000"/>
                    <a:gd name="textAreaRight" fmla="*/ 1188360 w 1188000"/>
                    <a:gd name="textAreaTop" fmla="*/ 0 h 1523880"/>
                    <a:gd name="textAreaBottom" fmla="*/ 1524240 h 1523880"/>
                  </a:gdLst>
                  <a:ahLst/>
                  <a:rect l="textAreaLeft" t="textAreaTop" r="textAreaRight" b="textAreaBottom"/>
                  <a:pathLst>
                    <a:path w="1182" h="1516">
                      <a:moveTo>
                        <a:pt x="1136" y="650"/>
                      </a:moveTo>
                      <a:lnTo>
                        <a:pt x="1098" y="626"/>
                      </a:lnTo>
                      <a:lnTo>
                        <a:pt x="1098" y="626"/>
                      </a:lnTo>
                      <a:lnTo>
                        <a:pt x="1086" y="620"/>
                      </a:lnTo>
                      <a:lnTo>
                        <a:pt x="1052" y="606"/>
                      </a:lnTo>
                      <a:lnTo>
                        <a:pt x="1026" y="598"/>
                      </a:lnTo>
                      <a:lnTo>
                        <a:pt x="998" y="590"/>
                      </a:lnTo>
                      <a:lnTo>
                        <a:pt x="964" y="584"/>
                      </a:lnTo>
                      <a:lnTo>
                        <a:pt x="928" y="580"/>
                      </a:lnTo>
                      <a:lnTo>
                        <a:pt x="928" y="580"/>
                      </a:lnTo>
                      <a:lnTo>
                        <a:pt x="890" y="578"/>
                      </a:lnTo>
                      <a:lnTo>
                        <a:pt x="852" y="578"/>
                      </a:lnTo>
                      <a:lnTo>
                        <a:pt x="814" y="580"/>
                      </a:lnTo>
                      <a:lnTo>
                        <a:pt x="776" y="586"/>
                      </a:lnTo>
                      <a:lnTo>
                        <a:pt x="738" y="592"/>
                      </a:lnTo>
                      <a:lnTo>
                        <a:pt x="700" y="602"/>
                      </a:lnTo>
                      <a:lnTo>
                        <a:pt x="662" y="614"/>
                      </a:lnTo>
                      <a:lnTo>
                        <a:pt x="622" y="628"/>
                      </a:lnTo>
                      <a:lnTo>
                        <a:pt x="622" y="628"/>
                      </a:lnTo>
                      <a:lnTo>
                        <a:pt x="590" y="640"/>
                      </a:lnTo>
                      <a:lnTo>
                        <a:pt x="558" y="654"/>
                      </a:lnTo>
                      <a:lnTo>
                        <a:pt x="496" y="686"/>
                      </a:lnTo>
                      <a:lnTo>
                        <a:pt x="444" y="716"/>
                      </a:lnTo>
                      <a:lnTo>
                        <a:pt x="408" y="740"/>
                      </a:lnTo>
                      <a:lnTo>
                        <a:pt x="408" y="740"/>
                      </a:lnTo>
                      <a:lnTo>
                        <a:pt x="404" y="736"/>
                      </a:lnTo>
                      <a:lnTo>
                        <a:pt x="404" y="736"/>
                      </a:lnTo>
                      <a:lnTo>
                        <a:pt x="406" y="728"/>
                      </a:lnTo>
                      <a:lnTo>
                        <a:pt x="404" y="716"/>
                      </a:lnTo>
                      <a:lnTo>
                        <a:pt x="404" y="716"/>
                      </a:lnTo>
                      <a:lnTo>
                        <a:pt x="410" y="714"/>
                      </a:lnTo>
                      <a:lnTo>
                        <a:pt x="414" y="708"/>
                      </a:lnTo>
                      <a:lnTo>
                        <a:pt x="414" y="708"/>
                      </a:lnTo>
                      <a:lnTo>
                        <a:pt x="416" y="702"/>
                      </a:lnTo>
                      <a:lnTo>
                        <a:pt x="416" y="696"/>
                      </a:lnTo>
                      <a:lnTo>
                        <a:pt x="414" y="690"/>
                      </a:lnTo>
                      <a:lnTo>
                        <a:pt x="408" y="686"/>
                      </a:lnTo>
                      <a:lnTo>
                        <a:pt x="408" y="686"/>
                      </a:lnTo>
                      <a:lnTo>
                        <a:pt x="406" y="686"/>
                      </a:lnTo>
                      <a:lnTo>
                        <a:pt x="410" y="684"/>
                      </a:lnTo>
                      <a:lnTo>
                        <a:pt x="406" y="680"/>
                      </a:lnTo>
                      <a:lnTo>
                        <a:pt x="404" y="680"/>
                      </a:lnTo>
                      <a:lnTo>
                        <a:pt x="404" y="678"/>
                      </a:lnTo>
                      <a:lnTo>
                        <a:pt x="402" y="672"/>
                      </a:lnTo>
                      <a:lnTo>
                        <a:pt x="400" y="674"/>
                      </a:lnTo>
                      <a:lnTo>
                        <a:pt x="400" y="672"/>
                      </a:lnTo>
                      <a:lnTo>
                        <a:pt x="398" y="672"/>
                      </a:lnTo>
                      <a:lnTo>
                        <a:pt x="394" y="670"/>
                      </a:lnTo>
                      <a:lnTo>
                        <a:pt x="392" y="672"/>
                      </a:lnTo>
                      <a:lnTo>
                        <a:pt x="390" y="670"/>
                      </a:lnTo>
                      <a:lnTo>
                        <a:pt x="388" y="670"/>
                      </a:lnTo>
                      <a:lnTo>
                        <a:pt x="388" y="674"/>
                      </a:lnTo>
                      <a:lnTo>
                        <a:pt x="388" y="676"/>
                      </a:lnTo>
                      <a:lnTo>
                        <a:pt x="388" y="676"/>
                      </a:lnTo>
                      <a:lnTo>
                        <a:pt x="382" y="670"/>
                      </a:lnTo>
                      <a:lnTo>
                        <a:pt x="382" y="670"/>
                      </a:lnTo>
                      <a:lnTo>
                        <a:pt x="376" y="668"/>
                      </a:lnTo>
                      <a:lnTo>
                        <a:pt x="370" y="670"/>
                      </a:lnTo>
                      <a:lnTo>
                        <a:pt x="364" y="672"/>
                      </a:lnTo>
                      <a:lnTo>
                        <a:pt x="360" y="676"/>
                      </a:lnTo>
                      <a:lnTo>
                        <a:pt x="360" y="676"/>
                      </a:lnTo>
                      <a:lnTo>
                        <a:pt x="358" y="682"/>
                      </a:lnTo>
                      <a:lnTo>
                        <a:pt x="358" y="686"/>
                      </a:lnTo>
                      <a:lnTo>
                        <a:pt x="358" y="686"/>
                      </a:lnTo>
                      <a:lnTo>
                        <a:pt x="346" y="692"/>
                      </a:lnTo>
                      <a:lnTo>
                        <a:pt x="338" y="698"/>
                      </a:lnTo>
                      <a:lnTo>
                        <a:pt x="338" y="698"/>
                      </a:lnTo>
                      <a:lnTo>
                        <a:pt x="334" y="696"/>
                      </a:lnTo>
                      <a:lnTo>
                        <a:pt x="334" y="696"/>
                      </a:lnTo>
                      <a:lnTo>
                        <a:pt x="336" y="652"/>
                      </a:lnTo>
                      <a:lnTo>
                        <a:pt x="338" y="592"/>
                      </a:lnTo>
                      <a:lnTo>
                        <a:pt x="336" y="524"/>
                      </a:lnTo>
                      <a:lnTo>
                        <a:pt x="334" y="488"/>
                      </a:lnTo>
                      <a:lnTo>
                        <a:pt x="330" y="454"/>
                      </a:lnTo>
                      <a:lnTo>
                        <a:pt x="330" y="454"/>
                      </a:lnTo>
                      <a:lnTo>
                        <a:pt x="322" y="412"/>
                      </a:lnTo>
                      <a:lnTo>
                        <a:pt x="314" y="372"/>
                      </a:lnTo>
                      <a:lnTo>
                        <a:pt x="304" y="334"/>
                      </a:lnTo>
                      <a:lnTo>
                        <a:pt x="292" y="298"/>
                      </a:lnTo>
                      <a:lnTo>
                        <a:pt x="278" y="264"/>
                      </a:lnTo>
                      <a:lnTo>
                        <a:pt x="262" y="230"/>
                      </a:lnTo>
                      <a:lnTo>
                        <a:pt x="244" y="196"/>
                      </a:lnTo>
                      <a:lnTo>
                        <a:pt x="224" y="164"/>
                      </a:lnTo>
                      <a:lnTo>
                        <a:pt x="224" y="164"/>
                      </a:lnTo>
                      <a:lnTo>
                        <a:pt x="202" y="132"/>
                      </a:lnTo>
                      <a:lnTo>
                        <a:pt x="182" y="106"/>
                      </a:lnTo>
                      <a:lnTo>
                        <a:pt x="160" y="84"/>
                      </a:lnTo>
                      <a:lnTo>
                        <a:pt x="142" y="68"/>
                      </a:lnTo>
                      <a:lnTo>
                        <a:pt x="114" y="44"/>
                      </a:lnTo>
                      <a:lnTo>
                        <a:pt x="102" y="36"/>
                      </a:lnTo>
                      <a:lnTo>
                        <a:pt x="62" y="14"/>
                      </a:lnTo>
                      <a:lnTo>
                        <a:pt x="20" y="0"/>
                      </a:lnTo>
                      <a:lnTo>
                        <a:pt x="0" y="2"/>
                      </a:lnTo>
                      <a:lnTo>
                        <a:pt x="0" y="598"/>
                      </a:lnTo>
                      <a:lnTo>
                        <a:pt x="26" y="612"/>
                      </a:lnTo>
                      <a:lnTo>
                        <a:pt x="64" y="640"/>
                      </a:lnTo>
                      <a:lnTo>
                        <a:pt x="88" y="658"/>
                      </a:lnTo>
                      <a:lnTo>
                        <a:pt x="88" y="660"/>
                      </a:lnTo>
                      <a:lnTo>
                        <a:pt x="88" y="660"/>
                      </a:lnTo>
                      <a:lnTo>
                        <a:pt x="42" y="658"/>
                      </a:lnTo>
                      <a:lnTo>
                        <a:pt x="20" y="660"/>
                      </a:lnTo>
                      <a:lnTo>
                        <a:pt x="0" y="662"/>
                      </a:lnTo>
                      <a:lnTo>
                        <a:pt x="0" y="1086"/>
                      </a:lnTo>
                      <a:lnTo>
                        <a:pt x="0" y="1086"/>
                      </a:lnTo>
                      <a:lnTo>
                        <a:pt x="16" y="1072"/>
                      </a:lnTo>
                      <a:lnTo>
                        <a:pt x="16" y="1072"/>
                      </a:lnTo>
                      <a:lnTo>
                        <a:pt x="52" y="1030"/>
                      </a:lnTo>
                      <a:lnTo>
                        <a:pt x="112" y="962"/>
                      </a:lnTo>
                      <a:lnTo>
                        <a:pt x="144" y="926"/>
                      </a:lnTo>
                      <a:lnTo>
                        <a:pt x="172" y="898"/>
                      </a:lnTo>
                      <a:lnTo>
                        <a:pt x="192" y="878"/>
                      </a:lnTo>
                      <a:lnTo>
                        <a:pt x="200" y="874"/>
                      </a:lnTo>
                      <a:lnTo>
                        <a:pt x="204" y="872"/>
                      </a:lnTo>
                      <a:lnTo>
                        <a:pt x="204" y="872"/>
                      </a:lnTo>
                      <a:lnTo>
                        <a:pt x="208" y="874"/>
                      </a:lnTo>
                      <a:lnTo>
                        <a:pt x="212" y="874"/>
                      </a:lnTo>
                      <a:lnTo>
                        <a:pt x="224" y="872"/>
                      </a:lnTo>
                      <a:lnTo>
                        <a:pt x="238" y="866"/>
                      </a:lnTo>
                      <a:lnTo>
                        <a:pt x="252" y="860"/>
                      </a:lnTo>
                      <a:lnTo>
                        <a:pt x="226" y="896"/>
                      </a:lnTo>
                      <a:lnTo>
                        <a:pt x="218" y="910"/>
                      </a:lnTo>
                      <a:lnTo>
                        <a:pt x="202" y="924"/>
                      </a:lnTo>
                      <a:lnTo>
                        <a:pt x="186" y="950"/>
                      </a:lnTo>
                      <a:lnTo>
                        <a:pt x="182" y="958"/>
                      </a:lnTo>
                      <a:lnTo>
                        <a:pt x="158" y="998"/>
                      </a:lnTo>
                      <a:lnTo>
                        <a:pt x="162" y="1004"/>
                      </a:lnTo>
                      <a:lnTo>
                        <a:pt x="160" y="1010"/>
                      </a:lnTo>
                      <a:lnTo>
                        <a:pt x="150" y="1012"/>
                      </a:lnTo>
                      <a:lnTo>
                        <a:pt x="140" y="1032"/>
                      </a:lnTo>
                      <a:lnTo>
                        <a:pt x="122" y="1062"/>
                      </a:lnTo>
                      <a:lnTo>
                        <a:pt x="120" y="1094"/>
                      </a:lnTo>
                      <a:lnTo>
                        <a:pt x="128" y="1120"/>
                      </a:lnTo>
                      <a:lnTo>
                        <a:pt x="142" y="1104"/>
                      </a:lnTo>
                      <a:lnTo>
                        <a:pt x="134" y="1124"/>
                      </a:lnTo>
                      <a:lnTo>
                        <a:pt x="162" y="1118"/>
                      </a:lnTo>
                      <a:lnTo>
                        <a:pt x="188" y="1100"/>
                      </a:lnTo>
                      <a:lnTo>
                        <a:pt x="206" y="1070"/>
                      </a:lnTo>
                      <a:lnTo>
                        <a:pt x="218" y="1052"/>
                      </a:lnTo>
                      <a:lnTo>
                        <a:pt x="216" y="1042"/>
                      </a:lnTo>
                      <a:lnTo>
                        <a:pt x="220" y="1036"/>
                      </a:lnTo>
                      <a:lnTo>
                        <a:pt x="228" y="1038"/>
                      </a:lnTo>
                      <a:lnTo>
                        <a:pt x="250" y="998"/>
                      </a:lnTo>
                      <a:lnTo>
                        <a:pt x="254" y="992"/>
                      </a:lnTo>
                      <a:lnTo>
                        <a:pt x="272" y="964"/>
                      </a:lnTo>
                      <a:lnTo>
                        <a:pt x="276" y="942"/>
                      </a:lnTo>
                      <a:lnTo>
                        <a:pt x="284" y="930"/>
                      </a:lnTo>
                      <a:lnTo>
                        <a:pt x="302" y="890"/>
                      </a:lnTo>
                      <a:lnTo>
                        <a:pt x="302" y="890"/>
                      </a:lnTo>
                      <a:lnTo>
                        <a:pt x="304" y="906"/>
                      </a:lnTo>
                      <a:lnTo>
                        <a:pt x="306" y="920"/>
                      </a:lnTo>
                      <a:lnTo>
                        <a:pt x="310" y="932"/>
                      </a:lnTo>
                      <a:lnTo>
                        <a:pt x="312" y="936"/>
                      </a:lnTo>
                      <a:lnTo>
                        <a:pt x="314" y="938"/>
                      </a:lnTo>
                      <a:lnTo>
                        <a:pt x="314" y="938"/>
                      </a:lnTo>
                      <a:lnTo>
                        <a:pt x="316" y="942"/>
                      </a:lnTo>
                      <a:lnTo>
                        <a:pt x="316" y="952"/>
                      </a:lnTo>
                      <a:lnTo>
                        <a:pt x="308" y="980"/>
                      </a:lnTo>
                      <a:lnTo>
                        <a:pt x="296" y="1018"/>
                      </a:lnTo>
                      <a:lnTo>
                        <a:pt x="282" y="1062"/>
                      </a:lnTo>
                      <a:lnTo>
                        <a:pt x="250" y="1148"/>
                      </a:lnTo>
                      <a:lnTo>
                        <a:pt x="230" y="1198"/>
                      </a:lnTo>
                      <a:lnTo>
                        <a:pt x="230" y="1198"/>
                      </a:lnTo>
                      <a:lnTo>
                        <a:pt x="228" y="1208"/>
                      </a:lnTo>
                      <a:lnTo>
                        <a:pt x="226" y="1220"/>
                      </a:lnTo>
                      <a:lnTo>
                        <a:pt x="224" y="1250"/>
                      </a:lnTo>
                      <a:lnTo>
                        <a:pt x="224" y="1278"/>
                      </a:lnTo>
                      <a:lnTo>
                        <a:pt x="224" y="1304"/>
                      </a:lnTo>
                      <a:lnTo>
                        <a:pt x="224" y="1304"/>
                      </a:lnTo>
                      <a:lnTo>
                        <a:pt x="228" y="1324"/>
                      </a:lnTo>
                      <a:lnTo>
                        <a:pt x="232" y="1342"/>
                      </a:lnTo>
                      <a:lnTo>
                        <a:pt x="236" y="1362"/>
                      </a:lnTo>
                      <a:lnTo>
                        <a:pt x="236" y="1362"/>
                      </a:lnTo>
                      <a:lnTo>
                        <a:pt x="238" y="1380"/>
                      </a:lnTo>
                      <a:lnTo>
                        <a:pt x="240" y="1394"/>
                      </a:lnTo>
                      <a:lnTo>
                        <a:pt x="242" y="1400"/>
                      </a:lnTo>
                      <a:lnTo>
                        <a:pt x="246" y="1404"/>
                      </a:lnTo>
                      <a:lnTo>
                        <a:pt x="246" y="1404"/>
                      </a:lnTo>
                      <a:lnTo>
                        <a:pt x="252" y="1412"/>
                      </a:lnTo>
                      <a:lnTo>
                        <a:pt x="254" y="1420"/>
                      </a:lnTo>
                      <a:lnTo>
                        <a:pt x="258" y="1432"/>
                      </a:lnTo>
                      <a:lnTo>
                        <a:pt x="244" y="1448"/>
                      </a:lnTo>
                      <a:lnTo>
                        <a:pt x="258" y="1516"/>
                      </a:lnTo>
                      <a:lnTo>
                        <a:pt x="304" y="1516"/>
                      </a:lnTo>
                      <a:lnTo>
                        <a:pt x="304" y="1516"/>
                      </a:lnTo>
                      <a:lnTo>
                        <a:pt x="310" y="1496"/>
                      </a:lnTo>
                      <a:lnTo>
                        <a:pt x="310" y="1496"/>
                      </a:lnTo>
                      <a:lnTo>
                        <a:pt x="314" y="1482"/>
                      </a:lnTo>
                      <a:lnTo>
                        <a:pt x="314" y="1470"/>
                      </a:lnTo>
                      <a:lnTo>
                        <a:pt x="314" y="1458"/>
                      </a:lnTo>
                      <a:lnTo>
                        <a:pt x="314" y="1458"/>
                      </a:lnTo>
                      <a:lnTo>
                        <a:pt x="314" y="1452"/>
                      </a:lnTo>
                      <a:lnTo>
                        <a:pt x="312" y="1440"/>
                      </a:lnTo>
                      <a:lnTo>
                        <a:pt x="310" y="1418"/>
                      </a:lnTo>
                      <a:lnTo>
                        <a:pt x="300" y="1390"/>
                      </a:lnTo>
                      <a:lnTo>
                        <a:pt x="300" y="1390"/>
                      </a:lnTo>
                      <a:lnTo>
                        <a:pt x="298" y="1372"/>
                      </a:lnTo>
                      <a:lnTo>
                        <a:pt x="298" y="1356"/>
                      </a:lnTo>
                      <a:lnTo>
                        <a:pt x="300" y="1338"/>
                      </a:lnTo>
                      <a:lnTo>
                        <a:pt x="306" y="1322"/>
                      </a:lnTo>
                      <a:lnTo>
                        <a:pt x="316" y="1298"/>
                      </a:lnTo>
                      <a:lnTo>
                        <a:pt x="320" y="1290"/>
                      </a:lnTo>
                      <a:lnTo>
                        <a:pt x="320" y="1290"/>
                      </a:lnTo>
                      <a:lnTo>
                        <a:pt x="326" y="1280"/>
                      </a:lnTo>
                      <a:lnTo>
                        <a:pt x="342" y="1262"/>
                      </a:lnTo>
                      <a:lnTo>
                        <a:pt x="350" y="1252"/>
                      </a:lnTo>
                      <a:lnTo>
                        <a:pt x="360" y="1246"/>
                      </a:lnTo>
                      <a:lnTo>
                        <a:pt x="368" y="1242"/>
                      </a:lnTo>
                      <a:lnTo>
                        <a:pt x="374" y="1240"/>
                      </a:lnTo>
                      <a:lnTo>
                        <a:pt x="378" y="1242"/>
                      </a:lnTo>
                      <a:lnTo>
                        <a:pt x="378" y="1242"/>
                      </a:lnTo>
                      <a:lnTo>
                        <a:pt x="386" y="1244"/>
                      </a:lnTo>
                      <a:lnTo>
                        <a:pt x="394" y="1242"/>
                      </a:lnTo>
                      <a:lnTo>
                        <a:pt x="404" y="1240"/>
                      </a:lnTo>
                      <a:lnTo>
                        <a:pt x="412" y="1236"/>
                      </a:lnTo>
                      <a:lnTo>
                        <a:pt x="426" y="1228"/>
                      </a:lnTo>
                      <a:lnTo>
                        <a:pt x="430" y="1224"/>
                      </a:lnTo>
                      <a:lnTo>
                        <a:pt x="430" y="1224"/>
                      </a:lnTo>
                      <a:lnTo>
                        <a:pt x="432" y="1220"/>
                      </a:lnTo>
                      <a:lnTo>
                        <a:pt x="436" y="1216"/>
                      </a:lnTo>
                      <a:lnTo>
                        <a:pt x="440" y="1210"/>
                      </a:lnTo>
                      <a:lnTo>
                        <a:pt x="446" y="1206"/>
                      </a:lnTo>
                      <a:lnTo>
                        <a:pt x="454" y="1204"/>
                      </a:lnTo>
                      <a:lnTo>
                        <a:pt x="466" y="1202"/>
                      </a:lnTo>
                      <a:lnTo>
                        <a:pt x="480" y="1202"/>
                      </a:lnTo>
                      <a:lnTo>
                        <a:pt x="480" y="1202"/>
                      </a:lnTo>
                      <a:lnTo>
                        <a:pt x="488" y="1204"/>
                      </a:lnTo>
                      <a:lnTo>
                        <a:pt x="496" y="1202"/>
                      </a:lnTo>
                      <a:lnTo>
                        <a:pt x="514" y="1196"/>
                      </a:lnTo>
                      <a:lnTo>
                        <a:pt x="534" y="1186"/>
                      </a:lnTo>
                      <a:lnTo>
                        <a:pt x="554" y="1172"/>
                      </a:lnTo>
                      <a:lnTo>
                        <a:pt x="586" y="1148"/>
                      </a:lnTo>
                      <a:lnTo>
                        <a:pt x="598" y="1136"/>
                      </a:lnTo>
                      <a:lnTo>
                        <a:pt x="616" y="1120"/>
                      </a:lnTo>
                      <a:lnTo>
                        <a:pt x="616" y="1120"/>
                      </a:lnTo>
                      <a:lnTo>
                        <a:pt x="620" y="1120"/>
                      </a:lnTo>
                      <a:lnTo>
                        <a:pt x="622" y="1120"/>
                      </a:lnTo>
                      <a:lnTo>
                        <a:pt x="624" y="1116"/>
                      </a:lnTo>
                      <a:lnTo>
                        <a:pt x="624" y="1104"/>
                      </a:lnTo>
                      <a:lnTo>
                        <a:pt x="620" y="1086"/>
                      </a:lnTo>
                      <a:lnTo>
                        <a:pt x="612" y="1058"/>
                      </a:lnTo>
                      <a:lnTo>
                        <a:pt x="598" y="1018"/>
                      </a:lnTo>
                      <a:lnTo>
                        <a:pt x="598" y="1018"/>
                      </a:lnTo>
                      <a:lnTo>
                        <a:pt x="590" y="998"/>
                      </a:lnTo>
                      <a:lnTo>
                        <a:pt x="580" y="978"/>
                      </a:lnTo>
                      <a:lnTo>
                        <a:pt x="558" y="938"/>
                      </a:lnTo>
                      <a:lnTo>
                        <a:pt x="558" y="938"/>
                      </a:lnTo>
                      <a:lnTo>
                        <a:pt x="586" y="948"/>
                      </a:lnTo>
                      <a:lnTo>
                        <a:pt x="628" y="970"/>
                      </a:lnTo>
                      <a:lnTo>
                        <a:pt x="658" y="986"/>
                      </a:lnTo>
                      <a:lnTo>
                        <a:pt x="688" y="1006"/>
                      </a:lnTo>
                      <a:lnTo>
                        <a:pt x="722" y="1020"/>
                      </a:lnTo>
                      <a:lnTo>
                        <a:pt x="722" y="1020"/>
                      </a:lnTo>
                      <a:lnTo>
                        <a:pt x="738" y="1022"/>
                      </a:lnTo>
                      <a:lnTo>
                        <a:pt x="750" y="1022"/>
                      </a:lnTo>
                      <a:lnTo>
                        <a:pt x="760" y="1020"/>
                      </a:lnTo>
                      <a:lnTo>
                        <a:pt x="760" y="1020"/>
                      </a:lnTo>
                      <a:lnTo>
                        <a:pt x="776" y="1012"/>
                      </a:lnTo>
                      <a:lnTo>
                        <a:pt x="802" y="1000"/>
                      </a:lnTo>
                      <a:lnTo>
                        <a:pt x="802" y="1000"/>
                      </a:lnTo>
                      <a:lnTo>
                        <a:pt x="818" y="992"/>
                      </a:lnTo>
                      <a:lnTo>
                        <a:pt x="830" y="986"/>
                      </a:lnTo>
                      <a:lnTo>
                        <a:pt x="836" y="980"/>
                      </a:lnTo>
                      <a:lnTo>
                        <a:pt x="836" y="980"/>
                      </a:lnTo>
                      <a:lnTo>
                        <a:pt x="846" y="972"/>
                      </a:lnTo>
                      <a:lnTo>
                        <a:pt x="852" y="966"/>
                      </a:lnTo>
                      <a:lnTo>
                        <a:pt x="858" y="962"/>
                      </a:lnTo>
                      <a:lnTo>
                        <a:pt x="858" y="962"/>
                      </a:lnTo>
                      <a:lnTo>
                        <a:pt x="868" y="960"/>
                      </a:lnTo>
                      <a:lnTo>
                        <a:pt x="880" y="952"/>
                      </a:lnTo>
                      <a:lnTo>
                        <a:pt x="890" y="942"/>
                      </a:lnTo>
                      <a:lnTo>
                        <a:pt x="894" y="936"/>
                      </a:lnTo>
                      <a:lnTo>
                        <a:pt x="894" y="930"/>
                      </a:lnTo>
                      <a:lnTo>
                        <a:pt x="894" y="930"/>
                      </a:lnTo>
                      <a:lnTo>
                        <a:pt x="896" y="926"/>
                      </a:lnTo>
                      <a:lnTo>
                        <a:pt x="898" y="922"/>
                      </a:lnTo>
                      <a:lnTo>
                        <a:pt x="904" y="916"/>
                      </a:lnTo>
                      <a:lnTo>
                        <a:pt x="914" y="910"/>
                      </a:lnTo>
                      <a:lnTo>
                        <a:pt x="914" y="910"/>
                      </a:lnTo>
                      <a:lnTo>
                        <a:pt x="924" y="908"/>
                      </a:lnTo>
                      <a:lnTo>
                        <a:pt x="932" y="904"/>
                      </a:lnTo>
                      <a:lnTo>
                        <a:pt x="934" y="902"/>
                      </a:lnTo>
                      <a:lnTo>
                        <a:pt x="934" y="900"/>
                      </a:lnTo>
                      <a:lnTo>
                        <a:pt x="934" y="900"/>
                      </a:lnTo>
                      <a:lnTo>
                        <a:pt x="934" y="896"/>
                      </a:lnTo>
                      <a:lnTo>
                        <a:pt x="936" y="892"/>
                      </a:lnTo>
                      <a:lnTo>
                        <a:pt x="944" y="882"/>
                      </a:lnTo>
                      <a:lnTo>
                        <a:pt x="956" y="868"/>
                      </a:lnTo>
                      <a:lnTo>
                        <a:pt x="956" y="868"/>
                      </a:lnTo>
                      <a:lnTo>
                        <a:pt x="972" y="862"/>
                      </a:lnTo>
                      <a:lnTo>
                        <a:pt x="984" y="858"/>
                      </a:lnTo>
                      <a:lnTo>
                        <a:pt x="990" y="854"/>
                      </a:lnTo>
                      <a:lnTo>
                        <a:pt x="990" y="854"/>
                      </a:lnTo>
                      <a:lnTo>
                        <a:pt x="996" y="848"/>
                      </a:lnTo>
                      <a:lnTo>
                        <a:pt x="1006" y="842"/>
                      </a:lnTo>
                      <a:lnTo>
                        <a:pt x="1020" y="838"/>
                      </a:lnTo>
                      <a:lnTo>
                        <a:pt x="1032" y="836"/>
                      </a:lnTo>
                      <a:lnTo>
                        <a:pt x="1032" y="836"/>
                      </a:lnTo>
                      <a:lnTo>
                        <a:pt x="1044" y="836"/>
                      </a:lnTo>
                      <a:lnTo>
                        <a:pt x="1054" y="832"/>
                      </a:lnTo>
                      <a:lnTo>
                        <a:pt x="1064" y="826"/>
                      </a:lnTo>
                      <a:lnTo>
                        <a:pt x="1064" y="826"/>
                      </a:lnTo>
                      <a:lnTo>
                        <a:pt x="1072" y="820"/>
                      </a:lnTo>
                      <a:lnTo>
                        <a:pt x="1080" y="816"/>
                      </a:lnTo>
                      <a:lnTo>
                        <a:pt x="1086" y="814"/>
                      </a:lnTo>
                      <a:lnTo>
                        <a:pt x="1086" y="814"/>
                      </a:lnTo>
                      <a:lnTo>
                        <a:pt x="1096" y="812"/>
                      </a:lnTo>
                      <a:lnTo>
                        <a:pt x="1106" y="808"/>
                      </a:lnTo>
                      <a:lnTo>
                        <a:pt x="1118" y="802"/>
                      </a:lnTo>
                      <a:lnTo>
                        <a:pt x="1148" y="782"/>
                      </a:lnTo>
                      <a:lnTo>
                        <a:pt x="1168" y="760"/>
                      </a:lnTo>
                      <a:lnTo>
                        <a:pt x="1180" y="738"/>
                      </a:lnTo>
                      <a:lnTo>
                        <a:pt x="1182" y="712"/>
                      </a:lnTo>
                      <a:lnTo>
                        <a:pt x="1168" y="680"/>
                      </a:lnTo>
                      <a:lnTo>
                        <a:pt x="1136" y="650"/>
                      </a:lnTo>
                      <a:close/>
                      <a:moveTo>
                        <a:pt x="390" y="678"/>
                      </a:moveTo>
                      <a:lnTo>
                        <a:pt x="390" y="680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lnTo>
                        <a:pt x="390" y="678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92"/>
              <p:cNvGrpSpPr/>
              <p:nvPr/>
            </p:nvGrpSpPr>
            <p:grpSpPr>
              <a:xfrm>
                <a:off x="0" y="2846160"/>
                <a:ext cx="930240" cy="1301760"/>
                <a:chOff x="0" y="2846160"/>
                <a:chExt cx="930240" cy="1301760"/>
              </a:xfrm>
            </p:grpSpPr>
            <p:sp>
              <p:nvSpPr>
                <p:cNvPr id="210" name="Freeform 49"/>
                <p:cNvSpPr/>
                <p:nvPr/>
              </p:nvSpPr>
              <p:spPr>
                <a:xfrm>
                  <a:off x="0" y="3446280"/>
                  <a:ext cx="83880" cy="13176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72" h="112">
                      <a:moveTo>
                        <a:pt x="70" y="112"/>
                      </a:moveTo>
                      <a:lnTo>
                        <a:pt x="70" y="112"/>
                      </a:lnTo>
                      <a:lnTo>
                        <a:pt x="72" y="110"/>
                      </a:lnTo>
                      <a:lnTo>
                        <a:pt x="72" y="110"/>
                      </a:lnTo>
                      <a:lnTo>
                        <a:pt x="64" y="96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10"/>
                      </a:lnTo>
                      <a:lnTo>
                        <a:pt x="8" y="22"/>
                      </a:lnTo>
                      <a:lnTo>
                        <a:pt x="60" y="98"/>
                      </a:lnTo>
                      <a:lnTo>
                        <a:pt x="60" y="98"/>
                      </a:lnTo>
                      <a:lnTo>
                        <a:pt x="66" y="108"/>
                      </a:lnTo>
                      <a:lnTo>
                        <a:pt x="70" y="112"/>
                      </a:lnTo>
                      <a:lnTo>
                        <a:pt x="70" y="11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0"/>
                <p:cNvSpPr/>
                <p:nvPr/>
              </p:nvSpPr>
              <p:spPr>
                <a:xfrm>
                  <a:off x="87120" y="3584520"/>
                  <a:ext cx="360" cy="2880"/>
                </a:xfrm>
                <a:custGeom>
                  <a:avLst/>
                  <a:gdLst/>
                  <a:ahLst/>
                  <a:rect l="l" t="t" r="r" b="b"/>
                  <a:pathLst>
                    <a:path w="0" h="235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350"/>
                      </a:lnTo>
                      <a:lnTo>
                        <a:pt x="0" y="235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1"/>
                <p:cNvSpPr/>
                <p:nvPr/>
              </p:nvSpPr>
              <p:spPr>
                <a:xfrm>
                  <a:off x="101520" y="3255840"/>
                  <a:ext cx="215640" cy="322200"/>
                </a:xfrm>
                <a:custGeom>
                  <a:avLst/>
                  <a:gdLst>
                    <a:gd name="textAreaLeft" fmla="*/ 0 w 215640"/>
                    <a:gd name="textAreaRight" fmla="*/ 216000 w 215640"/>
                    <a:gd name="textAreaTop" fmla="*/ 0 h 322200"/>
                    <a:gd name="textAreaBottom" fmla="*/ 322560 h 322200"/>
                  </a:gdLst>
                  <a:ahLst/>
                  <a:rect l="textAreaLeft" t="textAreaTop" r="textAreaRight" b="textAreaBottom"/>
                  <a:pathLst>
                    <a:path w="184" h="274">
                      <a:moveTo>
                        <a:pt x="2" y="274"/>
                      </a:moveTo>
                      <a:lnTo>
                        <a:pt x="2" y="274"/>
                      </a:lnTo>
                      <a:lnTo>
                        <a:pt x="12" y="260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68" y="26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82" y="12"/>
                      </a:lnTo>
                      <a:lnTo>
                        <a:pt x="184" y="4"/>
                      </a:lnTo>
                      <a:lnTo>
                        <a:pt x="184" y="4"/>
                      </a:lnTo>
                      <a:lnTo>
                        <a:pt x="184" y="2"/>
                      </a:lnTo>
                      <a:lnTo>
                        <a:pt x="182" y="0"/>
                      </a:lnTo>
                      <a:lnTo>
                        <a:pt x="180" y="0"/>
                      </a:lnTo>
                      <a:lnTo>
                        <a:pt x="176" y="2"/>
                      </a:lnTo>
                      <a:lnTo>
                        <a:pt x="176" y="2"/>
                      </a:lnTo>
                      <a:lnTo>
                        <a:pt x="168" y="10"/>
                      </a:lnTo>
                      <a:lnTo>
                        <a:pt x="160" y="20"/>
                      </a:lnTo>
                      <a:lnTo>
                        <a:pt x="160" y="20"/>
                      </a:lnTo>
                      <a:lnTo>
                        <a:pt x="144" y="44"/>
                      </a:lnTo>
                      <a:lnTo>
                        <a:pt x="8" y="258"/>
                      </a:lnTo>
                      <a:lnTo>
                        <a:pt x="8" y="258"/>
                      </a:lnTo>
                      <a:lnTo>
                        <a:pt x="0" y="272"/>
                      </a:lnTo>
                      <a:lnTo>
                        <a:pt x="0" y="272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2" y="274"/>
                      </a:lnTo>
                      <a:lnTo>
                        <a:pt x="2" y="27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2"/>
                <p:cNvSpPr/>
                <p:nvPr/>
              </p:nvSpPr>
              <p:spPr>
                <a:xfrm>
                  <a:off x="0" y="2846160"/>
                  <a:ext cx="930240" cy="1301760"/>
                </a:xfrm>
                <a:custGeom>
                  <a:avLst/>
                  <a:gdLst>
                    <a:gd name="textAreaLeft" fmla="*/ 0 w 930240"/>
                    <a:gd name="textAreaRight" fmla="*/ 930600 w 930240"/>
                    <a:gd name="textAreaTop" fmla="*/ 0 h 1301760"/>
                    <a:gd name="textAreaBottom" fmla="*/ 1302120 h 1301760"/>
                  </a:gdLst>
                  <a:ahLst/>
                  <a:rect l="textAreaLeft" t="textAreaTop" r="textAreaRight" b="textAreaBottom"/>
                  <a:pathLst>
                    <a:path w="792" h="1108">
                      <a:moveTo>
                        <a:pt x="792" y="30"/>
                      </a:moveTo>
                      <a:lnTo>
                        <a:pt x="792" y="30"/>
                      </a:lnTo>
                      <a:lnTo>
                        <a:pt x="786" y="20"/>
                      </a:lnTo>
                      <a:lnTo>
                        <a:pt x="780" y="16"/>
                      </a:lnTo>
                      <a:lnTo>
                        <a:pt x="774" y="12"/>
                      </a:lnTo>
                      <a:lnTo>
                        <a:pt x="774" y="12"/>
                      </a:lnTo>
                      <a:lnTo>
                        <a:pt x="764" y="6"/>
                      </a:lnTo>
                      <a:lnTo>
                        <a:pt x="752" y="4"/>
                      </a:lnTo>
                      <a:lnTo>
                        <a:pt x="732" y="0"/>
                      </a:lnTo>
                      <a:lnTo>
                        <a:pt x="716" y="0"/>
                      </a:lnTo>
                      <a:lnTo>
                        <a:pt x="710" y="0"/>
                      </a:lnTo>
                      <a:lnTo>
                        <a:pt x="622" y="26"/>
                      </a:lnTo>
                      <a:lnTo>
                        <a:pt x="522" y="78"/>
                      </a:lnTo>
                      <a:lnTo>
                        <a:pt x="418" y="162"/>
                      </a:lnTo>
                      <a:lnTo>
                        <a:pt x="338" y="244"/>
                      </a:lnTo>
                      <a:lnTo>
                        <a:pt x="230" y="382"/>
                      </a:lnTo>
                      <a:lnTo>
                        <a:pt x="166" y="484"/>
                      </a:lnTo>
                      <a:lnTo>
                        <a:pt x="128" y="552"/>
                      </a:lnTo>
                      <a:lnTo>
                        <a:pt x="118" y="576"/>
                      </a:lnTo>
                      <a:lnTo>
                        <a:pt x="118" y="576"/>
                      </a:lnTo>
                      <a:lnTo>
                        <a:pt x="118" y="570"/>
                      </a:lnTo>
                      <a:lnTo>
                        <a:pt x="118" y="570"/>
                      </a:lnTo>
                      <a:lnTo>
                        <a:pt x="114" y="562"/>
                      </a:lnTo>
                      <a:lnTo>
                        <a:pt x="106" y="550"/>
                      </a:lnTo>
                      <a:lnTo>
                        <a:pt x="106" y="550"/>
                      </a:lnTo>
                      <a:lnTo>
                        <a:pt x="110" y="544"/>
                      </a:lnTo>
                      <a:lnTo>
                        <a:pt x="112" y="538"/>
                      </a:lnTo>
                      <a:lnTo>
                        <a:pt x="112" y="538"/>
                      </a:lnTo>
                      <a:lnTo>
                        <a:pt x="110" y="530"/>
                      </a:lnTo>
                      <a:lnTo>
                        <a:pt x="106" y="526"/>
                      </a:lnTo>
                      <a:lnTo>
                        <a:pt x="102" y="522"/>
                      </a:lnTo>
                      <a:lnTo>
                        <a:pt x="94" y="520"/>
                      </a:lnTo>
                      <a:lnTo>
                        <a:pt x="94" y="520"/>
                      </a:lnTo>
                      <a:lnTo>
                        <a:pt x="92" y="520"/>
                      </a:lnTo>
                      <a:lnTo>
                        <a:pt x="94" y="516"/>
                      </a:lnTo>
                      <a:lnTo>
                        <a:pt x="90" y="516"/>
                      </a:lnTo>
                      <a:lnTo>
                        <a:pt x="86" y="516"/>
                      </a:lnTo>
                      <a:lnTo>
                        <a:pt x="86" y="516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80" y="512"/>
                      </a:lnTo>
                      <a:lnTo>
                        <a:pt x="76" y="514"/>
                      </a:lnTo>
                      <a:lnTo>
                        <a:pt x="72" y="512"/>
                      </a:lnTo>
                      <a:lnTo>
                        <a:pt x="72" y="516"/>
                      </a:lnTo>
                      <a:lnTo>
                        <a:pt x="68" y="516"/>
                      </a:lnTo>
                      <a:lnTo>
                        <a:pt x="66" y="516"/>
                      </a:lnTo>
                      <a:lnTo>
                        <a:pt x="68" y="520"/>
                      </a:lnTo>
                      <a:lnTo>
                        <a:pt x="68" y="522"/>
                      </a:lnTo>
                      <a:lnTo>
                        <a:pt x="68" y="522"/>
                      </a:lnTo>
                      <a:lnTo>
                        <a:pt x="62" y="520"/>
                      </a:lnTo>
                      <a:lnTo>
                        <a:pt x="62" y="520"/>
                      </a:lnTo>
                      <a:lnTo>
                        <a:pt x="56" y="522"/>
                      </a:lnTo>
                      <a:lnTo>
                        <a:pt x="50" y="526"/>
                      </a:lnTo>
                      <a:lnTo>
                        <a:pt x="46" y="530"/>
                      </a:lnTo>
                      <a:lnTo>
                        <a:pt x="44" y="538"/>
                      </a:lnTo>
                      <a:lnTo>
                        <a:pt x="44" y="538"/>
                      </a:lnTo>
                      <a:lnTo>
                        <a:pt x="46" y="542"/>
                      </a:lnTo>
                      <a:lnTo>
                        <a:pt x="48" y="548"/>
                      </a:lnTo>
                      <a:lnTo>
                        <a:pt x="48" y="548"/>
                      </a:lnTo>
                      <a:lnTo>
                        <a:pt x="40" y="560"/>
                      </a:lnTo>
                      <a:lnTo>
                        <a:pt x="36" y="568"/>
                      </a:lnTo>
                      <a:lnTo>
                        <a:pt x="28" y="552"/>
                      </a:lnTo>
                      <a:lnTo>
                        <a:pt x="0" y="502"/>
                      </a:lnTo>
                      <a:lnTo>
                        <a:pt x="0" y="900"/>
                      </a:lnTo>
                      <a:lnTo>
                        <a:pt x="0" y="900"/>
                      </a:lnTo>
                      <a:lnTo>
                        <a:pt x="18" y="834"/>
                      </a:lnTo>
                      <a:lnTo>
                        <a:pt x="32" y="782"/>
                      </a:lnTo>
                      <a:lnTo>
                        <a:pt x="46" y="738"/>
                      </a:lnTo>
                      <a:lnTo>
                        <a:pt x="44" y="766"/>
                      </a:lnTo>
                      <a:lnTo>
                        <a:pt x="38" y="814"/>
                      </a:lnTo>
                      <a:lnTo>
                        <a:pt x="40" y="832"/>
                      </a:lnTo>
                      <a:lnTo>
                        <a:pt x="32" y="854"/>
                      </a:lnTo>
                      <a:lnTo>
                        <a:pt x="32" y="888"/>
                      </a:lnTo>
                      <a:lnTo>
                        <a:pt x="32" y="896"/>
                      </a:lnTo>
                      <a:lnTo>
                        <a:pt x="32" y="946"/>
                      </a:lnTo>
                      <a:lnTo>
                        <a:pt x="40" y="950"/>
                      </a:lnTo>
                      <a:lnTo>
                        <a:pt x="40" y="958"/>
                      </a:lnTo>
                      <a:lnTo>
                        <a:pt x="32" y="964"/>
                      </a:lnTo>
                      <a:lnTo>
                        <a:pt x="32" y="988"/>
                      </a:lnTo>
                      <a:lnTo>
                        <a:pt x="32" y="1026"/>
                      </a:lnTo>
                      <a:lnTo>
                        <a:pt x="48" y="1058"/>
                      </a:lnTo>
                      <a:lnTo>
                        <a:pt x="72" y="1078"/>
                      </a:lnTo>
                      <a:lnTo>
                        <a:pt x="76" y="1056"/>
                      </a:lnTo>
                      <a:lnTo>
                        <a:pt x="80" y="1078"/>
                      </a:lnTo>
                      <a:lnTo>
                        <a:pt x="104" y="1058"/>
                      </a:lnTo>
                      <a:lnTo>
                        <a:pt x="120" y="1026"/>
                      </a:lnTo>
                      <a:lnTo>
                        <a:pt x="120" y="988"/>
                      </a:lnTo>
                      <a:lnTo>
                        <a:pt x="120" y="964"/>
                      </a:lnTo>
                      <a:lnTo>
                        <a:pt x="112" y="958"/>
                      </a:lnTo>
                      <a:lnTo>
                        <a:pt x="112" y="950"/>
                      </a:lnTo>
                      <a:lnTo>
                        <a:pt x="120" y="946"/>
                      </a:lnTo>
                      <a:lnTo>
                        <a:pt x="120" y="896"/>
                      </a:lnTo>
                      <a:lnTo>
                        <a:pt x="120" y="888"/>
                      </a:lnTo>
                      <a:lnTo>
                        <a:pt x="120" y="854"/>
                      </a:lnTo>
                      <a:lnTo>
                        <a:pt x="112" y="832"/>
                      </a:lnTo>
                      <a:lnTo>
                        <a:pt x="114" y="814"/>
                      </a:lnTo>
                      <a:lnTo>
                        <a:pt x="108" y="766"/>
                      </a:lnTo>
                      <a:lnTo>
                        <a:pt x="106" y="738"/>
                      </a:lnTo>
                      <a:lnTo>
                        <a:pt x="106" y="738"/>
                      </a:lnTo>
                      <a:lnTo>
                        <a:pt x="108" y="732"/>
                      </a:lnTo>
                      <a:lnTo>
                        <a:pt x="108" y="732"/>
                      </a:lnTo>
                      <a:lnTo>
                        <a:pt x="122" y="778"/>
                      </a:lnTo>
                      <a:lnTo>
                        <a:pt x="138" y="834"/>
                      </a:lnTo>
                      <a:lnTo>
                        <a:pt x="156" y="900"/>
                      </a:lnTo>
                      <a:lnTo>
                        <a:pt x="156" y="900"/>
                      </a:lnTo>
                      <a:lnTo>
                        <a:pt x="174" y="942"/>
                      </a:lnTo>
                      <a:lnTo>
                        <a:pt x="190" y="978"/>
                      </a:lnTo>
                      <a:lnTo>
                        <a:pt x="204" y="1010"/>
                      </a:lnTo>
                      <a:lnTo>
                        <a:pt x="204" y="1010"/>
                      </a:lnTo>
                      <a:lnTo>
                        <a:pt x="218" y="1034"/>
                      </a:lnTo>
                      <a:lnTo>
                        <a:pt x="230" y="1050"/>
                      </a:lnTo>
                      <a:lnTo>
                        <a:pt x="242" y="1064"/>
                      </a:lnTo>
                      <a:lnTo>
                        <a:pt x="268" y="1090"/>
                      </a:lnTo>
                      <a:lnTo>
                        <a:pt x="284" y="1100"/>
                      </a:lnTo>
                      <a:lnTo>
                        <a:pt x="294" y="1102"/>
                      </a:lnTo>
                      <a:lnTo>
                        <a:pt x="294" y="1102"/>
                      </a:lnTo>
                      <a:lnTo>
                        <a:pt x="296" y="1100"/>
                      </a:lnTo>
                      <a:lnTo>
                        <a:pt x="300" y="1098"/>
                      </a:lnTo>
                      <a:lnTo>
                        <a:pt x="308" y="1100"/>
                      </a:lnTo>
                      <a:lnTo>
                        <a:pt x="316" y="1104"/>
                      </a:lnTo>
                      <a:lnTo>
                        <a:pt x="316" y="1104"/>
                      </a:lnTo>
                      <a:lnTo>
                        <a:pt x="322" y="1108"/>
                      </a:lnTo>
                      <a:lnTo>
                        <a:pt x="350" y="1108"/>
                      </a:lnTo>
                      <a:lnTo>
                        <a:pt x="366" y="1096"/>
                      </a:lnTo>
                      <a:lnTo>
                        <a:pt x="384" y="1082"/>
                      </a:lnTo>
                      <a:lnTo>
                        <a:pt x="384" y="1082"/>
                      </a:lnTo>
                      <a:lnTo>
                        <a:pt x="396" y="1076"/>
                      </a:lnTo>
                      <a:lnTo>
                        <a:pt x="408" y="1072"/>
                      </a:lnTo>
                      <a:lnTo>
                        <a:pt x="418" y="1068"/>
                      </a:lnTo>
                      <a:lnTo>
                        <a:pt x="418" y="1068"/>
                      </a:lnTo>
                      <a:lnTo>
                        <a:pt x="426" y="1064"/>
                      </a:lnTo>
                      <a:lnTo>
                        <a:pt x="432" y="1058"/>
                      </a:lnTo>
                      <a:lnTo>
                        <a:pt x="438" y="1050"/>
                      </a:lnTo>
                      <a:lnTo>
                        <a:pt x="438" y="1050"/>
                      </a:lnTo>
                      <a:lnTo>
                        <a:pt x="446" y="1040"/>
                      </a:lnTo>
                      <a:lnTo>
                        <a:pt x="454" y="1034"/>
                      </a:lnTo>
                      <a:lnTo>
                        <a:pt x="458" y="1032"/>
                      </a:lnTo>
                      <a:lnTo>
                        <a:pt x="462" y="1030"/>
                      </a:lnTo>
                      <a:lnTo>
                        <a:pt x="462" y="1030"/>
                      </a:lnTo>
                      <a:lnTo>
                        <a:pt x="470" y="1030"/>
                      </a:lnTo>
                      <a:lnTo>
                        <a:pt x="480" y="1026"/>
                      </a:lnTo>
                      <a:lnTo>
                        <a:pt x="492" y="1014"/>
                      </a:lnTo>
                      <a:lnTo>
                        <a:pt x="492" y="1014"/>
                      </a:lnTo>
                      <a:lnTo>
                        <a:pt x="502" y="100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6" y="992"/>
                      </a:lnTo>
                      <a:lnTo>
                        <a:pt x="508" y="988"/>
                      </a:lnTo>
                      <a:lnTo>
                        <a:pt x="514" y="982"/>
                      </a:lnTo>
                      <a:lnTo>
                        <a:pt x="526" y="976"/>
                      </a:lnTo>
                      <a:lnTo>
                        <a:pt x="526" y="976"/>
                      </a:lnTo>
                      <a:lnTo>
                        <a:pt x="534" y="974"/>
                      </a:lnTo>
                      <a:lnTo>
                        <a:pt x="538" y="970"/>
                      </a:lnTo>
                      <a:lnTo>
                        <a:pt x="546" y="962"/>
                      </a:lnTo>
                      <a:lnTo>
                        <a:pt x="548" y="954"/>
                      </a:lnTo>
                      <a:lnTo>
                        <a:pt x="550" y="952"/>
                      </a:lnTo>
                      <a:lnTo>
                        <a:pt x="560" y="916"/>
                      </a:lnTo>
                      <a:lnTo>
                        <a:pt x="576" y="890"/>
                      </a:lnTo>
                      <a:lnTo>
                        <a:pt x="576" y="860"/>
                      </a:lnTo>
                      <a:lnTo>
                        <a:pt x="576" y="860"/>
                      </a:lnTo>
                      <a:lnTo>
                        <a:pt x="578" y="850"/>
                      </a:lnTo>
                      <a:lnTo>
                        <a:pt x="580" y="840"/>
                      </a:lnTo>
                      <a:lnTo>
                        <a:pt x="580" y="832"/>
                      </a:lnTo>
                      <a:lnTo>
                        <a:pt x="580" y="832"/>
                      </a:lnTo>
                      <a:lnTo>
                        <a:pt x="576" y="820"/>
                      </a:lnTo>
                      <a:lnTo>
                        <a:pt x="572" y="808"/>
                      </a:lnTo>
                      <a:lnTo>
                        <a:pt x="566" y="792"/>
                      </a:lnTo>
                      <a:lnTo>
                        <a:pt x="524" y="726"/>
                      </a:lnTo>
                      <a:lnTo>
                        <a:pt x="524" y="726"/>
                      </a:lnTo>
                      <a:lnTo>
                        <a:pt x="474" y="680"/>
                      </a:lnTo>
                      <a:lnTo>
                        <a:pt x="474" y="680"/>
                      </a:lnTo>
                      <a:lnTo>
                        <a:pt x="460" y="674"/>
                      </a:lnTo>
                      <a:lnTo>
                        <a:pt x="438" y="666"/>
                      </a:lnTo>
                      <a:lnTo>
                        <a:pt x="384" y="646"/>
                      </a:lnTo>
                      <a:lnTo>
                        <a:pt x="524" y="634"/>
                      </a:lnTo>
                      <a:lnTo>
                        <a:pt x="564" y="630"/>
                      </a:lnTo>
                      <a:lnTo>
                        <a:pt x="606" y="624"/>
                      </a:lnTo>
                      <a:lnTo>
                        <a:pt x="636" y="608"/>
                      </a:lnTo>
                      <a:lnTo>
                        <a:pt x="666" y="580"/>
                      </a:lnTo>
                      <a:lnTo>
                        <a:pt x="694" y="536"/>
                      </a:lnTo>
                      <a:lnTo>
                        <a:pt x="714" y="486"/>
                      </a:lnTo>
                      <a:lnTo>
                        <a:pt x="724" y="454"/>
                      </a:lnTo>
                      <a:lnTo>
                        <a:pt x="742" y="360"/>
                      </a:lnTo>
                      <a:lnTo>
                        <a:pt x="756" y="300"/>
                      </a:lnTo>
                      <a:lnTo>
                        <a:pt x="788" y="150"/>
                      </a:lnTo>
                      <a:lnTo>
                        <a:pt x="792" y="100"/>
                      </a:lnTo>
                      <a:lnTo>
                        <a:pt x="792" y="30"/>
                      </a:lnTo>
                      <a:close/>
                      <a:moveTo>
                        <a:pt x="74" y="522"/>
                      </a:moveTo>
                      <a:lnTo>
                        <a:pt x="74" y="524"/>
                      </a:lnTo>
                      <a:lnTo>
                        <a:pt x="72" y="522"/>
                      </a:lnTo>
                      <a:lnTo>
                        <a:pt x="74" y="522"/>
                      </a:lnTo>
                      <a:lnTo>
                        <a:pt x="74" y="522"/>
                      </a:lnTo>
                      <a:close/>
                    </a:path>
                  </a:pathLst>
                </a:custGeom>
                <a:solidFill>
                  <a:srgbClr val="d8f2ab">
                    <a:alpha val="14000"/>
                  </a:srgbClr>
                </a:solidFill>
                <a:ln w="9360">
                  <a:solidFill>
                    <a:srgbClr val="abcb6a">
                      <a:alpha val="1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97"/>
              <p:cNvGrpSpPr/>
              <p:nvPr/>
            </p:nvGrpSpPr>
            <p:grpSpPr>
              <a:xfrm>
                <a:off x="4876920" y="5704560"/>
                <a:ext cx="1752480" cy="1153440"/>
                <a:chOff x="4876920" y="5704560"/>
                <a:chExt cx="1752480" cy="1153440"/>
              </a:xfrm>
            </p:grpSpPr>
            <p:sp>
              <p:nvSpPr>
                <p:cNvPr id="215" name="Freeform 28"/>
                <p:cNvSpPr/>
                <p:nvPr/>
              </p:nvSpPr>
              <p:spPr>
                <a:xfrm>
                  <a:off x="5599080" y="6247080"/>
                  <a:ext cx="15840" cy="3855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4" h="344">
                      <a:moveTo>
                        <a:pt x="12" y="344"/>
                      </a:moveTo>
                      <a:lnTo>
                        <a:pt x="12" y="344"/>
                      </a:lnTo>
                      <a:lnTo>
                        <a:pt x="14" y="344"/>
                      </a:lnTo>
                      <a:lnTo>
                        <a:pt x="14" y="344"/>
                      </a:lnTo>
                      <a:lnTo>
                        <a:pt x="14" y="326"/>
                      </a:lnTo>
                      <a:lnTo>
                        <a:pt x="14" y="58"/>
                      </a:lnTo>
                      <a:lnTo>
                        <a:pt x="14" y="58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2" y="16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30"/>
                      </a:lnTo>
                      <a:lnTo>
                        <a:pt x="4" y="44"/>
                      </a:lnTo>
                      <a:lnTo>
                        <a:pt x="10" y="326"/>
                      </a:lnTo>
                      <a:lnTo>
                        <a:pt x="10" y="326"/>
                      </a:lnTo>
                      <a:lnTo>
                        <a:pt x="10" y="338"/>
                      </a:lnTo>
                      <a:lnTo>
                        <a:pt x="12" y="344"/>
                      </a:lnTo>
                      <a:lnTo>
                        <a:pt x="12" y="3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9"/>
                <p:cNvSpPr/>
                <p:nvPr/>
              </p:nvSpPr>
              <p:spPr>
                <a:xfrm>
                  <a:off x="5610240" y="6640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0"/>
                <p:cNvSpPr/>
                <p:nvPr/>
              </p:nvSpPr>
              <p:spPr>
                <a:xfrm>
                  <a:off x="5627880" y="6482160"/>
                  <a:ext cx="353880" cy="16164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31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8" y="138"/>
                      </a:lnTo>
                      <a:lnTo>
                        <a:pt x="276" y="20"/>
                      </a:lnTo>
                      <a:lnTo>
                        <a:pt x="276" y="20"/>
                      </a:lnTo>
                      <a:lnTo>
                        <a:pt x="288" y="16"/>
                      </a:lnTo>
                      <a:lnTo>
                        <a:pt x="298" y="12"/>
                      </a:lnTo>
                      <a:lnTo>
                        <a:pt x="298" y="12"/>
                      </a:lnTo>
                      <a:lnTo>
                        <a:pt x="306" y="10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2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296" y="2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58" y="18"/>
                      </a:lnTo>
                      <a:lnTo>
                        <a:pt x="16" y="132"/>
                      </a:lnTo>
                      <a:lnTo>
                        <a:pt x="16" y="132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1"/>
                <p:cNvSpPr/>
                <p:nvPr/>
              </p:nvSpPr>
              <p:spPr>
                <a:xfrm>
                  <a:off x="4876920" y="5704560"/>
                  <a:ext cx="1752480" cy="1153440"/>
                </a:xfrm>
                <a:custGeom>
                  <a:avLst/>
                  <a:gdLst>
                    <a:gd name="textAreaLeft" fmla="*/ 0 w 1752480"/>
                    <a:gd name="textAreaRight" fmla="*/ 1752840 w 1752480"/>
                    <a:gd name="textAreaTop" fmla="*/ 0 h 1153440"/>
                    <a:gd name="textAreaBottom" fmla="*/ 1153800 h 1153440"/>
                  </a:gdLst>
                  <a:ahLst/>
                  <a:rect l="textAreaLeft" t="textAreaTop" r="textAreaRight" b="textAreaBottom"/>
                  <a:pathLst>
                    <a:path w="1568" h="1032">
                      <a:moveTo>
                        <a:pt x="1568" y="784"/>
                      </a:moveTo>
                      <a:lnTo>
                        <a:pt x="1568" y="784"/>
                      </a:lnTo>
                      <a:lnTo>
                        <a:pt x="1564" y="774"/>
                      </a:lnTo>
                      <a:lnTo>
                        <a:pt x="1564" y="774"/>
                      </a:lnTo>
                      <a:lnTo>
                        <a:pt x="1558" y="764"/>
                      </a:lnTo>
                      <a:lnTo>
                        <a:pt x="1550" y="756"/>
                      </a:lnTo>
                      <a:lnTo>
                        <a:pt x="1534" y="742"/>
                      </a:lnTo>
                      <a:lnTo>
                        <a:pt x="1520" y="732"/>
                      </a:lnTo>
                      <a:lnTo>
                        <a:pt x="1514" y="728"/>
                      </a:lnTo>
                      <a:lnTo>
                        <a:pt x="1420" y="702"/>
                      </a:lnTo>
                      <a:lnTo>
                        <a:pt x="1302" y="692"/>
                      </a:lnTo>
                      <a:lnTo>
                        <a:pt x="1166" y="710"/>
                      </a:lnTo>
                      <a:lnTo>
                        <a:pt x="1046" y="738"/>
                      </a:lnTo>
                      <a:lnTo>
                        <a:pt x="874" y="800"/>
                      </a:lnTo>
                      <a:lnTo>
                        <a:pt x="762" y="854"/>
                      </a:lnTo>
                      <a:lnTo>
                        <a:pt x="688" y="894"/>
                      </a:lnTo>
                      <a:lnTo>
                        <a:pt x="666" y="908"/>
                      </a:lnTo>
                      <a:lnTo>
                        <a:pt x="666" y="908"/>
                      </a:lnTo>
                      <a:lnTo>
                        <a:pt x="670" y="904"/>
                      </a:lnTo>
                      <a:lnTo>
                        <a:pt x="670" y="904"/>
                      </a:lnTo>
                      <a:lnTo>
                        <a:pt x="672" y="894"/>
                      </a:lnTo>
                      <a:lnTo>
                        <a:pt x="672" y="880"/>
                      </a:lnTo>
                      <a:lnTo>
                        <a:pt x="672" y="880"/>
                      </a:lnTo>
                      <a:lnTo>
                        <a:pt x="678" y="876"/>
                      </a:lnTo>
                      <a:lnTo>
                        <a:pt x="682" y="872"/>
                      </a:lnTo>
                      <a:lnTo>
                        <a:pt x="682" y="872"/>
                      </a:lnTo>
                      <a:lnTo>
                        <a:pt x="686" y="864"/>
                      </a:lnTo>
                      <a:lnTo>
                        <a:pt x="684" y="858"/>
                      </a:lnTo>
                      <a:lnTo>
                        <a:pt x="682" y="852"/>
                      </a:lnTo>
                      <a:lnTo>
                        <a:pt x="676" y="846"/>
                      </a:lnTo>
                      <a:lnTo>
                        <a:pt x="676" y="846"/>
                      </a:lnTo>
                      <a:lnTo>
                        <a:pt x="674" y="846"/>
                      </a:lnTo>
                      <a:lnTo>
                        <a:pt x="680" y="842"/>
                      </a:lnTo>
                      <a:lnTo>
                        <a:pt x="674" y="840"/>
                      </a:lnTo>
                      <a:lnTo>
                        <a:pt x="672" y="838"/>
                      </a:lnTo>
                      <a:lnTo>
                        <a:pt x="672" y="838"/>
                      </a:lnTo>
                      <a:lnTo>
                        <a:pt x="670" y="832"/>
                      </a:lnTo>
                      <a:lnTo>
                        <a:pt x="668" y="832"/>
                      </a:lnTo>
                      <a:lnTo>
                        <a:pt x="668" y="830"/>
                      </a:lnTo>
                      <a:lnTo>
                        <a:pt x="664" y="830"/>
                      </a:lnTo>
                      <a:lnTo>
                        <a:pt x="660" y="828"/>
                      </a:lnTo>
                      <a:lnTo>
                        <a:pt x="660" y="830"/>
                      </a:lnTo>
                      <a:lnTo>
                        <a:pt x="656" y="828"/>
                      </a:lnTo>
                      <a:lnTo>
                        <a:pt x="654" y="826"/>
                      </a:lnTo>
                      <a:lnTo>
                        <a:pt x="654" y="832"/>
                      </a:lnTo>
                      <a:lnTo>
                        <a:pt x="652" y="832"/>
                      </a:lnTo>
                      <a:lnTo>
                        <a:pt x="652" y="832"/>
                      </a:lnTo>
                      <a:lnTo>
                        <a:pt x="648" y="828"/>
                      </a:lnTo>
                      <a:lnTo>
                        <a:pt x="648" y="828"/>
                      </a:lnTo>
                      <a:lnTo>
                        <a:pt x="642" y="826"/>
                      </a:lnTo>
                      <a:lnTo>
                        <a:pt x="634" y="826"/>
                      </a:lnTo>
                      <a:lnTo>
                        <a:pt x="628" y="828"/>
                      </a:lnTo>
                      <a:lnTo>
                        <a:pt x="622" y="834"/>
                      </a:lnTo>
                      <a:lnTo>
                        <a:pt x="622" y="834"/>
                      </a:lnTo>
                      <a:lnTo>
                        <a:pt x="620" y="840"/>
                      </a:lnTo>
                      <a:lnTo>
                        <a:pt x="620" y="844"/>
                      </a:lnTo>
                      <a:lnTo>
                        <a:pt x="620" y="844"/>
                      </a:lnTo>
                      <a:lnTo>
                        <a:pt x="606" y="850"/>
                      </a:lnTo>
                      <a:lnTo>
                        <a:pt x="598" y="856"/>
                      </a:lnTo>
                      <a:lnTo>
                        <a:pt x="600" y="838"/>
                      </a:lnTo>
                      <a:lnTo>
                        <a:pt x="604" y="756"/>
                      </a:lnTo>
                      <a:lnTo>
                        <a:pt x="604" y="630"/>
                      </a:lnTo>
                      <a:lnTo>
                        <a:pt x="584" y="448"/>
                      </a:lnTo>
                      <a:lnTo>
                        <a:pt x="560" y="328"/>
                      </a:lnTo>
                      <a:lnTo>
                        <a:pt x="516" y="198"/>
                      </a:lnTo>
                      <a:lnTo>
                        <a:pt x="456" y="96"/>
                      </a:lnTo>
                      <a:lnTo>
                        <a:pt x="390" y="22"/>
                      </a:lnTo>
                      <a:lnTo>
                        <a:pt x="390" y="22"/>
                      </a:lnTo>
                      <a:lnTo>
                        <a:pt x="376" y="14"/>
                      </a:lnTo>
                      <a:lnTo>
                        <a:pt x="362" y="6"/>
                      </a:lnTo>
                      <a:lnTo>
                        <a:pt x="342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02" y="4"/>
                      </a:lnTo>
                      <a:lnTo>
                        <a:pt x="296" y="10"/>
                      </a:lnTo>
                      <a:lnTo>
                        <a:pt x="292" y="18"/>
                      </a:lnTo>
                      <a:lnTo>
                        <a:pt x="276" y="42"/>
                      </a:lnTo>
                      <a:lnTo>
                        <a:pt x="240" y="112"/>
                      </a:lnTo>
                      <a:lnTo>
                        <a:pt x="184" y="262"/>
                      </a:lnTo>
                      <a:lnTo>
                        <a:pt x="164" y="324"/>
                      </a:lnTo>
                      <a:lnTo>
                        <a:pt x="126" y="418"/>
                      </a:lnTo>
                      <a:lnTo>
                        <a:pt x="118" y="452"/>
                      </a:lnTo>
                      <a:lnTo>
                        <a:pt x="108" y="508"/>
                      </a:lnTo>
                      <a:lnTo>
                        <a:pt x="108" y="562"/>
                      </a:lnTo>
                      <a:lnTo>
                        <a:pt x="118" y="604"/>
                      </a:lnTo>
                      <a:lnTo>
                        <a:pt x="136" y="634"/>
                      </a:lnTo>
                      <a:lnTo>
                        <a:pt x="170" y="662"/>
                      </a:lnTo>
                      <a:lnTo>
                        <a:pt x="204" y="692"/>
                      </a:lnTo>
                      <a:lnTo>
                        <a:pt x="320" y="780"/>
                      </a:lnTo>
                      <a:lnTo>
                        <a:pt x="320" y="780"/>
                      </a:lnTo>
                      <a:lnTo>
                        <a:pt x="262" y="766"/>
                      </a:lnTo>
                      <a:lnTo>
                        <a:pt x="236" y="760"/>
                      </a:lnTo>
                      <a:lnTo>
                        <a:pt x="222" y="760"/>
                      </a:lnTo>
                      <a:lnTo>
                        <a:pt x="222" y="760"/>
                      </a:lnTo>
                      <a:lnTo>
                        <a:pt x="152" y="772"/>
                      </a:lnTo>
                      <a:lnTo>
                        <a:pt x="78" y="806"/>
                      </a:lnTo>
                      <a:lnTo>
                        <a:pt x="78" y="806"/>
                      </a:lnTo>
                      <a:lnTo>
                        <a:pt x="64" y="818"/>
                      </a:lnTo>
                      <a:lnTo>
                        <a:pt x="52" y="826"/>
                      </a:lnTo>
                      <a:lnTo>
                        <a:pt x="44" y="834"/>
                      </a:lnTo>
                      <a:lnTo>
                        <a:pt x="44" y="834"/>
                      </a:lnTo>
                      <a:lnTo>
                        <a:pt x="40" y="842"/>
                      </a:lnTo>
                      <a:lnTo>
                        <a:pt x="36" y="852"/>
                      </a:lnTo>
                      <a:lnTo>
                        <a:pt x="32" y="862"/>
                      </a:lnTo>
                      <a:lnTo>
                        <a:pt x="16" y="888"/>
                      </a:lnTo>
                      <a:lnTo>
                        <a:pt x="14" y="922"/>
                      </a:lnTo>
                      <a:lnTo>
                        <a:pt x="2" y="958"/>
                      </a:lnTo>
                      <a:lnTo>
                        <a:pt x="2" y="958"/>
                      </a:lnTo>
                      <a:lnTo>
                        <a:pt x="2" y="960"/>
                      </a:lnTo>
                      <a:lnTo>
                        <a:pt x="0" y="968"/>
                      </a:lnTo>
                      <a:lnTo>
                        <a:pt x="2" y="980"/>
                      </a:lnTo>
                      <a:lnTo>
                        <a:pt x="6" y="986"/>
                      </a:lnTo>
                      <a:lnTo>
                        <a:pt x="10" y="992"/>
                      </a:lnTo>
                      <a:lnTo>
                        <a:pt x="10" y="992"/>
                      </a:lnTo>
                      <a:lnTo>
                        <a:pt x="18" y="1004"/>
                      </a:lnTo>
                      <a:lnTo>
                        <a:pt x="20" y="1012"/>
                      </a:lnTo>
                      <a:lnTo>
                        <a:pt x="18" y="1016"/>
                      </a:lnTo>
                      <a:lnTo>
                        <a:pt x="18" y="1018"/>
                      </a:lnTo>
                      <a:lnTo>
                        <a:pt x="18" y="1018"/>
                      </a:lnTo>
                      <a:lnTo>
                        <a:pt x="18" y="1032"/>
                      </a:lnTo>
                      <a:lnTo>
                        <a:pt x="490" y="1032"/>
                      </a:lnTo>
                      <a:lnTo>
                        <a:pt x="490" y="1032"/>
                      </a:lnTo>
                      <a:lnTo>
                        <a:pt x="512" y="1014"/>
                      </a:lnTo>
                      <a:lnTo>
                        <a:pt x="498" y="1032"/>
                      </a:lnTo>
                      <a:lnTo>
                        <a:pt x="1376" y="1032"/>
                      </a:lnTo>
                      <a:lnTo>
                        <a:pt x="1388" y="1020"/>
                      </a:lnTo>
                      <a:lnTo>
                        <a:pt x="1498" y="904"/>
                      </a:lnTo>
                      <a:lnTo>
                        <a:pt x="1546" y="842"/>
                      </a:lnTo>
                      <a:lnTo>
                        <a:pt x="1562" y="816"/>
                      </a:lnTo>
                      <a:lnTo>
                        <a:pt x="1562" y="816"/>
                      </a:lnTo>
                      <a:lnTo>
                        <a:pt x="1564" y="812"/>
                      </a:lnTo>
                      <a:lnTo>
                        <a:pt x="1568" y="806"/>
                      </a:lnTo>
                      <a:lnTo>
                        <a:pt x="1568" y="784"/>
                      </a:lnTo>
                      <a:close/>
                      <a:moveTo>
                        <a:pt x="656" y="838"/>
                      </a:moveTo>
                      <a:lnTo>
                        <a:pt x="656" y="838"/>
                      </a:lnTo>
                      <a:lnTo>
                        <a:pt x="656" y="836"/>
                      </a:lnTo>
                      <a:lnTo>
                        <a:pt x="656" y="838"/>
                      </a:lnTo>
                      <a:lnTo>
                        <a:pt x="656" y="838"/>
                      </a:lnTo>
                      <a:close/>
                    </a:path>
                  </a:pathLst>
                </a:custGeom>
                <a:solidFill>
                  <a:srgbClr val="d8f2ab">
                    <a:alpha val="9000"/>
                  </a:srgbClr>
                </a:solidFill>
                <a:ln w="9360">
                  <a:solidFill>
                    <a:srgbClr val="feffff">
                      <a:alpha val="12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02"/>
              <p:cNvGrpSpPr/>
              <p:nvPr/>
            </p:nvGrpSpPr>
            <p:grpSpPr>
              <a:xfrm>
                <a:off x="7848720" y="1523520"/>
                <a:ext cx="1295280" cy="1685520"/>
                <a:chOff x="7848720" y="1523520"/>
                <a:chExt cx="1295280" cy="1685520"/>
              </a:xfrm>
            </p:grpSpPr>
            <p:sp>
              <p:nvSpPr>
                <p:cNvPr id="220" name="Freeform 70"/>
                <p:cNvSpPr/>
                <p:nvPr/>
              </p:nvSpPr>
              <p:spPr>
                <a:xfrm>
                  <a:off x="8456760" y="1991520"/>
                  <a:ext cx="296640" cy="195120"/>
                </a:xfrm>
                <a:custGeom>
                  <a:avLst/>
                  <a:gdLst>
                    <a:gd name="textAreaLeft" fmla="*/ 0 w 296640"/>
                    <a:gd name="textAreaRight" fmla="*/ 297000 w 29664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1"/>
                <p:cNvSpPr/>
                <p:nvPr/>
              </p:nvSpPr>
              <p:spPr>
                <a:xfrm>
                  <a:off x="8758440" y="219492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72"/>
                <p:cNvSpPr/>
                <p:nvPr/>
              </p:nvSpPr>
              <p:spPr>
                <a:xfrm>
                  <a:off x="8769600" y="1831320"/>
                  <a:ext cx="66600" cy="3506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350640"/>
                    <a:gd name="textAreaBottom" fmla="*/ 351000 h 35064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848720" y="1523520"/>
                  <a:ext cx="1295280" cy="168552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685520"/>
                    <a:gd name="textAreaBottom" fmla="*/ 1685880 h 168552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112"/>
              <p:cNvGrpSpPr/>
              <p:nvPr/>
            </p:nvGrpSpPr>
            <p:grpSpPr>
              <a:xfrm>
                <a:off x="7679520" y="5943600"/>
                <a:ext cx="1331640" cy="914400"/>
                <a:chOff x="7679520" y="5943600"/>
                <a:chExt cx="1331640" cy="914400"/>
              </a:xfrm>
            </p:grpSpPr>
            <p:sp>
              <p:nvSpPr>
                <p:cNvPr id="225" name="Freeform 35"/>
                <p:cNvSpPr/>
                <p:nvPr/>
              </p:nvSpPr>
              <p:spPr>
                <a:xfrm>
                  <a:off x="7679520" y="6346800"/>
                  <a:ext cx="203040" cy="9504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70" h="80">
                      <a:moveTo>
                        <a:pt x="170" y="80"/>
                      </a:move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lnTo>
                        <a:pt x="154" y="72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6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28" y="16"/>
                      </a:lnTo>
                      <a:lnTo>
                        <a:pt x="154" y="74"/>
                      </a:lnTo>
                      <a:lnTo>
                        <a:pt x="154" y="74"/>
                      </a:lnTo>
                      <a:lnTo>
                        <a:pt x="170" y="80"/>
                      </a:lnTo>
                      <a:lnTo>
                        <a:pt x="170" y="8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4000" y="6446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89040" y="6215040"/>
                  <a:ext cx="14040" cy="22212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12" h="186">
                      <a:moveTo>
                        <a:pt x="2" y="186"/>
                      </a:moveTo>
                      <a:lnTo>
                        <a:pt x="2" y="186"/>
                      </a:lnTo>
                      <a:lnTo>
                        <a:pt x="4" y="168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8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38"/>
                      </a:lnTo>
                      <a:lnTo>
                        <a:pt x="0" y="168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2" y="186"/>
                      </a:lnTo>
                      <a:lnTo>
                        <a:pt x="2" y="186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7920720" y="5943600"/>
                  <a:ext cx="1090440" cy="914400"/>
                </a:xfrm>
                <a:custGeom>
                  <a:avLst/>
                  <a:gdLst>
                    <a:gd name="textAreaLeft" fmla="*/ 0 w 1090440"/>
                    <a:gd name="textAreaRight" fmla="*/ 1090800 w 10904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916" h="768">
                      <a:moveTo>
                        <a:pt x="878" y="688"/>
                      </a:moveTo>
                      <a:lnTo>
                        <a:pt x="878" y="688"/>
                      </a:lnTo>
                      <a:lnTo>
                        <a:pt x="868" y="682"/>
                      </a:lnTo>
                      <a:lnTo>
                        <a:pt x="856" y="678"/>
                      </a:lnTo>
                      <a:lnTo>
                        <a:pt x="838" y="674"/>
                      </a:lnTo>
                      <a:lnTo>
                        <a:pt x="838" y="674"/>
                      </a:lnTo>
                      <a:lnTo>
                        <a:pt x="828" y="672"/>
                      </a:lnTo>
                      <a:lnTo>
                        <a:pt x="818" y="666"/>
                      </a:lnTo>
                      <a:lnTo>
                        <a:pt x="810" y="660"/>
                      </a:lnTo>
                      <a:lnTo>
                        <a:pt x="802" y="652"/>
                      </a:lnTo>
                      <a:lnTo>
                        <a:pt x="792" y="640"/>
                      </a:lnTo>
                      <a:lnTo>
                        <a:pt x="790" y="634"/>
                      </a:lnTo>
                      <a:lnTo>
                        <a:pt x="790" y="634"/>
                      </a:lnTo>
                      <a:lnTo>
                        <a:pt x="786" y="630"/>
                      </a:lnTo>
                      <a:lnTo>
                        <a:pt x="780" y="616"/>
                      </a:lnTo>
                      <a:lnTo>
                        <a:pt x="776" y="602"/>
                      </a:lnTo>
                      <a:lnTo>
                        <a:pt x="778" y="596"/>
                      </a:lnTo>
                      <a:lnTo>
                        <a:pt x="780" y="590"/>
                      </a:lnTo>
                      <a:lnTo>
                        <a:pt x="780" y="590"/>
                      </a:lnTo>
                      <a:lnTo>
                        <a:pt x="784" y="586"/>
                      </a:lnTo>
                      <a:lnTo>
                        <a:pt x="786" y="582"/>
                      </a:lnTo>
                      <a:lnTo>
                        <a:pt x="786" y="570"/>
                      </a:lnTo>
                      <a:lnTo>
                        <a:pt x="786" y="556"/>
                      </a:lnTo>
                      <a:lnTo>
                        <a:pt x="786" y="556"/>
                      </a:lnTo>
                      <a:lnTo>
                        <a:pt x="784" y="554"/>
                      </a:lnTo>
                      <a:lnTo>
                        <a:pt x="782" y="548"/>
                      </a:lnTo>
                      <a:lnTo>
                        <a:pt x="780" y="544"/>
                      </a:lnTo>
                      <a:lnTo>
                        <a:pt x="782" y="538"/>
                      </a:lnTo>
                      <a:lnTo>
                        <a:pt x="784" y="532"/>
                      </a:lnTo>
                      <a:lnTo>
                        <a:pt x="788" y="524"/>
                      </a:lnTo>
                      <a:lnTo>
                        <a:pt x="788" y="524"/>
                      </a:lnTo>
                      <a:lnTo>
                        <a:pt x="792" y="514"/>
                      </a:lnTo>
                      <a:lnTo>
                        <a:pt x="794" y="502"/>
                      </a:lnTo>
                      <a:lnTo>
                        <a:pt x="794" y="488"/>
                      </a:lnTo>
                      <a:lnTo>
                        <a:pt x="794" y="474"/>
                      </a:lnTo>
                      <a:lnTo>
                        <a:pt x="790" y="450"/>
                      </a:lnTo>
                      <a:lnTo>
                        <a:pt x="786" y="440"/>
                      </a:lnTo>
                      <a:lnTo>
                        <a:pt x="782" y="426"/>
                      </a:lnTo>
                      <a:lnTo>
                        <a:pt x="782" y="426"/>
                      </a:lnTo>
                      <a:lnTo>
                        <a:pt x="784" y="424"/>
                      </a:lnTo>
                      <a:lnTo>
                        <a:pt x="784" y="422"/>
                      </a:lnTo>
                      <a:lnTo>
                        <a:pt x="782" y="420"/>
                      </a:lnTo>
                      <a:lnTo>
                        <a:pt x="776" y="418"/>
                      </a:lnTo>
                      <a:lnTo>
                        <a:pt x="766" y="414"/>
                      </a:lnTo>
                      <a:lnTo>
                        <a:pt x="722" y="406"/>
                      </a:lnTo>
                      <a:lnTo>
                        <a:pt x="722" y="406"/>
                      </a:lnTo>
                      <a:lnTo>
                        <a:pt x="696" y="404"/>
                      </a:lnTo>
                      <a:lnTo>
                        <a:pt x="666" y="406"/>
                      </a:lnTo>
                      <a:lnTo>
                        <a:pt x="668" y="404"/>
                      </a:lnTo>
                      <a:lnTo>
                        <a:pt x="682" y="392"/>
                      </a:lnTo>
                      <a:lnTo>
                        <a:pt x="704" y="376"/>
                      </a:lnTo>
                      <a:lnTo>
                        <a:pt x="722" y="366"/>
                      </a:lnTo>
                      <a:lnTo>
                        <a:pt x="742" y="354"/>
                      </a:lnTo>
                      <a:lnTo>
                        <a:pt x="758" y="340"/>
                      </a:lnTo>
                      <a:lnTo>
                        <a:pt x="758" y="340"/>
                      </a:lnTo>
                      <a:lnTo>
                        <a:pt x="764" y="332"/>
                      </a:lnTo>
                      <a:lnTo>
                        <a:pt x="768" y="326"/>
                      </a:lnTo>
                      <a:lnTo>
                        <a:pt x="770" y="320"/>
                      </a:lnTo>
                      <a:lnTo>
                        <a:pt x="770" y="320"/>
                      </a:lnTo>
                      <a:lnTo>
                        <a:pt x="770" y="308"/>
                      </a:lnTo>
                      <a:lnTo>
                        <a:pt x="772" y="290"/>
                      </a:lnTo>
                      <a:lnTo>
                        <a:pt x="772" y="290"/>
                      </a:lnTo>
                      <a:lnTo>
                        <a:pt x="772" y="280"/>
                      </a:lnTo>
                      <a:lnTo>
                        <a:pt x="772" y="272"/>
                      </a:lnTo>
                      <a:lnTo>
                        <a:pt x="770" y="266"/>
                      </a:lnTo>
                      <a:lnTo>
                        <a:pt x="770" y="266"/>
                      </a:lnTo>
                      <a:lnTo>
                        <a:pt x="768" y="260"/>
                      </a:lnTo>
                      <a:lnTo>
                        <a:pt x="768" y="254"/>
                      </a:lnTo>
                      <a:lnTo>
                        <a:pt x="768" y="250"/>
                      </a:lnTo>
                      <a:lnTo>
                        <a:pt x="768" y="250"/>
                      </a:lnTo>
                      <a:lnTo>
                        <a:pt x="768" y="244"/>
                      </a:lnTo>
                      <a:lnTo>
                        <a:pt x="768" y="236"/>
                      </a:lnTo>
                      <a:lnTo>
                        <a:pt x="766" y="226"/>
                      </a:lnTo>
                      <a:lnTo>
                        <a:pt x="764" y="222"/>
                      </a:lnTo>
                      <a:lnTo>
                        <a:pt x="760" y="220"/>
                      </a:lnTo>
                      <a:lnTo>
                        <a:pt x="760" y="220"/>
                      </a:lnTo>
                      <a:lnTo>
                        <a:pt x="756" y="216"/>
                      </a:lnTo>
                      <a:lnTo>
                        <a:pt x="756" y="212"/>
                      </a:lnTo>
                      <a:lnTo>
                        <a:pt x="754" y="204"/>
                      </a:lnTo>
                      <a:lnTo>
                        <a:pt x="754" y="204"/>
                      </a:lnTo>
                      <a:lnTo>
                        <a:pt x="756" y="198"/>
                      </a:lnTo>
                      <a:lnTo>
                        <a:pt x="758" y="194"/>
                      </a:lnTo>
                      <a:lnTo>
                        <a:pt x="756" y="190"/>
                      </a:lnTo>
                      <a:lnTo>
                        <a:pt x="756" y="190"/>
                      </a:lnTo>
                      <a:lnTo>
                        <a:pt x="752" y="186"/>
                      </a:lnTo>
                      <a:lnTo>
                        <a:pt x="748" y="180"/>
                      </a:lnTo>
                      <a:lnTo>
                        <a:pt x="744" y="170"/>
                      </a:lnTo>
                      <a:lnTo>
                        <a:pt x="744" y="170"/>
                      </a:lnTo>
                      <a:lnTo>
                        <a:pt x="746" y="160"/>
                      </a:lnTo>
                      <a:lnTo>
                        <a:pt x="746" y="152"/>
                      </a:lnTo>
                      <a:lnTo>
                        <a:pt x="746" y="146"/>
                      </a:lnTo>
                      <a:lnTo>
                        <a:pt x="746" y="146"/>
                      </a:lnTo>
                      <a:lnTo>
                        <a:pt x="746" y="142"/>
                      </a:lnTo>
                      <a:lnTo>
                        <a:pt x="746" y="134"/>
                      </a:lnTo>
                      <a:lnTo>
                        <a:pt x="746" y="126"/>
                      </a:lnTo>
                      <a:lnTo>
                        <a:pt x="750" y="118"/>
                      </a:lnTo>
                      <a:lnTo>
                        <a:pt x="750" y="118"/>
                      </a:lnTo>
                      <a:lnTo>
                        <a:pt x="752" y="112"/>
                      </a:lnTo>
                      <a:lnTo>
                        <a:pt x="752" y="106"/>
                      </a:lnTo>
                      <a:lnTo>
                        <a:pt x="752" y="98"/>
                      </a:lnTo>
                      <a:lnTo>
                        <a:pt x="752" y="98"/>
                      </a:lnTo>
                      <a:lnTo>
                        <a:pt x="752" y="92"/>
                      </a:lnTo>
                      <a:lnTo>
                        <a:pt x="752" y="88"/>
                      </a:lnTo>
                      <a:lnTo>
                        <a:pt x="752" y="84"/>
                      </a:lnTo>
                      <a:lnTo>
                        <a:pt x="752" y="84"/>
                      </a:lnTo>
                      <a:lnTo>
                        <a:pt x="754" y="78"/>
                      </a:lnTo>
                      <a:lnTo>
                        <a:pt x="756" y="72"/>
                      </a:lnTo>
                      <a:lnTo>
                        <a:pt x="756" y="62"/>
                      </a:lnTo>
                      <a:lnTo>
                        <a:pt x="754" y="42"/>
                      </a:lnTo>
                      <a:lnTo>
                        <a:pt x="748" y="24"/>
                      </a:lnTo>
                      <a:lnTo>
                        <a:pt x="740" y="10"/>
                      </a:lnTo>
                      <a:lnTo>
                        <a:pt x="726" y="2"/>
                      </a:lnTo>
                      <a:lnTo>
                        <a:pt x="704" y="0"/>
                      </a:lnTo>
                      <a:lnTo>
                        <a:pt x="678" y="10"/>
                      </a:lnTo>
                      <a:lnTo>
                        <a:pt x="654" y="24"/>
                      </a:lnTo>
                      <a:lnTo>
                        <a:pt x="654" y="24"/>
                      </a:lnTo>
                      <a:lnTo>
                        <a:pt x="648" y="28"/>
                      </a:lnTo>
                      <a:lnTo>
                        <a:pt x="630" y="42"/>
                      </a:lnTo>
                      <a:lnTo>
                        <a:pt x="606" y="66"/>
                      </a:lnTo>
                      <a:lnTo>
                        <a:pt x="594" y="82"/>
                      </a:lnTo>
                      <a:lnTo>
                        <a:pt x="580" y="102"/>
                      </a:lnTo>
                      <a:lnTo>
                        <a:pt x="580" y="102"/>
                      </a:lnTo>
                      <a:lnTo>
                        <a:pt x="568" y="122"/>
                      </a:lnTo>
                      <a:lnTo>
                        <a:pt x="558" y="142"/>
                      </a:lnTo>
                      <a:lnTo>
                        <a:pt x="548" y="164"/>
                      </a:lnTo>
                      <a:lnTo>
                        <a:pt x="540" y="186"/>
                      </a:lnTo>
                      <a:lnTo>
                        <a:pt x="532" y="208"/>
                      </a:lnTo>
                      <a:lnTo>
                        <a:pt x="526" y="232"/>
                      </a:lnTo>
                      <a:lnTo>
                        <a:pt x="518" y="282"/>
                      </a:lnTo>
                      <a:lnTo>
                        <a:pt x="518" y="282"/>
                      </a:lnTo>
                      <a:lnTo>
                        <a:pt x="514" y="324"/>
                      </a:lnTo>
                      <a:lnTo>
                        <a:pt x="514" y="366"/>
                      </a:lnTo>
                      <a:lnTo>
                        <a:pt x="514" y="402"/>
                      </a:lnTo>
                      <a:lnTo>
                        <a:pt x="516" y="430"/>
                      </a:lnTo>
                      <a:lnTo>
                        <a:pt x="516" y="430"/>
                      </a:lnTo>
                      <a:lnTo>
                        <a:pt x="514" y="430"/>
                      </a:lnTo>
                      <a:lnTo>
                        <a:pt x="514" y="430"/>
                      </a:lnTo>
                      <a:lnTo>
                        <a:pt x="502" y="424"/>
                      </a:lnTo>
                      <a:lnTo>
                        <a:pt x="502" y="424"/>
                      </a:lnTo>
                      <a:lnTo>
                        <a:pt x="504" y="420"/>
                      </a:lnTo>
                      <a:lnTo>
                        <a:pt x="502" y="416"/>
                      </a:lnTo>
                      <a:lnTo>
                        <a:pt x="502" y="416"/>
                      </a:lnTo>
                      <a:lnTo>
                        <a:pt x="500" y="414"/>
                      </a:lnTo>
                      <a:lnTo>
                        <a:pt x="496" y="412"/>
                      </a:lnTo>
                      <a:lnTo>
                        <a:pt x="492" y="412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4"/>
                      </a:lnTo>
                      <a:lnTo>
                        <a:pt x="488" y="412"/>
                      </a:lnTo>
                      <a:lnTo>
                        <a:pt x="486" y="412"/>
                      </a:lnTo>
                      <a:lnTo>
                        <a:pt x="484" y="414"/>
                      </a:lnTo>
                      <a:lnTo>
                        <a:pt x="484" y="414"/>
                      </a:lnTo>
                      <a:lnTo>
                        <a:pt x="480" y="414"/>
                      </a:lnTo>
                      <a:lnTo>
                        <a:pt x="480" y="414"/>
                      </a:lnTo>
                      <a:lnTo>
                        <a:pt x="478" y="414"/>
                      </a:lnTo>
                      <a:lnTo>
                        <a:pt x="478" y="416"/>
                      </a:lnTo>
                      <a:lnTo>
                        <a:pt x="476" y="416"/>
                      </a:lnTo>
                      <a:lnTo>
                        <a:pt x="476" y="418"/>
                      </a:lnTo>
                      <a:lnTo>
                        <a:pt x="474" y="420"/>
                      </a:lnTo>
                      <a:lnTo>
                        <a:pt x="472" y="420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6" y="422"/>
                      </a:lnTo>
                      <a:lnTo>
                        <a:pt x="472" y="424"/>
                      </a:lnTo>
                      <a:lnTo>
                        <a:pt x="472" y="424"/>
                      </a:lnTo>
                      <a:lnTo>
                        <a:pt x="470" y="426"/>
                      </a:lnTo>
                      <a:lnTo>
                        <a:pt x="468" y="430"/>
                      </a:lnTo>
                      <a:lnTo>
                        <a:pt x="468" y="432"/>
                      </a:lnTo>
                      <a:lnTo>
                        <a:pt x="470" y="436"/>
                      </a:lnTo>
                      <a:lnTo>
                        <a:pt x="470" y="436"/>
                      </a:lnTo>
                      <a:lnTo>
                        <a:pt x="474" y="440"/>
                      </a:lnTo>
                      <a:lnTo>
                        <a:pt x="474" y="440"/>
                      </a:lnTo>
                      <a:lnTo>
                        <a:pt x="474" y="448"/>
                      </a:lnTo>
                      <a:lnTo>
                        <a:pt x="474" y="454"/>
                      </a:lnTo>
                      <a:lnTo>
                        <a:pt x="474" y="454"/>
                      </a:lnTo>
                      <a:lnTo>
                        <a:pt x="472" y="456"/>
                      </a:lnTo>
                      <a:lnTo>
                        <a:pt x="472" y="456"/>
                      </a:lnTo>
                      <a:lnTo>
                        <a:pt x="448" y="442"/>
                      </a:lnTo>
                      <a:lnTo>
                        <a:pt x="416" y="424"/>
                      </a:lnTo>
                      <a:lnTo>
                        <a:pt x="380" y="406"/>
                      </a:lnTo>
                      <a:lnTo>
                        <a:pt x="340" y="390"/>
                      </a:lnTo>
                      <a:lnTo>
                        <a:pt x="340" y="390"/>
                      </a:lnTo>
                      <a:lnTo>
                        <a:pt x="292" y="374"/>
                      </a:lnTo>
                      <a:lnTo>
                        <a:pt x="268" y="368"/>
                      </a:lnTo>
                      <a:lnTo>
                        <a:pt x="244" y="364"/>
                      </a:lnTo>
                      <a:lnTo>
                        <a:pt x="222" y="362"/>
                      </a:lnTo>
                      <a:lnTo>
                        <a:pt x="198" y="360"/>
                      </a:lnTo>
                      <a:lnTo>
                        <a:pt x="176" y="360"/>
                      </a:lnTo>
                      <a:lnTo>
                        <a:pt x="152" y="362"/>
                      </a:lnTo>
                      <a:lnTo>
                        <a:pt x="152" y="362"/>
                      </a:lnTo>
                      <a:lnTo>
                        <a:pt x="130" y="366"/>
                      </a:lnTo>
                      <a:lnTo>
                        <a:pt x="108" y="370"/>
                      </a:lnTo>
                      <a:lnTo>
                        <a:pt x="76" y="380"/>
                      </a:lnTo>
                      <a:lnTo>
                        <a:pt x="56" y="388"/>
                      </a:lnTo>
                      <a:lnTo>
                        <a:pt x="48" y="392"/>
                      </a:lnTo>
                      <a:lnTo>
                        <a:pt x="24" y="408"/>
                      </a:lnTo>
                      <a:lnTo>
                        <a:pt x="4" y="426"/>
                      </a:lnTo>
                      <a:lnTo>
                        <a:pt x="0" y="436"/>
                      </a:lnTo>
                      <a:lnTo>
                        <a:pt x="0" y="466"/>
                      </a:lnTo>
                      <a:lnTo>
                        <a:pt x="4" y="476"/>
                      </a:lnTo>
                      <a:lnTo>
                        <a:pt x="18" y="488"/>
                      </a:lnTo>
                      <a:lnTo>
                        <a:pt x="36" y="500"/>
                      </a:lnTo>
                      <a:lnTo>
                        <a:pt x="36" y="500"/>
                      </a:lnTo>
                      <a:lnTo>
                        <a:pt x="44" y="504"/>
                      </a:lnTo>
                      <a:lnTo>
                        <a:pt x="50" y="506"/>
                      </a:lnTo>
                      <a:lnTo>
                        <a:pt x="56" y="506"/>
                      </a:lnTo>
                      <a:lnTo>
                        <a:pt x="56" y="506"/>
                      </a:lnTo>
                      <a:lnTo>
                        <a:pt x="60" y="508"/>
                      </a:lnTo>
                      <a:lnTo>
                        <a:pt x="64" y="510"/>
                      </a:lnTo>
                      <a:lnTo>
                        <a:pt x="70" y="514"/>
                      </a:lnTo>
                      <a:lnTo>
                        <a:pt x="70" y="514"/>
                      </a:lnTo>
                      <a:lnTo>
                        <a:pt x="76" y="518"/>
                      </a:lnTo>
                      <a:lnTo>
                        <a:pt x="82" y="520"/>
                      </a:lnTo>
                      <a:lnTo>
                        <a:pt x="90" y="520"/>
                      </a:lnTo>
                      <a:lnTo>
                        <a:pt x="90" y="520"/>
                      </a:lnTo>
                      <a:lnTo>
                        <a:pt x="96" y="522"/>
                      </a:lnTo>
                      <a:lnTo>
                        <a:pt x="104" y="524"/>
                      </a:lnTo>
                      <a:lnTo>
                        <a:pt x="112" y="528"/>
                      </a:lnTo>
                      <a:lnTo>
                        <a:pt x="116" y="530"/>
                      </a:lnTo>
                      <a:lnTo>
                        <a:pt x="116" y="530"/>
                      </a:lnTo>
                      <a:lnTo>
                        <a:pt x="120" y="534"/>
                      </a:lnTo>
                      <a:lnTo>
                        <a:pt x="126" y="536"/>
                      </a:lnTo>
                      <a:lnTo>
                        <a:pt x="136" y="540"/>
                      </a:lnTo>
                      <a:lnTo>
                        <a:pt x="136" y="540"/>
                      </a:lnTo>
                      <a:lnTo>
                        <a:pt x="144" y="548"/>
                      </a:lnTo>
                      <a:lnTo>
                        <a:pt x="148" y="554"/>
                      </a:lnTo>
                      <a:lnTo>
                        <a:pt x="150" y="558"/>
                      </a:lnTo>
                      <a:lnTo>
                        <a:pt x="150" y="558"/>
                      </a:lnTo>
                      <a:lnTo>
                        <a:pt x="152" y="562"/>
                      </a:lnTo>
                      <a:lnTo>
                        <a:pt x="156" y="564"/>
                      </a:lnTo>
                      <a:lnTo>
                        <a:pt x="162" y="564"/>
                      </a:lnTo>
                      <a:lnTo>
                        <a:pt x="162" y="564"/>
                      </a:lnTo>
                      <a:lnTo>
                        <a:pt x="168" y="568"/>
                      </a:lnTo>
                      <a:lnTo>
                        <a:pt x="172" y="572"/>
                      </a:lnTo>
                      <a:lnTo>
                        <a:pt x="174" y="578"/>
                      </a:lnTo>
                      <a:lnTo>
                        <a:pt x="174" y="578"/>
                      </a:lnTo>
                      <a:lnTo>
                        <a:pt x="176" y="580"/>
                      </a:lnTo>
                      <a:lnTo>
                        <a:pt x="178" y="584"/>
                      </a:lnTo>
                      <a:lnTo>
                        <a:pt x="184" y="590"/>
                      </a:lnTo>
                      <a:lnTo>
                        <a:pt x="192" y="594"/>
                      </a:lnTo>
                      <a:lnTo>
                        <a:pt x="196" y="596"/>
                      </a:lnTo>
                      <a:lnTo>
                        <a:pt x="196" y="596"/>
                      </a:lnTo>
                      <a:lnTo>
                        <a:pt x="200" y="598"/>
                      </a:lnTo>
                      <a:lnTo>
                        <a:pt x="204" y="602"/>
                      </a:lnTo>
                      <a:lnTo>
                        <a:pt x="210" y="608"/>
                      </a:lnTo>
                      <a:lnTo>
                        <a:pt x="210" y="608"/>
                      </a:lnTo>
                      <a:lnTo>
                        <a:pt x="214" y="610"/>
                      </a:lnTo>
                      <a:lnTo>
                        <a:pt x="222" y="614"/>
                      </a:lnTo>
                      <a:lnTo>
                        <a:pt x="232" y="620"/>
                      </a:lnTo>
                      <a:lnTo>
                        <a:pt x="232" y="620"/>
                      </a:lnTo>
                      <a:lnTo>
                        <a:pt x="248" y="626"/>
                      </a:lnTo>
                      <a:lnTo>
                        <a:pt x="258" y="632"/>
                      </a:lnTo>
                      <a:lnTo>
                        <a:pt x="258" y="632"/>
                      </a:lnTo>
                      <a:lnTo>
                        <a:pt x="264" y="632"/>
                      </a:lnTo>
                      <a:lnTo>
                        <a:pt x="272" y="632"/>
                      </a:lnTo>
                      <a:lnTo>
                        <a:pt x="282" y="630"/>
                      </a:lnTo>
                      <a:lnTo>
                        <a:pt x="302" y="622"/>
                      </a:lnTo>
                      <a:lnTo>
                        <a:pt x="320" y="610"/>
                      </a:lnTo>
                      <a:lnTo>
                        <a:pt x="338" y="600"/>
                      </a:lnTo>
                      <a:lnTo>
                        <a:pt x="364" y="586"/>
                      </a:lnTo>
                      <a:lnTo>
                        <a:pt x="380" y="580"/>
                      </a:lnTo>
                      <a:lnTo>
                        <a:pt x="382" y="578"/>
                      </a:lnTo>
                      <a:lnTo>
                        <a:pt x="382" y="578"/>
                      </a:lnTo>
                      <a:lnTo>
                        <a:pt x="368" y="604"/>
                      </a:lnTo>
                      <a:lnTo>
                        <a:pt x="358" y="628"/>
                      </a:lnTo>
                      <a:lnTo>
                        <a:pt x="358" y="628"/>
                      </a:lnTo>
                      <a:lnTo>
                        <a:pt x="344" y="670"/>
                      </a:lnTo>
                      <a:lnTo>
                        <a:pt x="342" y="682"/>
                      </a:lnTo>
                      <a:lnTo>
                        <a:pt x="342" y="688"/>
                      </a:lnTo>
                      <a:lnTo>
                        <a:pt x="342" y="692"/>
                      </a:lnTo>
                      <a:lnTo>
                        <a:pt x="344" y="692"/>
                      </a:lnTo>
                      <a:lnTo>
                        <a:pt x="346" y="692"/>
                      </a:lnTo>
                      <a:lnTo>
                        <a:pt x="358" y="702"/>
                      </a:lnTo>
                      <a:lnTo>
                        <a:pt x="358" y="702"/>
                      </a:lnTo>
                      <a:lnTo>
                        <a:pt x="366" y="708"/>
                      </a:lnTo>
                      <a:lnTo>
                        <a:pt x="384" y="724"/>
                      </a:lnTo>
                      <a:lnTo>
                        <a:pt x="396" y="730"/>
                      </a:lnTo>
                      <a:lnTo>
                        <a:pt x="410" y="738"/>
                      </a:lnTo>
                      <a:lnTo>
                        <a:pt x="420" y="740"/>
                      </a:lnTo>
                      <a:lnTo>
                        <a:pt x="432" y="742"/>
                      </a:lnTo>
                      <a:lnTo>
                        <a:pt x="432" y="742"/>
                      </a:lnTo>
                      <a:lnTo>
                        <a:pt x="440" y="740"/>
                      </a:lnTo>
                      <a:lnTo>
                        <a:pt x="446" y="742"/>
                      </a:lnTo>
                      <a:lnTo>
                        <a:pt x="452" y="744"/>
                      </a:lnTo>
                      <a:lnTo>
                        <a:pt x="456" y="746"/>
                      </a:lnTo>
                      <a:lnTo>
                        <a:pt x="460" y="752"/>
                      </a:lnTo>
                      <a:lnTo>
                        <a:pt x="462" y="754"/>
                      </a:lnTo>
                      <a:lnTo>
                        <a:pt x="462" y="754"/>
                      </a:lnTo>
                      <a:lnTo>
                        <a:pt x="472" y="762"/>
                      </a:lnTo>
                      <a:lnTo>
                        <a:pt x="484" y="766"/>
                      </a:lnTo>
                      <a:lnTo>
                        <a:pt x="488" y="766"/>
                      </a:lnTo>
                      <a:lnTo>
                        <a:pt x="494" y="764"/>
                      </a:lnTo>
                      <a:lnTo>
                        <a:pt x="494" y="764"/>
                      </a:lnTo>
                      <a:lnTo>
                        <a:pt x="500" y="764"/>
                      </a:lnTo>
                      <a:lnTo>
                        <a:pt x="506" y="768"/>
                      </a:lnTo>
                      <a:lnTo>
                        <a:pt x="588" y="768"/>
                      </a:lnTo>
                      <a:lnTo>
                        <a:pt x="588" y="768"/>
                      </a:lnTo>
                      <a:lnTo>
                        <a:pt x="586" y="750"/>
                      </a:lnTo>
                      <a:lnTo>
                        <a:pt x="584" y="736"/>
                      </a:lnTo>
                      <a:lnTo>
                        <a:pt x="584" y="736"/>
                      </a:lnTo>
                      <a:lnTo>
                        <a:pt x="552" y="654"/>
                      </a:lnTo>
                      <a:lnTo>
                        <a:pt x="534" y="602"/>
                      </a:lnTo>
                      <a:lnTo>
                        <a:pt x="530" y="586"/>
                      </a:lnTo>
                      <a:lnTo>
                        <a:pt x="530" y="580"/>
                      </a:lnTo>
                      <a:lnTo>
                        <a:pt x="530" y="578"/>
                      </a:lnTo>
                      <a:lnTo>
                        <a:pt x="530" y="578"/>
                      </a:lnTo>
                      <a:lnTo>
                        <a:pt x="534" y="574"/>
                      </a:lnTo>
                      <a:lnTo>
                        <a:pt x="536" y="566"/>
                      </a:lnTo>
                      <a:lnTo>
                        <a:pt x="538" y="548"/>
                      </a:lnTo>
                      <a:lnTo>
                        <a:pt x="548" y="572"/>
                      </a:lnTo>
                      <a:lnTo>
                        <a:pt x="554" y="580"/>
                      </a:lnTo>
                      <a:lnTo>
                        <a:pt x="558" y="594"/>
                      </a:lnTo>
                      <a:lnTo>
                        <a:pt x="568" y="610"/>
                      </a:lnTo>
                      <a:lnTo>
                        <a:pt x="570" y="614"/>
                      </a:lnTo>
                      <a:lnTo>
                        <a:pt x="584" y="638"/>
                      </a:lnTo>
                      <a:lnTo>
                        <a:pt x="590" y="638"/>
                      </a:lnTo>
                      <a:lnTo>
                        <a:pt x="592" y="642"/>
                      </a:lnTo>
                      <a:lnTo>
                        <a:pt x="590" y="648"/>
                      </a:lnTo>
                      <a:lnTo>
                        <a:pt x="598" y="658"/>
                      </a:lnTo>
                      <a:lnTo>
                        <a:pt x="608" y="676"/>
                      </a:lnTo>
                      <a:lnTo>
                        <a:pt x="626" y="688"/>
                      </a:lnTo>
                      <a:lnTo>
                        <a:pt x="642" y="690"/>
                      </a:lnTo>
                      <a:lnTo>
                        <a:pt x="638" y="678"/>
                      </a:lnTo>
                      <a:lnTo>
                        <a:pt x="646" y="688"/>
                      </a:lnTo>
                      <a:lnTo>
                        <a:pt x="650" y="672"/>
                      </a:lnTo>
                      <a:lnTo>
                        <a:pt x="648" y="652"/>
                      </a:lnTo>
                      <a:lnTo>
                        <a:pt x="638" y="634"/>
                      </a:lnTo>
                      <a:lnTo>
                        <a:pt x="632" y="622"/>
                      </a:lnTo>
                      <a:lnTo>
                        <a:pt x="626" y="620"/>
                      </a:lnTo>
                      <a:lnTo>
                        <a:pt x="624" y="616"/>
                      </a:lnTo>
                      <a:lnTo>
                        <a:pt x="626" y="612"/>
                      </a:lnTo>
                      <a:lnTo>
                        <a:pt x="612" y="590"/>
                      </a:lnTo>
                      <a:lnTo>
                        <a:pt x="608" y="584"/>
                      </a:lnTo>
                      <a:lnTo>
                        <a:pt x="598" y="568"/>
                      </a:lnTo>
                      <a:lnTo>
                        <a:pt x="588" y="560"/>
                      </a:lnTo>
                      <a:lnTo>
                        <a:pt x="584" y="550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86" y="536"/>
                      </a:lnTo>
                      <a:lnTo>
                        <a:pt x="592" y="538"/>
                      </a:lnTo>
                      <a:lnTo>
                        <a:pt x="598" y="536"/>
                      </a:lnTo>
                      <a:lnTo>
                        <a:pt x="598" y="536"/>
                      </a:lnTo>
                      <a:lnTo>
                        <a:pt x="600" y="538"/>
                      </a:lnTo>
                      <a:lnTo>
                        <a:pt x="604" y="540"/>
                      </a:lnTo>
                      <a:lnTo>
                        <a:pt x="618" y="552"/>
                      </a:lnTo>
                      <a:lnTo>
                        <a:pt x="654" y="590"/>
                      </a:lnTo>
                      <a:lnTo>
                        <a:pt x="714" y="658"/>
                      </a:lnTo>
                      <a:lnTo>
                        <a:pt x="714" y="658"/>
                      </a:lnTo>
                      <a:lnTo>
                        <a:pt x="724" y="666"/>
                      </a:lnTo>
                      <a:lnTo>
                        <a:pt x="740" y="676"/>
                      </a:lnTo>
                      <a:lnTo>
                        <a:pt x="770" y="692"/>
                      </a:lnTo>
                      <a:lnTo>
                        <a:pt x="770" y="692"/>
                      </a:lnTo>
                      <a:lnTo>
                        <a:pt x="792" y="698"/>
                      </a:lnTo>
                      <a:lnTo>
                        <a:pt x="804" y="702"/>
                      </a:lnTo>
                      <a:lnTo>
                        <a:pt x="804" y="702"/>
                      </a:lnTo>
                      <a:lnTo>
                        <a:pt x="814" y="706"/>
                      </a:lnTo>
                      <a:lnTo>
                        <a:pt x="822" y="708"/>
                      </a:lnTo>
                      <a:lnTo>
                        <a:pt x="830" y="708"/>
                      </a:lnTo>
                      <a:lnTo>
                        <a:pt x="830" y="708"/>
                      </a:lnTo>
                      <a:lnTo>
                        <a:pt x="836" y="708"/>
                      </a:lnTo>
                      <a:lnTo>
                        <a:pt x="842" y="708"/>
                      </a:lnTo>
                      <a:lnTo>
                        <a:pt x="848" y="710"/>
                      </a:lnTo>
                      <a:lnTo>
                        <a:pt x="852" y="722"/>
                      </a:lnTo>
                      <a:lnTo>
                        <a:pt x="904" y="736"/>
                      </a:lnTo>
                      <a:lnTo>
                        <a:pt x="904" y="736"/>
                      </a:lnTo>
                      <a:lnTo>
                        <a:pt x="910" y="736"/>
                      </a:lnTo>
                      <a:lnTo>
                        <a:pt x="914" y="734"/>
                      </a:lnTo>
                      <a:lnTo>
                        <a:pt x="916" y="732"/>
                      </a:lnTo>
                      <a:lnTo>
                        <a:pt x="916" y="730"/>
                      </a:lnTo>
                      <a:lnTo>
                        <a:pt x="916" y="730"/>
                      </a:lnTo>
                      <a:lnTo>
                        <a:pt x="914" y="722"/>
                      </a:lnTo>
                      <a:lnTo>
                        <a:pt x="910" y="716"/>
                      </a:lnTo>
                      <a:lnTo>
                        <a:pt x="898" y="700"/>
                      </a:lnTo>
                      <a:lnTo>
                        <a:pt x="898" y="700"/>
                      </a:lnTo>
                      <a:lnTo>
                        <a:pt x="892" y="694"/>
                      </a:lnTo>
                      <a:lnTo>
                        <a:pt x="884" y="690"/>
                      </a:lnTo>
                      <a:lnTo>
                        <a:pt x="878" y="688"/>
                      </a:lnTo>
                      <a:lnTo>
                        <a:pt x="878" y="688"/>
                      </a:lnTo>
                      <a:close/>
                      <a:moveTo>
                        <a:pt x="478" y="422"/>
                      </a:moveTo>
                      <a:lnTo>
                        <a:pt x="478" y="422"/>
                      </a:lnTo>
                      <a:lnTo>
                        <a:pt x="478" y="422"/>
                      </a:lnTo>
                      <a:lnTo>
                        <a:pt x="478" y="420"/>
                      </a:lnTo>
                      <a:lnTo>
                        <a:pt x="478" y="422"/>
                      </a:lnTo>
                      <a:close/>
                    </a:path>
                  </a:pathLst>
                </a:custGeom>
                <a:solidFill>
                  <a:srgbClr val="def5b9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715"/>
            <p:cNvGrpSpPr/>
            <p:nvPr/>
          </p:nvGrpSpPr>
          <p:grpSpPr>
            <a:xfrm>
              <a:off x="0" y="0"/>
              <a:ext cx="9211320" cy="6829560"/>
              <a:chOff x="0" y="0"/>
              <a:chExt cx="9211320" cy="6829560"/>
            </a:xfrm>
          </p:grpSpPr>
          <p:grpSp>
            <p:nvGrpSpPr>
              <p:cNvPr id="230" name="Group 129"/>
              <p:cNvGrpSpPr/>
              <p:nvPr/>
            </p:nvGrpSpPr>
            <p:grpSpPr>
              <a:xfrm>
                <a:off x="7696080" y="2819520"/>
                <a:ext cx="1404000" cy="3468600"/>
                <a:chOff x="7696080" y="2819520"/>
                <a:chExt cx="1404000" cy="3468600"/>
              </a:xfrm>
            </p:grpSpPr>
            <p:sp>
              <p:nvSpPr>
                <p:cNvPr id="231" name="Freeform 86"/>
                <p:cNvSpPr/>
                <p:nvPr/>
              </p:nvSpPr>
              <p:spPr>
                <a:xfrm rot="20119200">
                  <a:off x="8079120" y="3112920"/>
                  <a:ext cx="109440" cy="16344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246" h="366">
                      <a:moveTo>
                        <a:pt x="242" y="366"/>
                      </a:moveTo>
                      <a:lnTo>
                        <a:pt x="242" y="366"/>
                      </a:lnTo>
                      <a:lnTo>
                        <a:pt x="244" y="364"/>
                      </a:lnTo>
                      <a:lnTo>
                        <a:pt x="246" y="364"/>
                      </a:lnTo>
                      <a:lnTo>
                        <a:pt x="246" y="364"/>
                      </a:lnTo>
                      <a:lnTo>
                        <a:pt x="236" y="348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22" y="1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20" y="34"/>
                      </a:lnTo>
                      <a:lnTo>
                        <a:pt x="28" y="44"/>
                      </a:lnTo>
                      <a:lnTo>
                        <a:pt x="232" y="352"/>
                      </a:lnTo>
                      <a:lnTo>
                        <a:pt x="232" y="352"/>
                      </a:lnTo>
                      <a:lnTo>
                        <a:pt x="238" y="362"/>
                      </a:lnTo>
                      <a:lnTo>
                        <a:pt x="242" y="366"/>
                      </a:lnTo>
                      <a:lnTo>
                        <a:pt x="24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7"/>
                <p:cNvSpPr/>
                <p:nvPr/>
              </p:nvSpPr>
              <p:spPr>
                <a:xfrm rot="20119200">
                  <a:off x="8220960" y="324972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451" h="45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8"/>
                <p:cNvSpPr/>
                <p:nvPr/>
              </p:nvSpPr>
              <p:spPr>
                <a:xfrm rot="20119200">
                  <a:off x="8187120" y="3062160"/>
                  <a:ext cx="109440" cy="16488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244" h="366">
                      <a:moveTo>
                        <a:pt x="2" y="366"/>
                      </a:moveTo>
                      <a:lnTo>
                        <a:pt x="2" y="366"/>
                      </a:lnTo>
                      <a:lnTo>
                        <a:pt x="6" y="362"/>
                      </a:lnTo>
                      <a:lnTo>
                        <a:pt x="14" y="352"/>
                      </a:lnTo>
                      <a:lnTo>
                        <a:pt x="216" y="44"/>
                      </a:lnTo>
                      <a:lnTo>
                        <a:pt x="216" y="44"/>
                      </a:lnTo>
                      <a:lnTo>
                        <a:pt x="226" y="34"/>
                      </a:lnTo>
                      <a:lnTo>
                        <a:pt x="234" y="24"/>
                      </a:lnTo>
                      <a:lnTo>
                        <a:pt x="234" y="24"/>
                      </a:lnTo>
                      <a:lnTo>
                        <a:pt x="240" y="16"/>
                      </a:lnTo>
                      <a:lnTo>
                        <a:pt x="244" y="6"/>
                      </a:lnTo>
                      <a:lnTo>
                        <a:pt x="244" y="6"/>
                      </a:lnTo>
                      <a:lnTo>
                        <a:pt x="244" y="2"/>
                      </a:lnTo>
                      <a:lnTo>
                        <a:pt x="242" y="0"/>
                      </a:lnTo>
                      <a:lnTo>
                        <a:pt x="238" y="2"/>
                      </a:lnTo>
                      <a:lnTo>
                        <a:pt x="234" y="4"/>
                      </a:lnTo>
                      <a:lnTo>
                        <a:pt x="234" y="4"/>
                      </a:lnTo>
                      <a:lnTo>
                        <a:pt x="222" y="14"/>
                      </a:lnTo>
                      <a:lnTo>
                        <a:pt x="212" y="26"/>
                      </a:lnTo>
                      <a:lnTo>
                        <a:pt x="212" y="28"/>
                      </a:lnTo>
                      <a:lnTo>
                        <a:pt x="212" y="28"/>
                      </a:lnTo>
                      <a:lnTo>
                        <a:pt x="194" y="54"/>
                      </a:lnTo>
                      <a:lnTo>
                        <a:pt x="8" y="348"/>
                      </a:lnTo>
                      <a:lnTo>
                        <a:pt x="8" y="348"/>
                      </a:lnTo>
                      <a:lnTo>
                        <a:pt x="0" y="364"/>
                      </a:lnTo>
                      <a:lnTo>
                        <a:pt x="0" y="364"/>
                      </a:lnTo>
                      <a:lnTo>
                        <a:pt x="0" y="366"/>
                      </a:lnTo>
                      <a:lnTo>
                        <a:pt x="0" y="366"/>
                      </a:lnTo>
                      <a:lnTo>
                        <a:pt x="2" y="366"/>
                      </a:lnTo>
                      <a:lnTo>
                        <a:pt x="2" y="366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9"/>
                <p:cNvSpPr/>
                <p:nvPr/>
              </p:nvSpPr>
              <p:spPr>
                <a:xfrm rot="20119200">
                  <a:off x="7817400" y="2975040"/>
                  <a:ext cx="917280" cy="782640"/>
                </a:xfrm>
                <a:custGeom>
                  <a:avLst/>
                  <a:gdLst>
                    <a:gd name="textAreaLeft" fmla="*/ 0 w 917280"/>
                    <a:gd name="textAreaRight" fmla="*/ 917640 w 917280"/>
                    <a:gd name="textAreaTop" fmla="*/ 0 h 782640"/>
                    <a:gd name="textAreaBottom" fmla="*/ 783000 h 78264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2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9"/>
                <p:cNvSpPr/>
                <p:nvPr/>
              </p:nvSpPr>
              <p:spPr>
                <a:xfrm rot="822600">
                  <a:off x="7925040" y="5250600"/>
                  <a:ext cx="1081080" cy="922320"/>
                </a:xfrm>
                <a:custGeom>
                  <a:avLst/>
                  <a:gdLst>
                    <a:gd name="textAreaLeft" fmla="*/ 0 w 1081080"/>
                    <a:gd name="textAreaRight" fmla="*/ 1081440 w 1081080"/>
                    <a:gd name="textAreaTop" fmla="*/ 0 h 922320"/>
                    <a:gd name="textAreaBottom" fmla="*/ 922680 h 922320"/>
                  </a:gdLst>
                  <a:ahLst/>
                  <a:rect l="textAreaLeft" t="textAreaTop" r="textAreaRight" b="textAreaBottom"/>
                  <a:pathLst>
                    <a:path w="2038" h="1738">
                      <a:moveTo>
                        <a:pt x="2036" y="78"/>
                      </a:moveTo>
                      <a:lnTo>
                        <a:pt x="2018" y="44"/>
                      </a:lnTo>
                      <a:lnTo>
                        <a:pt x="1978" y="14"/>
                      </a:lnTo>
                      <a:lnTo>
                        <a:pt x="1916" y="2"/>
                      </a:lnTo>
                      <a:lnTo>
                        <a:pt x="1850" y="0"/>
                      </a:lnTo>
                      <a:lnTo>
                        <a:pt x="1850" y="0"/>
                      </a:lnTo>
                      <a:lnTo>
                        <a:pt x="1832" y="0"/>
                      </a:lnTo>
                      <a:lnTo>
                        <a:pt x="1808" y="4"/>
                      </a:lnTo>
                      <a:lnTo>
                        <a:pt x="1778" y="8"/>
                      </a:lnTo>
                      <a:lnTo>
                        <a:pt x="1742" y="16"/>
                      </a:lnTo>
                      <a:lnTo>
                        <a:pt x="1702" y="28"/>
                      </a:lnTo>
                      <a:lnTo>
                        <a:pt x="1656" y="46"/>
                      </a:lnTo>
                      <a:lnTo>
                        <a:pt x="1606" y="66"/>
                      </a:lnTo>
                      <a:lnTo>
                        <a:pt x="1606" y="66"/>
                      </a:lnTo>
                      <a:lnTo>
                        <a:pt x="1558" y="92"/>
                      </a:lnTo>
                      <a:lnTo>
                        <a:pt x="1510" y="120"/>
                      </a:lnTo>
                      <a:lnTo>
                        <a:pt x="1466" y="152"/>
                      </a:lnTo>
                      <a:lnTo>
                        <a:pt x="1424" y="184"/>
                      </a:lnTo>
                      <a:lnTo>
                        <a:pt x="1382" y="222"/>
                      </a:lnTo>
                      <a:lnTo>
                        <a:pt x="1342" y="260"/>
                      </a:lnTo>
                      <a:lnTo>
                        <a:pt x="1302" y="304"/>
                      </a:lnTo>
                      <a:lnTo>
                        <a:pt x="1264" y="350"/>
                      </a:lnTo>
                      <a:lnTo>
                        <a:pt x="1264" y="350"/>
                      </a:lnTo>
                      <a:lnTo>
                        <a:pt x="1234" y="388"/>
                      </a:lnTo>
                      <a:lnTo>
                        <a:pt x="1204" y="430"/>
                      </a:lnTo>
                      <a:lnTo>
                        <a:pt x="1176" y="472"/>
                      </a:lnTo>
                      <a:lnTo>
                        <a:pt x="1152" y="514"/>
                      </a:lnTo>
                      <a:lnTo>
                        <a:pt x="1110" y="590"/>
                      </a:lnTo>
                      <a:lnTo>
                        <a:pt x="1080" y="646"/>
                      </a:lnTo>
                      <a:lnTo>
                        <a:pt x="1080" y="646"/>
                      </a:lnTo>
                      <a:lnTo>
                        <a:pt x="1074" y="644"/>
                      </a:lnTo>
                      <a:lnTo>
                        <a:pt x="1074" y="644"/>
                      </a:lnTo>
                      <a:lnTo>
                        <a:pt x="1068" y="632"/>
                      </a:lnTo>
                      <a:lnTo>
                        <a:pt x="1060" y="618"/>
                      </a:lnTo>
                      <a:lnTo>
                        <a:pt x="1060" y="618"/>
                      </a:lnTo>
                      <a:lnTo>
                        <a:pt x="1064" y="610"/>
                      </a:lnTo>
                      <a:lnTo>
                        <a:pt x="1066" y="602"/>
                      </a:lnTo>
                      <a:lnTo>
                        <a:pt x="1066" y="602"/>
                      </a:lnTo>
                      <a:lnTo>
                        <a:pt x="1064" y="592"/>
                      </a:lnTo>
                      <a:lnTo>
                        <a:pt x="1060" y="586"/>
                      </a:lnTo>
                      <a:lnTo>
                        <a:pt x="1052" y="580"/>
                      </a:lnTo>
                      <a:lnTo>
                        <a:pt x="1042" y="578"/>
                      </a:lnTo>
                      <a:lnTo>
                        <a:pt x="1042" y="578"/>
                      </a:lnTo>
                      <a:lnTo>
                        <a:pt x="1040" y="580"/>
                      </a:lnTo>
                      <a:lnTo>
                        <a:pt x="1042" y="574"/>
                      </a:lnTo>
                      <a:lnTo>
                        <a:pt x="1036" y="574"/>
                      </a:lnTo>
                      <a:lnTo>
                        <a:pt x="1032" y="574"/>
                      </a:lnTo>
                      <a:lnTo>
                        <a:pt x="1032" y="574"/>
                      </a:lnTo>
                      <a:lnTo>
                        <a:pt x="1024" y="568"/>
                      </a:lnTo>
                      <a:lnTo>
                        <a:pt x="1024" y="568"/>
                      </a:lnTo>
                      <a:lnTo>
                        <a:pt x="1022" y="568"/>
                      </a:lnTo>
                      <a:lnTo>
                        <a:pt x="1018" y="570"/>
                      </a:lnTo>
                      <a:lnTo>
                        <a:pt x="1012" y="570"/>
                      </a:lnTo>
                      <a:lnTo>
                        <a:pt x="1014" y="574"/>
                      </a:lnTo>
                      <a:lnTo>
                        <a:pt x="1008" y="574"/>
                      </a:lnTo>
                      <a:lnTo>
                        <a:pt x="1004" y="574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8" y="580"/>
                      </a:lnTo>
                      <a:lnTo>
                        <a:pt x="1000" y="578"/>
                      </a:lnTo>
                      <a:lnTo>
                        <a:pt x="1000" y="578"/>
                      </a:lnTo>
                      <a:lnTo>
                        <a:pt x="990" y="580"/>
                      </a:lnTo>
                      <a:lnTo>
                        <a:pt x="982" y="586"/>
                      </a:lnTo>
                      <a:lnTo>
                        <a:pt x="978" y="592"/>
                      </a:lnTo>
                      <a:lnTo>
                        <a:pt x="976" y="602"/>
                      </a:lnTo>
                      <a:lnTo>
                        <a:pt x="976" y="602"/>
                      </a:lnTo>
                      <a:lnTo>
                        <a:pt x="978" y="608"/>
                      </a:lnTo>
                      <a:lnTo>
                        <a:pt x="980" y="616"/>
                      </a:lnTo>
                      <a:lnTo>
                        <a:pt x="980" y="616"/>
                      </a:lnTo>
                      <a:lnTo>
                        <a:pt x="970" y="632"/>
                      </a:lnTo>
                      <a:lnTo>
                        <a:pt x="964" y="644"/>
                      </a:lnTo>
                      <a:lnTo>
                        <a:pt x="964" y="644"/>
                      </a:lnTo>
                      <a:lnTo>
                        <a:pt x="958" y="646"/>
                      </a:lnTo>
                      <a:lnTo>
                        <a:pt x="958" y="646"/>
                      </a:lnTo>
                      <a:lnTo>
                        <a:pt x="928" y="590"/>
                      </a:lnTo>
                      <a:lnTo>
                        <a:pt x="886" y="514"/>
                      </a:lnTo>
                      <a:lnTo>
                        <a:pt x="860" y="472"/>
                      </a:lnTo>
                      <a:lnTo>
                        <a:pt x="834" y="430"/>
                      </a:lnTo>
                      <a:lnTo>
                        <a:pt x="804" y="388"/>
                      </a:lnTo>
                      <a:lnTo>
                        <a:pt x="774" y="350"/>
                      </a:lnTo>
                      <a:lnTo>
                        <a:pt x="774" y="350"/>
                      </a:lnTo>
                      <a:lnTo>
                        <a:pt x="736" y="304"/>
                      </a:lnTo>
                      <a:lnTo>
                        <a:pt x="696" y="260"/>
                      </a:lnTo>
                      <a:lnTo>
                        <a:pt x="656" y="222"/>
                      </a:lnTo>
                      <a:lnTo>
                        <a:pt x="614" y="184"/>
                      </a:lnTo>
                      <a:lnTo>
                        <a:pt x="572" y="152"/>
                      </a:lnTo>
                      <a:lnTo>
                        <a:pt x="528" y="120"/>
                      </a:lnTo>
                      <a:lnTo>
                        <a:pt x="480" y="92"/>
                      </a:lnTo>
                      <a:lnTo>
                        <a:pt x="432" y="66"/>
                      </a:lnTo>
                      <a:lnTo>
                        <a:pt x="432" y="66"/>
                      </a:lnTo>
                      <a:lnTo>
                        <a:pt x="382" y="46"/>
                      </a:lnTo>
                      <a:lnTo>
                        <a:pt x="336" y="28"/>
                      </a:lnTo>
                      <a:lnTo>
                        <a:pt x="296" y="16"/>
                      </a:lnTo>
                      <a:lnTo>
                        <a:pt x="260" y="8"/>
                      </a:lnTo>
                      <a:lnTo>
                        <a:pt x="230" y="4"/>
                      </a:lnTo>
                      <a:lnTo>
                        <a:pt x="206" y="0"/>
                      </a:lnTo>
                      <a:lnTo>
                        <a:pt x="188" y="0"/>
                      </a:lnTo>
                      <a:lnTo>
                        <a:pt x="122" y="2"/>
                      </a:lnTo>
                      <a:lnTo>
                        <a:pt x="60" y="14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4"/>
                      </a:lnTo>
                      <a:lnTo>
                        <a:pt x="10" y="156"/>
                      </a:lnTo>
                      <a:lnTo>
                        <a:pt x="32" y="202"/>
                      </a:lnTo>
                      <a:lnTo>
                        <a:pt x="32" y="202"/>
                      </a:lnTo>
                      <a:lnTo>
                        <a:pt x="42" y="218"/>
                      </a:lnTo>
                      <a:lnTo>
                        <a:pt x="54" y="232"/>
                      </a:lnTo>
                      <a:lnTo>
                        <a:pt x="58" y="236"/>
                      </a:lnTo>
                      <a:lnTo>
                        <a:pt x="64" y="240"/>
                      </a:lnTo>
                      <a:lnTo>
                        <a:pt x="64" y="240"/>
                      </a:lnTo>
                      <a:lnTo>
                        <a:pt x="68" y="242"/>
                      </a:lnTo>
                      <a:lnTo>
                        <a:pt x="72" y="246"/>
                      </a:lnTo>
                      <a:lnTo>
                        <a:pt x="78" y="258"/>
                      </a:lnTo>
                      <a:lnTo>
                        <a:pt x="82" y="272"/>
                      </a:lnTo>
                      <a:lnTo>
                        <a:pt x="82" y="272"/>
                      </a:lnTo>
                      <a:lnTo>
                        <a:pt x="90" y="286"/>
                      </a:lnTo>
                      <a:lnTo>
                        <a:pt x="100" y="298"/>
                      </a:lnTo>
                      <a:lnTo>
                        <a:pt x="108" y="302"/>
                      </a:lnTo>
                      <a:lnTo>
                        <a:pt x="114" y="308"/>
                      </a:lnTo>
                      <a:lnTo>
                        <a:pt x="114" y="308"/>
                      </a:lnTo>
                      <a:lnTo>
                        <a:pt x="122" y="312"/>
                      </a:lnTo>
                      <a:lnTo>
                        <a:pt x="128" y="318"/>
                      </a:lnTo>
                      <a:lnTo>
                        <a:pt x="140" y="332"/>
                      </a:lnTo>
                      <a:lnTo>
                        <a:pt x="150" y="348"/>
                      </a:lnTo>
                      <a:lnTo>
                        <a:pt x="154" y="358"/>
                      </a:lnTo>
                      <a:lnTo>
                        <a:pt x="154" y="358"/>
                      </a:lnTo>
                      <a:lnTo>
                        <a:pt x="156" y="364"/>
                      </a:lnTo>
                      <a:lnTo>
                        <a:pt x="158" y="370"/>
                      </a:lnTo>
                      <a:lnTo>
                        <a:pt x="170" y="384"/>
                      </a:lnTo>
                      <a:lnTo>
                        <a:pt x="186" y="404"/>
                      </a:lnTo>
                      <a:lnTo>
                        <a:pt x="186" y="404"/>
                      </a:lnTo>
                      <a:lnTo>
                        <a:pt x="190" y="428"/>
                      </a:lnTo>
                      <a:lnTo>
                        <a:pt x="192" y="446"/>
                      </a:lnTo>
                      <a:lnTo>
                        <a:pt x="192" y="452"/>
                      </a:lnTo>
                      <a:lnTo>
                        <a:pt x="190" y="458"/>
                      </a:lnTo>
                      <a:lnTo>
                        <a:pt x="190" y="458"/>
                      </a:lnTo>
                      <a:lnTo>
                        <a:pt x="188" y="462"/>
                      </a:lnTo>
                      <a:lnTo>
                        <a:pt x="188" y="466"/>
                      </a:lnTo>
                      <a:lnTo>
                        <a:pt x="194" y="474"/>
                      </a:lnTo>
                      <a:lnTo>
                        <a:pt x="206" y="484"/>
                      </a:lnTo>
                      <a:lnTo>
                        <a:pt x="206" y="484"/>
                      </a:lnTo>
                      <a:lnTo>
                        <a:pt x="210" y="488"/>
                      </a:lnTo>
                      <a:lnTo>
                        <a:pt x="214" y="498"/>
                      </a:lnTo>
                      <a:lnTo>
                        <a:pt x="216" y="506"/>
                      </a:lnTo>
                      <a:lnTo>
                        <a:pt x="218" y="512"/>
                      </a:lnTo>
                      <a:lnTo>
                        <a:pt x="218" y="518"/>
                      </a:lnTo>
                      <a:lnTo>
                        <a:pt x="214" y="526"/>
                      </a:lnTo>
                      <a:lnTo>
                        <a:pt x="214" y="526"/>
                      </a:lnTo>
                      <a:lnTo>
                        <a:pt x="212" y="532"/>
                      </a:lnTo>
                      <a:lnTo>
                        <a:pt x="212" y="542"/>
                      </a:lnTo>
                      <a:lnTo>
                        <a:pt x="214" y="552"/>
                      </a:lnTo>
                      <a:lnTo>
                        <a:pt x="218" y="562"/>
                      </a:lnTo>
                      <a:lnTo>
                        <a:pt x="228" y="580"/>
                      </a:lnTo>
                      <a:lnTo>
                        <a:pt x="232" y="586"/>
                      </a:lnTo>
                      <a:lnTo>
                        <a:pt x="236" y="590"/>
                      </a:lnTo>
                      <a:lnTo>
                        <a:pt x="236" y="590"/>
                      </a:lnTo>
                      <a:lnTo>
                        <a:pt x="238" y="594"/>
                      </a:lnTo>
                      <a:lnTo>
                        <a:pt x="242" y="598"/>
                      </a:lnTo>
                      <a:lnTo>
                        <a:pt x="246" y="612"/>
                      </a:lnTo>
                      <a:lnTo>
                        <a:pt x="250" y="628"/>
                      </a:lnTo>
                      <a:lnTo>
                        <a:pt x="250" y="628"/>
                      </a:lnTo>
                      <a:lnTo>
                        <a:pt x="252" y="632"/>
                      </a:lnTo>
                      <a:lnTo>
                        <a:pt x="254" y="642"/>
                      </a:lnTo>
                      <a:lnTo>
                        <a:pt x="264" y="656"/>
                      </a:lnTo>
                      <a:lnTo>
                        <a:pt x="278" y="678"/>
                      </a:lnTo>
                      <a:lnTo>
                        <a:pt x="278" y="678"/>
                      </a:lnTo>
                      <a:lnTo>
                        <a:pt x="294" y="698"/>
                      </a:lnTo>
                      <a:lnTo>
                        <a:pt x="304" y="712"/>
                      </a:lnTo>
                      <a:lnTo>
                        <a:pt x="316" y="734"/>
                      </a:lnTo>
                      <a:lnTo>
                        <a:pt x="316" y="734"/>
                      </a:lnTo>
                      <a:lnTo>
                        <a:pt x="320" y="740"/>
                      </a:lnTo>
                      <a:lnTo>
                        <a:pt x="326" y="744"/>
                      </a:lnTo>
                      <a:lnTo>
                        <a:pt x="344" y="752"/>
                      </a:lnTo>
                      <a:lnTo>
                        <a:pt x="364" y="760"/>
                      </a:lnTo>
                      <a:lnTo>
                        <a:pt x="414" y="768"/>
                      </a:lnTo>
                      <a:lnTo>
                        <a:pt x="468" y="768"/>
                      </a:lnTo>
                      <a:lnTo>
                        <a:pt x="516" y="768"/>
                      </a:lnTo>
                      <a:lnTo>
                        <a:pt x="584" y="772"/>
                      </a:lnTo>
                      <a:lnTo>
                        <a:pt x="626" y="778"/>
                      </a:lnTo>
                      <a:lnTo>
                        <a:pt x="628" y="780"/>
                      </a:lnTo>
                      <a:lnTo>
                        <a:pt x="628" y="780"/>
                      </a:lnTo>
                      <a:lnTo>
                        <a:pt x="596" y="796"/>
                      </a:lnTo>
                      <a:lnTo>
                        <a:pt x="568" y="814"/>
                      </a:lnTo>
                      <a:lnTo>
                        <a:pt x="542" y="832"/>
                      </a:lnTo>
                      <a:lnTo>
                        <a:pt x="518" y="850"/>
                      </a:lnTo>
                      <a:lnTo>
                        <a:pt x="518" y="850"/>
                      </a:lnTo>
                      <a:lnTo>
                        <a:pt x="472" y="890"/>
                      </a:lnTo>
                      <a:lnTo>
                        <a:pt x="442" y="918"/>
                      </a:lnTo>
                      <a:lnTo>
                        <a:pt x="422" y="938"/>
                      </a:lnTo>
                      <a:lnTo>
                        <a:pt x="414" y="952"/>
                      </a:lnTo>
                      <a:lnTo>
                        <a:pt x="412" y="958"/>
                      </a:lnTo>
                      <a:lnTo>
                        <a:pt x="416" y="962"/>
                      </a:lnTo>
                      <a:lnTo>
                        <a:pt x="418" y="962"/>
                      </a:lnTo>
                      <a:lnTo>
                        <a:pt x="420" y="962"/>
                      </a:lnTo>
                      <a:lnTo>
                        <a:pt x="430" y="996"/>
                      </a:lnTo>
                      <a:lnTo>
                        <a:pt x="430" y="996"/>
                      </a:lnTo>
                      <a:lnTo>
                        <a:pt x="438" y="1020"/>
                      </a:lnTo>
                      <a:lnTo>
                        <a:pt x="446" y="1044"/>
                      </a:lnTo>
                      <a:lnTo>
                        <a:pt x="458" y="1074"/>
                      </a:lnTo>
                      <a:lnTo>
                        <a:pt x="474" y="1102"/>
                      </a:lnTo>
                      <a:lnTo>
                        <a:pt x="490" y="1130"/>
                      </a:lnTo>
                      <a:lnTo>
                        <a:pt x="500" y="1142"/>
                      </a:lnTo>
                      <a:lnTo>
                        <a:pt x="510" y="1152"/>
                      </a:lnTo>
                      <a:lnTo>
                        <a:pt x="520" y="1160"/>
                      </a:lnTo>
                      <a:lnTo>
                        <a:pt x="530" y="1166"/>
                      </a:lnTo>
                      <a:lnTo>
                        <a:pt x="530" y="1166"/>
                      </a:lnTo>
                      <a:lnTo>
                        <a:pt x="548" y="1174"/>
                      </a:lnTo>
                      <a:lnTo>
                        <a:pt x="560" y="1184"/>
                      </a:lnTo>
                      <a:lnTo>
                        <a:pt x="568" y="1194"/>
                      </a:lnTo>
                      <a:lnTo>
                        <a:pt x="572" y="1204"/>
                      </a:lnTo>
                      <a:lnTo>
                        <a:pt x="574" y="1214"/>
                      </a:lnTo>
                      <a:lnTo>
                        <a:pt x="574" y="1222"/>
                      </a:lnTo>
                      <a:lnTo>
                        <a:pt x="574" y="1228"/>
                      </a:lnTo>
                      <a:lnTo>
                        <a:pt x="574" y="1228"/>
                      </a:lnTo>
                      <a:lnTo>
                        <a:pt x="578" y="1236"/>
                      </a:lnTo>
                      <a:lnTo>
                        <a:pt x="588" y="1256"/>
                      </a:lnTo>
                      <a:lnTo>
                        <a:pt x="596" y="1268"/>
                      </a:lnTo>
                      <a:lnTo>
                        <a:pt x="604" y="1278"/>
                      </a:lnTo>
                      <a:lnTo>
                        <a:pt x="616" y="1284"/>
                      </a:lnTo>
                      <a:lnTo>
                        <a:pt x="626" y="1288"/>
                      </a:lnTo>
                      <a:lnTo>
                        <a:pt x="626" y="1288"/>
                      </a:lnTo>
                      <a:lnTo>
                        <a:pt x="632" y="1290"/>
                      </a:lnTo>
                      <a:lnTo>
                        <a:pt x="638" y="1294"/>
                      </a:lnTo>
                      <a:lnTo>
                        <a:pt x="642" y="1300"/>
                      </a:lnTo>
                      <a:lnTo>
                        <a:pt x="646" y="1306"/>
                      </a:lnTo>
                      <a:lnTo>
                        <a:pt x="652" y="1322"/>
                      </a:lnTo>
                      <a:lnTo>
                        <a:pt x="656" y="1340"/>
                      </a:lnTo>
                      <a:lnTo>
                        <a:pt x="660" y="1374"/>
                      </a:lnTo>
                      <a:lnTo>
                        <a:pt x="662" y="1388"/>
                      </a:lnTo>
                      <a:lnTo>
                        <a:pt x="662" y="1388"/>
                      </a:lnTo>
                      <a:lnTo>
                        <a:pt x="662" y="1404"/>
                      </a:lnTo>
                      <a:lnTo>
                        <a:pt x="660" y="1420"/>
                      </a:lnTo>
                      <a:lnTo>
                        <a:pt x="656" y="1442"/>
                      </a:lnTo>
                      <a:lnTo>
                        <a:pt x="650" y="1464"/>
                      </a:lnTo>
                      <a:lnTo>
                        <a:pt x="642" y="1486"/>
                      </a:lnTo>
                      <a:lnTo>
                        <a:pt x="636" y="1498"/>
                      </a:lnTo>
                      <a:lnTo>
                        <a:pt x="630" y="1508"/>
                      </a:lnTo>
                      <a:lnTo>
                        <a:pt x="622" y="1518"/>
                      </a:lnTo>
                      <a:lnTo>
                        <a:pt x="612" y="1528"/>
                      </a:lnTo>
                      <a:lnTo>
                        <a:pt x="612" y="1528"/>
                      </a:lnTo>
                      <a:lnTo>
                        <a:pt x="596" y="1544"/>
                      </a:lnTo>
                      <a:lnTo>
                        <a:pt x="582" y="1558"/>
                      </a:lnTo>
                      <a:lnTo>
                        <a:pt x="562" y="1580"/>
                      </a:lnTo>
                      <a:lnTo>
                        <a:pt x="550" y="1596"/>
                      </a:lnTo>
                      <a:lnTo>
                        <a:pt x="548" y="1602"/>
                      </a:lnTo>
                      <a:lnTo>
                        <a:pt x="548" y="1602"/>
                      </a:lnTo>
                      <a:lnTo>
                        <a:pt x="538" y="1616"/>
                      </a:lnTo>
                      <a:lnTo>
                        <a:pt x="530" y="1632"/>
                      </a:lnTo>
                      <a:lnTo>
                        <a:pt x="522" y="1652"/>
                      </a:lnTo>
                      <a:lnTo>
                        <a:pt x="522" y="1652"/>
                      </a:lnTo>
                      <a:lnTo>
                        <a:pt x="518" y="1676"/>
                      </a:lnTo>
                      <a:lnTo>
                        <a:pt x="516" y="1698"/>
                      </a:lnTo>
                      <a:lnTo>
                        <a:pt x="518" y="1716"/>
                      </a:lnTo>
                      <a:lnTo>
                        <a:pt x="520" y="1724"/>
                      </a:lnTo>
                      <a:lnTo>
                        <a:pt x="522" y="1732"/>
                      </a:lnTo>
                      <a:lnTo>
                        <a:pt x="522" y="1732"/>
                      </a:lnTo>
                      <a:lnTo>
                        <a:pt x="526" y="1736"/>
                      </a:lnTo>
                      <a:lnTo>
                        <a:pt x="532" y="1738"/>
                      </a:lnTo>
                      <a:lnTo>
                        <a:pt x="538" y="1738"/>
                      </a:lnTo>
                      <a:lnTo>
                        <a:pt x="544" y="1738"/>
                      </a:lnTo>
                      <a:lnTo>
                        <a:pt x="554" y="1734"/>
                      </a:lnTo>
                      <a:lnTo>
                        <a:pt x="558" y="1732"/>
                      </a:lnTo>
                      <a:lnTo>
                        <a:pt x="640" y="1640"/>
                      </a:lnTo>
                      <a:lnTo>
                        <a:pt x="636" y="1610"/>
                      </a:lnTo>
                      <a:lnTo>
                        <a:pt x="636" y="1610"/>
                      </a:lnTo>
                      <a:lnTo>
                        <a:pt x="648" y="1598"/>
                      </a:lnTo>
                      <a:lnTo>
                        <a:pt x="658" y="1590"/>
                      </a:lnTo>
                      <a:lnTo>
                        <a:pt x="664" y="1588"/>
                      </a:lnTo>
                      <a:lnTo>
                        <a:pt x="670" y="1586"/>
                      </a:lnTo>
                      <a:lnTo>
                        <a:pt x="670" y="1586"/>
                      </a:lnTo>
                      <a:lnTo>
                        <a:pt x="678" y="1582"/>
                      </a:lnTo>
                      <a:lnTo>
                        <a:pt x="684" y="1578"/>
                      </a:lnTo>
                      <a:lnTo>
                        <a:pt x="698" y="1562"/>
                      </a:lnTo>
                      <a:lnTo>
                        <a:pt x="712" y="1538"/>
                      </a:lnTo>
                      <a:lnTo>
                        <a:pt x="712" y="1538"/>
                      </a:lnTo>
                      <a:lnTo>
                        <a:pt x="732" y="1520"/>
                      </a:lnTo>
                      <a:lnTo>
                        <a:pt x="752" y="1500"/>
                      </a:lnTo>
                      <a:lnTo>
                        <a:pt x="770" y="1476"/>
                      </a:lnTo>
                      <a:lnTo>
                        <a:pt x="770" y="1476"/>
                      </a:lnTo>
                      <a:lnTo>
                        <a:pt x="790" y="1446"/>
                      </a:lnTo>
                      <a:lnTo>
                        <a:pt x="812" y="1410"/>
                      </a:lnTo>
                      <a:lnTo>
                        <a:pt x="830" y="1374"/>
                      </a:lnTo>
                      <a:lnTo>
                        <a:pt x="836" y="1356"/>
                      </a:lnTo>
                      <a:lnTo>
                        <a:pt x="840" y="1342"/>
                      </a:lnTo>
                      <a:lnTo>
                        <a:pt x="840" y="1342"/>
                      </a:lnTo>
                      <a:lnTo>
                        <a:pt x="854" y="1266"/>
                      </a:lnTo>
                      <a:lnTo>
                        <a:pt x="878" y="1136"/>
                      </a:lnTo>
                      <a:lnTo>
                        <a:pt x="890" y="1070"/>
                      </a:lnTo>
                      <a:lnTo>
                        <a:pt x="904" y="1014"/>
                      </a:lnTo>
                      <a:lnTo>
                        <a:pt x="910" y="992"/>
                      </a:lnTo>
                      <a:lnTo>
                        <a:pt x="916" y="974"/>
                      </a:lnTo>
                      <a:lnTo>
                        <a:pt x="922" y="964"/>
                      </a:lnTo>
                      <a:lnTo>
                        <a:pt x="924" y="960"/>
                      </a:lnTo>
                      <a:lnTo>
                        <a:pt x="926" y="960"/>
                      </a:lnTo>
                      <a:lnTo>
                        <a:pt x="926" y="960"/>
                      </a:lnTo>
                      <a:lnTo>
                        <a:pt x="932" y="958"/>
                      </a:lnTo>
                      <a:lnTo>
                        <a:pt x="938" y="954"/>
                      </a:lnTo>
                      <a:lnTo>
                        <a:pt x="950" y="942"/>
                      </a:lnTo>
                      <a:lnTo>
                        <a:pt x="964" y="926"/>
                      </a:lnTo>
                      <a:lnTo>
                        <a:pt x="976" y="908"/>
                      </a:lnTo>
                      <a:lnTo>
                        <a:pt x="968" y="972"/>
                      </a:lnTo>
                      <a:lnTo>
                        <a:pt x="972" y="994"/>
                      </a:lnTo>
                      <a:lnTo>
                        <a:pt x="962" y="1022"/>
                      </a:lnTo>
                      <a:lnTo>
                        <a:pt x="962" y="1068"/>
                      </a:lnTo>
                      <a:lnTo>
                        <a:pt x="962" y="1080"/>
                      </a:lnTo>
                      <a:lnTo>
                        <a:pt x="962" y="1146"/>
                      </a:lnTo>
                      <a:lnTo>
                        <a:pt x="972" y="1150"/>
                      </a:lnTo>
                      <a:lnTo>
                        <a:pt x="972" y="1160"/>
                      </a:lnTo>
                      <a:lnTo>
                        <a:pt x="962" y="1170"/>
                      </a:lnTo>
                      <a:lnTo>
                        <a:pt x="964" y="1202"/>
                      </a:lnTo>
                      <a:lnTo>
                        <a:pt x="964" y="1252"/>
                      </a:lnTo>
                      <a:lnTo>
                        <a:pt x="984" y="1294"/>
                      </a:lnTo>
                      <a:lnTo>
                        <a:pt x="1016" y="1320"/>
                      </a:lnTo>
                      <a:lnTo>
                        <a:pt x="1018" y="1292"/>
                      </a:lnTo>
                      <a:lnTo>
                        <a:pt x="1022" y="1320"/>
                      </a:lnTo>
                      <a:lnTo>
                        <a:pt x="1054" y="1294"/>
                      </a:lnTo>
                      <a:lnTo>
                        <a:pt x="1074" y="1252"/>
                      </a:lnTo>
                      <a:lnTo>
                        <a:pt x="1074" y="1202"/>
                      </a:lnTo>
                      <a:lnTo>
                        <a:pt x="1076" y="1170"/>
                      </a:lnTo>
                      <a:lnTo>
                        <a:pt x="1066" y="1160"/>
                      </a:lnTo>
                      <a:lnTo>
                        <a:pt x="1066" y="1150"/>
                      </a:lnTo>
                      <a:lnTo>
                        <a:pt x="1076" y="1146"/>
                      </a:lnTo>
                      <a:lnTo>
                        <a:pt x="1076" y="1080"/>
                      </a:lnTo>
                      <a:lnTo>
                        <a:pt x="1076" y="1068"/>
                      </a:lnTo>
                      <a:lnTo>
                        <a:pt x="1076" y="1022"/>
                      </a:lnTo>
                      <a:lnTo>
                        <a:pt x="1066" y="994"/>
                      </a:lnTo>
                      <a:lnTo>
                        <a:pt x="1068" y="972"/>
                      </a:lnTo>
                      <a:lnTo>
                        <a:pt x="1062" y="908"/>
                      </a:lnTo>
                      <a:lnTo>
                        <a:pt x="1062" y="908"/>
                      </a:lnTo>
                      <a:lnTo>
                        <a:pt x="1074" y="926"/>
                      </a:lnTo>
                      <a:lnTo>
                        <a:pt x="1088" y="942"/>
                      </a:lnTo>
                      <a:lnTo>
                        <a:pt x="1100" y="954"/>
                      </a:lnTo>
                      <a:lnTo>
                        <a:pt x="1106" y="958"/>
                      </a:lnTo>
                      <a:lnTo>
                        <a:pt x="1112" y="960"/>
                      </a:lnTo>
                      <a:lnTo>
                        <a:pt x="1112" y="960"/>
                      </a:lnTo>
                      <a:lnTo>
                        <a:pt x="1114" y="960"/>
                      </a:lnTo>
                      <a:lnTo>
                        <a:pt x="1116" y="964"/>
                      </a:lnTo>
                      <a:lnTo>
                        <a:pt x="1122" y="974"/>
                      </a:lnTo>
                      <a:lnTo>
                        <a:pt x="1128" y="992"/>
                      </a:lnTo>
                      <a:lnTo>
                        <a:pt x="1134" y="1014"/>
                      </a:lnTo>
                      <a:lnTo>
                        <a:pt x="1148" y="1070"/>
                      </a:lnTo>
                      <a:lnTo>
                        <a:pt x="1160" y="1136"/>
                      </a:lnTo>
                      <a:lnTo>
                        <a:pt x="1184" y="1266"/>
                      </a:lnTo>
                      <a:lnTo>
                        <a:pt x="1198" y="1342"/>
                      </a:lnTo>
                      <a:lnTo>
                        <a:pt x="1198" y="1342"/>
                      </a:lnTo>
                      <a:lnTo>
                        <a:pt x="1202" y="1356"/>
                      </a:lnTo>
                      <a:lnTo>
                        <a:pt x="1208" y="1374"/>
                      </a:lnTo>
                      <a:lnTo>
                        <a:pt x="1226" y="1410"/>
                      </a:lnTo>
                      <a:lnTo>
                        <a:pt x="1248" y="1446"/>
                      </a:lnTo>
                      <a:lnTo>
                        <a:pt x="1268" y="1476"/>
                      </a:lnTo>
                      <a:lnTo>
                        <a:pt x="1268" y="1476"/>
                      </a:lnTo>
                      <a:lnTo>
                        <a:pt x="1286" y="1500"/>
                      </a:lnTo>
                      <a:lnTo>
                        <a:pt x="1304" y="1520"/>
                      </a:lnTo>
                      <a:lnTo>
                        <a:pt x="1326" y="1538"/>
                      </a:lnTo>
                      <a:lnTo>
                        <a:pt x="1326" y="1538"/>
                      </a:lnTo>
                      <a:lnTo>
                        <a:pt x="1340" y="1562"/>
                      </a:lnTo>
                      <a:lnTo>
                        <a:pt x="1354" y="1578"/>
                      </a:lnTo>
                      <a:lnTo>
                        <a:pt x="1360" y="1582"/>
                      </a:lnTo>
                      <a:lnTo>
                        <a:pt x="1366" y="1586"/>
                      </a:lnTo>
                      <a:lnTo>
                        <a:pt x="1366" y="1586"/>
                      </a:lnTo>
                      <a:lnTo>
                        <a:pt x="1374" y="1588"/>
                      </a:lnTo>
                      <a:lnTo>
                        <a:pt x="1380" y="1590"/>
                      </a:lnTo>
                      <a:lnTo>
                        <a:pt x="1390" y="1598"/>
                      </a:lnTo>
                      <a:lnTo>
                        <a:pt x="1402" y="1610"/>
                      </a:lnTo>
                      <a:lnTo>
                        <a:pt x="1398" y="1640"/>
                      </a:lnTo>
                      <a:lnTo>
                        <a:pt x="1480" y="1732"/>
                      </a:lnTo>
                      <a:lnTo>
                        <a:pt x="1480" y="1732"/>
                      </a:lnTo>
                      <a:lnTo>
                        <a:pt x="1484" y="1734"/>
                      </a:lnTo>
                      <a:lnTo>
                        <a:pt x="1494" y="1738"/>
                      </a:lnTo>
                      <a:lnTo>
                        <a:pt x="1500" y="1738"/>
                      </a:lnTo>
                      <a:lnTo>
                        <a:pt x="1506" y="1738"/>
                      </a:lnTo>
                      <a:lnTo>
                        <a:pt x="1512" y="1736"/>
                      </a:lnTo>
                      <a:lnTo>
                        <a:pt x="1516" y="1732"/>
                      </a:lnTo>
                      <a:lnTo>
                        <a:pt x="1516" y="1732"/>
                      </a:lnTo>
                      <a:lnTo>
                        <a:pt x="1518" y="1724"/>
                      </a:lnTo>
                      <a:lnTo>
                        <a:pt x="1520" y="1716"/>
                      </a:lnTo>
                      <a:lnTo>
                        <a:pt x="1522" y="1698"/>
                      </a:lnTo>
                      <a:lnTo>
                        <a:pt x="1520" y="1676"/>
                      </a:lnTo>
                      <a:lnTo>
                        <a:pt x="1516" y="1652"/>
                      </a:lnTo>
                      <a:lnTo>
                        <a:pt x="1516" y="1652"/>
                      </a:lnTo>
                      <a:lnTo>
                        <a:pt x="1508" y="1632"/>
                      </a:lnTo>
                      <a:lnTo>
                        <a:pt x="1500" y="1616"/>
                      </a:lnTo>
                      <a:lnTo>
                        <a:pt x="1490" y="1602"/>
                      </a:lnTo>
                      <a:lnTo>
                        <a:pt x="1490" y="1602"/>
                      </a:lnTo>
                      <a:lnTo>
                        <a:pt x="1486" y="1596"/>
                      </a:lnTo>
                      <a:lnTo>
                        <a:pt x="1476" y="1580"/>
                      </a:lnTo>
                      <a:lnTo>
                        <a:pt x="1456" y="1558"/>
                      </a:lnTo>
                      <a:lnTo>
                        <a:pt x="1442" y="1544"/>
                      </a:lnTo>
                      <a:lnTo>
                        <a:pt x="1424" y="1528"/>
                      </a:lnTo>
                      <a:lnTo>
                        <a:pt x="1424" y="1528"/>
                      </a:lnTo>
                      <a:lnTo>
                        <a:pt x="1416" y="1518"/>
                      </a:lnTo>
                      <a:lnTo>
                        <a:pt x="1408" y="1508"/>
                      </a:lnTo>
                      <a:lnTo>
                        <a:pt x="1402" y="1498"/>
                      </a:lnTo>
                      <a:lnTo>
                        <a:pt x="1396" y="1486"/>
                      </a:lnTo>
                      <a:lnTo>
                        <a:pt x="1386" y="1464"/>
                      </a:lnTo>
                      <a:lnTo>
                        <a:pt x="1382" y="1442"/>
                      </a:lnTo>
                      <a:lnTo>
                        <a:pt x="1378" y="1420"/>
                      </a:lnTo>
                      <a:lnTo>
                        <a:pt x="1376" y="1404"/>
                      </a:lnTo>
                      <a:lnTo>
                        <a:pt x="1376" y="1388"/>
                      </a:lnTo>
                      <a:lnTo>
                        <a:pt x="1376" y="1388"/>
                      </a:lnTo>
                      <a:lnTo>
                        <a:pt x="1378" y="1374"/>
                      </a:lnTo>
                      <a:lnTo>
                        <a:pt x="1382" y="1340"/>
                      </a:lnTo>
                      <a:lnTo>
                        <a:pt x="1386" y="1322"/>
                      </a:lnTo>
                      <a:lnTo>
                        <a:pt x="1392" y="1306"/>
                      </a:lnTo>
                      <a:lnTo>
                        <a:pt x="1396" y="1300"/>
                      </a:lnTo>
                      <a:lnTo>
                        <a:pt x="1400" y="1294"/>
                      </a:lnTo>
                      <a:lnTo>
                        <a:pt x="1406" y="1290"/>
                      </a:lnTo>
                      <a:lnTo>
                        <a:pt x="1410" y="1288"/>
                      </a:lnTo>
                      <a:lnTo>
                        <a:pt x="1410" y="1288"/>
                      </a:lnTo>
                      <a:lnTo>
                        <a:pt x="1422" y="1284"/>
                      </a:lnTo>
                      <a:lnTo>
                        <a:pt x="1432" y="1278"/>
                      </a:lnTo>
                      <a:lnTo>
                        <a:pt x="1442" y="1268"/>
                      </a:lnTo>
                      <a:lnTo>
                        <a:pt x="1450" y="1256"/>
                      </a:lnTo>
                      <a:lnTo>
                        <a:pt x="1460" y="1236"/>
                      </a:lnTo>
                      <a:lnTo>
                        <a:pt x="1464" y="1228"/>
                      </a:lnTo>
                      <a:lnTo>
                        <a:pt x="1464" y="1228"/>
                      </a:lnTo>
                      <a:lnTo>
                        <a:pt x="1464" y="1222"/>
                      </a:lnTo>
                      <a:lnTo>
                        <a:pt x="1464" y="1214"/>
                      </a:lnTo>
                      <a:lnTo>
                        <a:pt x="1466" y="1204"/>
                      </a:lnTo>
                      <a:lnTo>
                        <a:pt x="1470" y="1194"/>
                      </a:lnTo>
                      <a:lnTo>
                        <a:pt x="1478" y="1184"/>
                      </a:lnTo>
                      <a:lnTo>
                        <a:pt x="1490" y="1174"/>
                      </a:lnTo>
                      <a:lnTo>
                        <a:pt x="1508" y="1166"/>
                      </a:lnTo>
                      <a:lnTo>
                        <a:pt x="1508" y="1166"/>
                      </a:lnTo>
                      <a:lnTo>
                        <a:pt x="1518" y="1160"/>
                      </a:lnTo>
                      <a:lnTo>
                        <a:pt x="1528" y="1152"/>
                      </a:lnTo>
                      <a:lnTo>
                        <a:pt x="1538" y="1142"/>
                      </a:lnTo>
                      <a:lnTo>
                        <a:pt x="1548" y="1130"/>
                      </a:lnTo>
                      <a:lnTo>
                        <a:pt x="1564" y="1102"/>
                      </a:lnTo>
                      <a:lnTo>
                        <a:pt x="1580" y="1074"/>
                      </a:lnTo>
                      <a:lnTo>
                        <a:pt x="1592" y="1044"/>
                      </a:lnTo>
                      <a:lnTo>
                        <a:pt x="1600" y="1020"/>
                      </a:lnTo>
                      <a:lnTo>
                        <a:pt x="1608" y="996"/>
                      </a:lnTo>
                      <a:lnTo>
                        <a:pt x="1618" y="962"/>
                      </a:lnTo>
                      <a:lnTo>
                        <a:pt x="1618" y="962"/>
                      </a:lnTo>
                      <a:lnTo>
                        <a:pt x="1620" y="962"/>
                      </a:lnTo>
                      <a:lnTo>
                        <a:pt x="1622" y="962"/>
                      </a:lnTo>
                      <a:lnTo>
                        <a:pt x="1626" y="958"/>
                      </a:lnTo>
                      <a:lnTo>
                        <a:pt x="1624" y="952"/>
                      </a:lnTo>
                      <a:lnTo>
                        <a:pt x="1614" y="938"/>
                      </a:lnTo>
                      <a:lnTo>
                        <a:pt x="1596" y="918"/>
                      </a:lnTo>
                      <a:lnTo>
                        <a:pt x="1566" y="890"/>
                      </a:lnTo>
                      <a:lnTo>
                        <a:pt x="1520" y="850"/>
                      </a:lnTo>
                      <a:lnTo>
                        <a:pt x="1520" y="850"/>
                      </a:lnTo>
                      <a:lnTo>
                        <a:pt x="1496" y="832"/>
                      </a:lnTo>
                      <a:lnTo>
                        <a:pt x="1470" y="814"/>
                      </a:lnTo>
                      <a:lnTo>
                        <a:pt x="1440" y="796"/>
                      </a:lnTo>
                      <a:lnTo>
                        <a:pt x="1410" y="780"/>
                      </a:lnTo>
                      <a:lnTo>
                        <a:pt x="1412" y="778"/>
                      </a:lnTo>
                      <a:lnTo>
                        <a:pt x="1454" y="772"/>
                      </a:lnTo>
                      <a:lnTo>
                        <a:pt x="1522" y="768"/>
                      </a:lnTo>
                      <a:lnTo>
                        <a:pt x="1570" y="768"/>
                      </a:lnTo>
                      <a:lnTo>
                        <a:pt x="1624" y="768"/>
                      </a:lnTo>
                      <a:lnTo>
                        <a:pt x="1674" y="760"/>
                      </a:lnTo>
                      <a:lnTo>
                        <a:pt x="1674" y="760"/>
                      </a:lnTo>
                      <a:lnTo>
                        <a:pt x="1694" y="752"/>
                      </a:lnTo>
                      <a:lnTo>
                        <a:pt x="1710" y="744"/>
                      </a:lnTo>
                      <a:lnTo>
                        <a:pt x="1718" y="740"/>
                      </a:lnTo>
                      <a:lnTo>
                        <a:pt x="1722" y="734"/>
                      </a:lnTo>
                      <a:lnTo>
                        <a:pt x="1722" y="734"/>
                      </a:lnTo>
                      <a:lnTo>
                        <a:pt x="1734" y="712"/>
                      </a:lnTo>
                      <a:lnTo>
                        <a:pt x="1744" y="698"/>
                      </a:lnTo>
                      <a:lnTo>
                        <a:pt x="1760" y="678"/>
                      </a:lnTo>
                      <a:lnTo>
                        <a:pt x="1760" y="678"/>
                      </a:lnTo>
                      <a:lnTo>
                        <a:pt x="1774" y="656"/>
                      </a:lnTo>
                      <a:lnTo>
                        <a:pt x="1782" y="642"/>
                      </a:lnTo>
                      <a:lnTo>
                        <a:pt x="1786" y="632"/>
                      </a:lnTo>
                      <a:lnTo>
                        <a:pt x="1788" y="628"/>
                      </a:lnTo>
                      <a:lnTo>
                        <a:pt x="1788" y="628"/>
                      </a:lnTo>
                      <a:lnTo>
                        <a:pt x="1792" y="612"/>
                      </a:lnTo>
                      <a:lnTo>
                        <a:pt x="1796" y="598"/>
                      </a:lnTo>
                      <a:lnTo>
                        <a:pt x="1798" y="594"/>
                      </a:lnTo>
                      <a:lnTo>
                        <a:pt x="1802" y="590"/>
                      </a:lnTo>
                      <a:lnTo>
                        <a:pt x="1802" y="590"/>
                      </a:lnTo>
                      <a:lnTo>
                        <a:pt x="1806" y="586"/>
                      </a:lnTo>
                      <a:lnTo>
                        <a:pt x="1810" y="580"/>
                      </a:lnTo>
                      <a:lnTo>
                        <a:pt x="1820" y="562"/>
                      </a:lnTo>
                      <a:lnTo>
                        <a:pt x="1824" y="552"/>
                      </a:lnTo>
                      <a:lnTo>
                        <a:pt x="1826" y="542"/>
                      </a:lnTo>
                      <a:lnTo>
                        <a:pt x="1826" y="532"/>
                      </a:lnTo>
                      <a:lnTo>
                        <a:pt x="1822" y="526"/>
                      </a:lnTo>
                      <a:lnTo>
                        <a:pt x="1822" y="526"/>
                      </a:lnTo>
                      <a:lnTo>
                        <a:pt x="1820" y="518"/>
                      </a:lnTo>
                      <a:lnTo>
                        <a:pt x="1820" y="512"/>
                      </a:lnTo>
                      <a:lnTo>
                        <a:pt x="1820" y="506"/>
                      </a:lnTo>
                      <a:lnTo>
                        <a:pt x="1824" y="498"/>
                      </a:lnTo>
                      <a:lnTo>
                        <a:pt x="1828" y="488"/>
                      </a:lnTo>
                      <a:lnTo>
                        <a:pt x="1832" y="484"/>
                      </a:lnTo>
                      <a:lnTo>
                        <a:pt x="1832" y="484"/>
                      </a:lnTo>
                      <a:lnTo>
                        <a:pt x="1842" y="474"/>
                      </a:lnTo>
                      <a:lnTo>
                        <a:pt x="1850" y="466"/>
                      </a:lnTo>
                      <a:lnTo>
                        <a:pt x="1850" y="462"/>
                      </a:lnTo>
                      <a:lnTo>
                        <a:pt x="1848" y="458"/>
                      </a:lnTo>
                      <a:lnTo>
                        <a:pt x="1848" y="458"/>
                      </a:lnTo>
                      <a:lnTo>
                        <a:pt x="1846" y="452"/>
                      </a:lnTo>
                      <a:lnTo>
                        <a:pt x="1846" y="446"/>
                      </a:lnTo>
                      <a:lnTo>
                        <a:pt x="1848" y="428"/>
                      </a:lnTo>
                      <a:lnTo>
                        <a:pt x="1852" y="404"/>
                      </a:lnTo>
                      <a:lnTo>
                        <a:pt x="1852" y="404"/>
                      </a:lnTo>
                      <a:lnTo>
                        <a:pt x="1868" y="384"/>
                      </a:lnTo>
                      <a:lnTo>
                        <a:pt x="1880" y="370"/>
                      </a:lnTo>
                      <a:lnTo>
                        <a:pt x="1882" y="364"/>
                      </a:lnTo>
                      <a:lnTo>
                        <a:pt x="1884" y="358"/>
                      </a:lnTo>
                      <a:lnTo>
                        <a:pt x="1884" y="358"/>
                      </a:lnTo>
                      <a:lnTo>
                        <a:pt x="1888" y="348"/>
                      </a:lnTo>
                      <a:lnTo>
                        <a:pt x="1896" y="332"/>
                      </a:lnTo>
                      <a:lnTo>
                        <a:pt x="1910" y="318"/>
                      </a:lnTo>
                      <a:lnTo>
                        <a:pt x="1916" y="312"/>
                      </a:lnTo>
                      <a:lnTo>
                        <a:pt x="1924" y="308"/>
                      </a:lnTo>
                      <a:lnTo>
                        <a:pt x="1924" y="308"/>
                      </a:lnTo>
                      <a:lnTo>
                        <a:pt x="1930" y="302"/>
                      </a:lnTo>
                      <a:lnTo>
                        <a:pt x="1936" y="298"/>
                      </a:lnTo>
                      <a:lnTo>
                        <a:pt x="1946" y="286"/>
                      </a:lnTo>
                      <a:lnTo>
                        <a:pt x="1956" y="272"/>
                      </a:lnTo>
                      <a:lnTo>
                        <a:pt x="1956" y="272"/>
                      </a:lnTo>
                      <a:lnTo>
                        <a:pt x="1960" y="258"/>
                      </a:lnTo>
                      <a:lnTo>
                        <a:pt x="1966" y="246"/>
                      </a:lnTo>
                      <a:lnTo>
                        <a:pt x="1970" y="242"/>
                      </a:lnTo>
                      <a:lnTo>
                        <a:pt x="1974" y="240"/>
                      </a:lnTo>
                      <a:lnTo>
                        <a:pt x="1974" y="240"/>
                      </a:lnTo>
                      <a:lnTo>
                        <a:pt x="1980" y="236"/>
                      </a:lnTo>
                      <a:lnTo>
                        <a:pt x="1984" y="232"/>
                      </a:lnTo>
                      <a:lnTo>
                        <a:pt x="1994" y="218"/>
                      </a:lnTo>
                      <a:lnTo>
                        <a:pt x="2006" y="202"/>
                      </a:lnTo>
                      <a:lnTo>
                        <a:pt x="2028" y="156"/>
                      </a:lnTo>
                      <a:lnTo>
                        <a:pt x="2038" y="114"/>
                      </a:lnTo>
                      <a:lnTo>
                        <a:pt x="2036" y="78"/>
                      </a:lnTo>
                      <a:close/>
                      <a:moveTo>
                        <a:pt x="1014" y="582"/>
                      </a:moveTo>
                      <a:lnTo>
                        <a:pt x="1014" y="584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lnTo>
                        <a:pt x="1014" y="58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134"/>
              <p:cNvGrpSpPr/>
              <p:nvPr/>
            </p:nvGrpSpPr>
            <p:grpSpPr>
              <a:xfrm>
                <a:off x="6854760" y="5524920"/>
                <a:ext cx="1110960" cy="1304640"/>
                <a:chOff x="6854760" y="5524920"/>
                <a:chExt cx="1110960" cy="1304640"/>
              </a:xfrm>
            </p:grpSpPr>
            <p:sp>
              <p:nvSpPr>
                <p:cNvPr id="237" name="Freeform 80"/>
                <p:cNvSpPr/>
                <p:nvPr/>
              </p:nvSpPr>
              <p:spPr>
                <a:xfrm rot="1992000">
                  <a:off x="7714800" y="5525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472" h="47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82"/>
                <p:cNvSpPr/>
                <p:nvPr/>
              </p:nvSpPr>
              <p:spPr>
                <a:xfrm rot="592800">
                  <a:off x="6916680" y="5941080"/>
                  <a:ext cx="986760" cy="809640"/>
                </a:xfrm>
                <a:custGeom>
                  <a:avLst/>
                  <a:gdLst>
                    <a:gd name="textAreaLeft" fmla="*/ 0 w 986760"/>
                    <a:gd name="textAreaRight" fmla="*/ 987120 w 986760"/>
                    <a:gd name="textAreaTop" fmla="*/ 0 h 809640"/>
                    <a:gd name="textAreaBottom" fmla="*/ 810000 h 809640"/>
                  </a:gdLst>
                  <a:ahLst/>
                  <a:rect l="textAreaLeft" t="textAreaTop" r="textAreaRight" b="textAreaBottom"/>
                  <a:pathLst>
                    <a:path w="2090" h="1714">
                      <a:moveTo>
                        <a:pt x="2088" y="78"/>
                      </a:moveTo>
                      <a:lnTo>
                        <a:pt x="2070" y="44"/>
                      </a:lnTo>
                      <a:lnTo>
                        <a:pt x="2028" y="16"/>
                      </a:lnTo>
                      <a:lnTo>
                        <a:pt x="1964" y="4"/>
                      </a:lnTo>
                      <a:lnTo>
                        <a:pt x="1896" y="0"/>
                      </a:lnTo>
                      <a:lnTo>
                        <a:pt x="1896" y="0"/>
                      </a:lnTo>
                      <a:lnTo>
                        <a:pt x="1876" y="2"/>
                      </a:lnTo>
                      <a:lnTo>
                        <a:pt x="1852" y="4"/>
                      </a:lnTo>
                      <a:lnTo>
                        <a:pt x="1822" y="10"/>
                      </a:lnTo>
                      <a:lnTo>
                        <a:pt x="1784" y="18"/>
                      </a:lnTo>
                      <a:lnTo>
                        <a:pt x="1740" y="30"/>
                      </a:lnTo>
                      <a:lnTo>
                        <a:pt x="1694" y="46"/>
                      </a:lnTo>
                      <a:lnTo>
                        <a:pt x="1642" y="66"/>
                      </a:lnTo>
                      <a:lnTo>
                        <a:pt x="1642" y="66"/>
                      </a:lnTo>
                      <a:lnTo>
                        <a:pt x="1592" y="92"/>
                      </a:lnTo>
                      <a:lnTo>
                        <a:pt x="1544" y="118"/>
                      </a:lnTo>
                      <a:lnTo>
                        <a:pt x="1498" y="148"/>
                      </a:lnTo>
                      <a:lnTo>
                        <a:pt x="1454" y="180"/>
                      </a:lnTo>
                      <a:lnTo>
                        <a:pt x="1410" y="216"/>
                      </a:lnTo>
                      <a:lnTo>
                        <a:pt x="1368" y="254"/>
                      </a:lnTo>
                      <a:lnTo>
                        <a:pt x="1328" y="296"/>
                      </a:lnTo>
                      <a:lnTo>
                        <a:pt x="1286" y="342"/>
                      </a:lnTo>
                      <a:lnTo>
                        <a:pt x="1286" y="342"/>
                      </a:lnTo>
                      <a:lnTo>
                        <a:pt x="1254" y="380"/>
                      </a:lnTo>
                      <a:lnTo>
                        <a:pt x="1224" y="420"/>
                      </a:lnTo>
                      <a:lnTo>
                        <a:pt x="1196" y="462"/>
                      </a:lnTo>
                      <a:lnTo>
                        <a:pt x="1170" y="504"/>
                      </a:lnTo>
                      <a:lnTo>
                        <a:pt x="1124" y="578"/>
                      </a:lnTo>
                      <a:lnTo>
                        <a:pt x="1096" y="632"/>
                      </a:lnTo>
                      <a:lnTo>
                        <a:pt x="1096" y="632"/>
                      </a:lnTo>
                      <a:lnTo>
                        <a:pt x="1092" y="622"/>
                      </a:lnTo>
                      <a:lnTo>
                        <a:pt x="1082" y="608"/>
                      </a:lnTo>
                      <a:lnTo>
                        <a:pt x="1082" y="608"/>
                      </a:lnTo>
                      <a:lnTo>
                        <a:pt x="1086" y="600"/>
                      </a:lnTo>
                      <a:lnTo>
                        <a:pt x="1088" y="592"/>
                      </a:lnTo>
                      <a:lnTo>
                        <a:pt x="1088" y="592"/>
                      </a:lnTo>
                      <a:lnTo>
                        <a:pt x="1086" y="584"/>
                      </a:lnTo>
                      <a:lnTo>
                        <a:pt x="1082" y="576"/>
                      </a:lnTo>
                      <a:lnTo>
                        <a:pt x="1074" y="572"/>
                      </a:lnTo>
                      <a:lnTo>
                        <a:pt x="1066" y="570"/>
                      </a:lnTo>
                      <a:lnTo>
                        <a:pt x="1066" y="570"/>
                      </a:lnTo>
                      <a:lnTo>
                        <a:pt x="1064" y="570"/>
                      </a:lnTo>
                      <a:lnTo>
                        <a:pt x="1066" y="564"/>
                      </a:lnTo>
                      <a:lnTo>
                        <a:pt x="1060" y="564"/>
                      </a:lnTo>
                      <a:lnTo>
                        <a:pt x="1056" y="564"/>
                      </a:lnTo>
                      <a:lnTo>
                        <a:pt x="1056" y="564"/>
                      </a:lnTo>
                      <a:lnTo>
                        <a:pt x="1050" y="558"/>
                      </a:lnTo>
                      <a:lnTo>
                        <a:pt x="1048" y="560"/>
                      </a:lnTo>
                      <a:lnTo>
                        <a:pt x="1048" y="558"/>
                      </a:lnTo>
                      <a:lnTo>
                        <a:pt x="1044" y="562"/>
                      </a:lnTo>
                      <a:lnTo>
                        <a:pt x="1038" y="560"/>
                      </a:lnTo>
                      <a:lnTo>
                        <a:pt x="1038" y="564"/>
                      </a:lnTo>
                      <a:lnTo>
                        <a:pt x="1034" y="564"/>
                      </a:lnTo>
                      <a:lnTo>
                        <a:pt x="1030" y="564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34" y="572"/>
                      </a:lnTo>
                      <a:lnTo>
                        <a:pt x="1026" y="570"/>
                      </a:lnTo>
                      <a:lnTo>
                        <a:pt x="1026" y="570"/>
                      </a:lnTo>
                      <a:lnTo>
                        <a:pt x="1016" y="572"/>
                      </a:lnTo>
                      <a:lnTo>
                        <a:pt x="1010" y="576"/>
                      </a:lnTo>
                      <a:lnTo>
                        <a:pt x="1004" y="584"/>
                      </a:lnTo>
                      <a:lnTo>
                        <a:pt x="1004" y="592"/>
                      </a:lnTo>
                      <a:lnTo>
                        <a:pt x="1004" y="592"/>
                      </a:lnTo>
                      <a:lnTo>
                        <a:pt x="1004" y="598"/>
                      </a:lnTo>
                      <a:lnTo>
                        <a:pt x="1008" y="604"/>
                      </a:lnTo>
                      <a:lnTo>
                        <a:pt x="1008" y="604"/>
                      </a:lnTo>
                      <a:lnTo>
                        <a:pt x="998" y="618"/>
                      </a:lnTo>
                      <a:lnTo>
                        <a:pt x="992" y="628"/>
                      </a:lnTo>
                      <a:lnTo>
                        <a:pt x="992" y="628"/>
                      </a:lnTo>
                      <a:lnTo>
                        <a:pt x="962" y="574"/>
                      </a:lnTo>
                      <a:lnTo>
                        <a:pt x="918" y="500"/>
                      </a:lnTo>
                      <a:lnTo>
                        <a:pt x="892" y="460"/>
                      </a:lnTo>
                      <a:lnTo>
                        <a:pt x="864" y="420"/>
                      </a:lnTo>
                      <a:lnTo>
                        <a:pt x="834" y="378"/>
                      </a:lnTo>
                      <a:lnTo>
                        <a:pt x="802" y="342"/>
                      </a:lnTo>
                      <a:lnTo>
                        <a:pt x="802" y="342"/>
                      </a:lnTo>
                      <a:lnTo>
                        <a:pt x="762" y="296"/>
                      </a:lnTo>
                      <a:lnTo>
                        <a:pt x="720" y="254"/>
                      </a:lnTo>
                      <a:lnTo>
                        <a:pt x="680" y="216"/>
                      </a:lnTo>
                      <a:lnTo>
                        <a:pt x="636" y="180"/>
                      </a:lnTo>
                      <a:lnTo>
                        <a:pt x="592" y="148"/>
                      </a:lnTo>
                      <a:lnTo>
                        <a:pt x="546" y="118"/>
                      </a:lnTo>
                      <a:lnTo>
                        <a:pt x="498" y="92"/>
                      </a:lnTo>
                      <a:lnTo>
                        <a:pt x="448" y="66"/>
                      </a:lnTo>
                      <a:lnTo>
                        <a:pt x="448" y="66"/>
                      </a:lnTo>
                      <a:lnTo>
                        <a:pt x="396" y="46"/>
                      </a:lnTo>
                      <a:lnTo>
                        <a:pt x="348" y="30"/>
                      </a:lnTo>
                      <a:lnTo>
                        <a:pt x="306" y="18"/>
                      </a:lnTo>
                      <a:lnTo>
                        <a:pt x="268" y="10"/>
                      </a:lnTo>
                      <a:lnTo>
                        <a:pt x="238" y="4"/>
                      </a:lnTo>
                      <a:lnTo>
                        <a:pt x="214" y="2"/>
                      </a:lnTo>
                      <a:lnTo>
                        <a:pt x="194" y="0"/>
                      </a:lnTo>
                      <a:lnTo>
                        <a:pt x="126" y="4"/>
                      </a:lnTo>
                      <a:lnTo>
                        <a:pt x="62" y="16"/>
                      </a:lnTo>
                      <a:lnTo>
                        <a:pt x="20" y="44"/>
                      </a:lnTo>
                      <a:lnTo>
                        <a:pt x="2" y="78"/>
                      </a:lnTo>
                      <a:lnTo>
                        <a:pt x="0" y="112"/>
                      </a:lnTo>
                      <a:lnTo>
                        <a:pt x="12" y="154"/>
                      </a:lnTo>
                      <a:lnTo>
                        <a:pt x="34" y="198"/>
                      </a:lnTo>
                      <a:lnTo>
                        <a:pt x="34" y="198"/>
                      </a:lnTo>
                      <a:lnTo>
                        <a:pt x="44" y="214"/>
                      </a:lnTo>
                      <a:lnTo>
                        <a:pt x="56" y="226"/>
                      </a:lnTo>
                      <a:lnTo>
                        <a:pt x="60" y="232"/>
                      </a:lnTo>
                      <a:lnTo>
                        <a:pt x="66" y="234"/>
                      </a:lnTo>
                      <a:lnTo>
                        <a:pt x="66" y="234"/>
                      </a:lnTo>
                      <a:lnTo>
                        <a:pt x="70" y="236"/>
                      </a:lnTo>
                      <a:lnTo>
                        <a:pt x="74" y="240"/>
                      </a:lnTo>
                      <a:lnTo>
                        <a:pt x="80" y="252"/>
                      </a:lnTo>
                      <a:lnTo>
                        <a:pt x="86" y="264"/>
                      </a:lnTo>
                      <a:lnTo>
                        <a:pt x="86" y="264"/>
                      </a:lnTo>
                      <a:lnTo>
                        <a:pt x="94" y="278"/>
                      </a:lnTo>
                      <a:lnTo>
                        <a:pt x="104" y="290"/>
                      </a:lnTo>
                      <a:lnTo>
                        <a:pt x="112" y="296"/>
                      </a:lnTo>
                      <a:lnTo>
                        <a:pt x="118" y="300"/>
                      </a:lnTo>
                      <a:lnTo>
                        <a:pt x="118" y="300"/>
                      </a:lnTo>
                      <a:lnTo>
                        <a:pt x="126" y="304"/>
                      </a:lnTo>
                      <a:lnTo>
                        <a:pt x="132" y="310"/>
                      </a:lnTo>
                      <a:lnTo>
                        <a:pt x="146" y="324"/>
                      </a:lnTo>
                      <a:lnTo>
                        <a:pt x="156" y="340"/>
                      </a:lnTo>
                      <a:lnTo>
                        <a:pt x="160" y="350"/>
                      </a:lnTo>
                      <a:lnTo>
                        <a:pt x="160" y="350"/>
                      </a:lnTo>
                      <a:lnTo>
                        <a:pt x="160" y="354"/>
                      </a:lnTo>
                      <a:lnTo>
                        <a:pt x="164" y="360"/>
                      </a:lnTo>
                      <a:lnTo>
                        <a:pt x="176" y="374"/>
                      </a:lnTo>
                      <a:lnTo>
                        <a:pt x="192" y="394"/>
                      </a:lnTo>
                      <a:lnTo>
                        <a:pt x="192" y="394"/>
                      </a:lnTo>
                      <a:lnTo>
                        <a:pt x="198" y="416"/>
                      </a:lnTo>
                      <a:lnTo>
                        <a:pt x="200" y="434"/>
                      </a:lnTo>
                      <a:lnTo>
                        <a:pt x="198" y="442"/>
                      </a:lnTo>
                      <a:lnTo>
                        <a:pt x="196" y="446"/>
                      </a:lnTo>
                      <a:lnTo>
                        <a:pt x="196" y="446"/>
                      </a:lnTo>
                      <a:lnTo>
                        <a:pt x="194" y="450"/>
                      </a:lnTo>
                      <a:lnTo>
                        <a:pt x="196" y="454"/>
                      </a:lnTo>
                      <a:lnTo>
                        <a:pt x="202" y="462"/>
                      </a:lnTo>
                      <a:lnTo>
                        <a:pt x="214" y="472"/>
                      </a:lnTo>
                      <a:lnTo>
                        <a:pt x="214" y="472"/>
                      </a:lnTo>
                      <a:lnTo>
                        <a:pt x="216" y="476"/>
                      </a:lnTo>
                      <a:lnTo>
                        <a:pt x="222" y="486"/>
                      </a:lnTo>
                      <a:lnTo>
                        <a:pt x="224" y="492"/>
                      </a:lnTo>
                      <a:lnTo>
                        <a:pt x="226" y="498"/>
                      </a:lnTo>
                      <a:lnTo>
                        <a:pt x="226" y="506"/>
                      </a:lnTo>
                      <a:lnTo>
                        <a:pt x="222" y="512"/>
                      </a:lnTo>
                      <a:lnTo>
                        <a:pt x="222" y="512"/>
                      </a:lnTo>
                      <a:lnTo>
                        <a:pt x="220" y="518"/>
                      </a:lnTo>
                      <a:lnTo>
                        <a:pt x="220" y="526"/>
                      </a:lnTo>
                      <a:lnTo>
                        <a:pt x="222" y="536"/>
                      </a:lnTo>
                      <a:lnTo>
                        <a:pt x="226" y="546"/>
                      </a:lnTo>
                      <a:lnTo>
                        <a:pt x="236" y="564"/>
                      </a:lnTo>
                      <a:lnTo>
                        <a:pt x="240" y="572"/>
                      </a:lnTo>
                      <a:lnTo>
                        <a:pt x="244" y="574"/>
                      </a:lnTo>
                      <a:lnTo>
                        <a:pt x="244" y="574"/>
                      </a:lnTo>
                      <a:lnTo>
                        <a:pt x="248" y="578"/>
                      </a:lnTo>
                      <a:lnTo>
                        <a:pt x="250" y="582"/>
                      </a:lnTo>
                      <a:lnTo>
                        <a:pt x="256" y="594"/>
                      </a:lnTo>
                      <a:lnTo>
                        <a:pt x="260" y="612"/>
                      </a:lnTo>
                      <a:lnTo>
                        <a:pt x="260" y="612"/>
                      </a:lnTo>
                      <a:lnTo>
                        <a:pt x="260" y="614"/>
                      </a:lnTo>
                      <a:lnTo>
                        <a:pt x="264" y="624"/>
                      </a:lnTo>
                      <a:lnTo>
                        <a:pt x="272" y="640"/>
                      </a:lnTo>
                      <a:lnTo>
                        <a:pt x="288" y="660"/>
                      </a:lnTo>
                      <a:lnTo>
                        <a:pt x="288" y="660"/>
                      </a:lnTo>
                      <a:lnTo>
                        <a:pt x="304" y="680"/>
                      </a:lnTo>
                      <a:lnTo>
                        <a:pt x="314" y="694"/>
                      </a:lnTo>
                      <a:lnTo>
                        <a:pt x="328" y="714"/>
                      </a:lnTo>
                      <a:lnTo>
                        <a:pt x="328" y="714"/>
                      </a:lnTo>
                      <a:lnTo>
                        <a:pt x="332" y="718"/>
                      </a:lnTo>
                      <a:lnTo>
                        <a:pt x="338" y="724"/>
                      </a:lnTo>
                      <a:lnTo>
                        <a:pt x="356" y="732"/>
                      </a:lnTo>
                      <a:lnTo>
                        <a:pt x="378" y="740"/>
                      </a:lnTo>
                      <a:lnTo>
                        <a:pt x="430" y="746"/>
                      </a:lnTo>
                      <a:lnTo>
                        <a:pt x="484" y="746"/>
                      </a:lnTo>
                      <a:lnTo>
                        <a:pt x="534" y="746"/>
                      </a:lnTo>
                      <a:lnTo>
                        <a:pt x="604" y="752"/>
                      </a:lnTo>
                      <a:lnTo>
                        <a:pt x="622" y="754"/>
                      </a:lnTo>
                      <a:lnTo>
                        <a:pt x="622" y="754"/>
                      </a:lnTo>
                      <a:lnTo>
                        <a:pt x="562" y="790"/>
                      </a:lnTo>
                      <a:lnTo>
                        <a:pt x="518" y="820"/>
                      </a:lnTo>
                      <a:lnTo>
                        <a:pt x="488" y="842"/>
                      </a:lnTo>
                      <a:lnTo>
                        <a:pt x="470" y="858"/>
                      </a:lnTo>
                      <a:lnTo>
                        <a:pt x="462" y="868"/>
                      </a:lnTo>
                      <a:lnTo>
                        <a:pt x="458" y="874"/>
                      </a:lnTo>
                      <a:lnTo>
                        <a:pt x="458" y="876"/>
                      </a:lnTo>
                      <a:lnTo>
                        <a:pt x="458" y="878"/>
                      </a:lnTo>
                      <a:lnTo>
                        <a:pt x="384" y="988"/>
                      </a:lnTo>
                      <a:lnTo>
                        <a:pt x="388" y="1004"/>
                      </a:lnTo>
                      <a:lnTo>
                        <a:pt x="384" y="1022"/>
                      </a:lnTo>
                      <a:lnTo>
                        <a:pt x="366" y="1052"/>
                      </a:lnTo>
                      <a:lnTo>
                        <a:pt x="354" y="1078"/>
                      </a:lnTo>
                      <a:lnTo>
                        <a:pt x="342" y="1124"/>
                      </a:lnTo>
                      <a:lnTo>
                        <a:pt x="342" y="1124"/>
                      </a:lnTo>
                      <a:lnTo>
                        <a:pt x="342" y="1130"/>
                      </a:lnTo>
                      <a:lnTo>
                        <a:pt x="344" y="1142"/>
                      </a:lnTo>
                      <a:lnTo>
                        <a:pt x="348" y="1148"/>
                      </a:lnTo>
                      <a:lnTo>
                        <a:pt x="350" y="1156"/>
                      </a:lnTo>
                      <a:lnTo>
                        <a:pt x="356" y="1162"/>
                      </a:lnTo>
                      <a:lnTo>
                        <a:pt x="364" y="1166"/>
                      </a:lnTo>
                      <a:lnTo>
                        <a:pt x="364" y="1166"/>
                      </a:lnTo>
                      <a:lnTo>
                        <a:pt x="372" y="1170"/>
                      </a:lnTo>
                      <a:lnTo>
                        <a:pt x="376" y="1176"/>
                      </a:lnTo>
                      <a:lnTo>
                        <a:pt x="380" y="1184"/>
                      </a:lnTo>
                      <a:lnTo>
                        <a:pt x="382" y="1192"/>
                      </a:lnTo>
                      <a:lnTo>
                        <a:pt x="380" y="1206"/>
                      </a:lnTo>
                      <a:lnTo>
                        <a:pt x="380" y="1212"/>
                      </a:lnTo>
                      <a:lnTo>
                        <a:pt x="382" y="1244"/>
                      </a:lnTo>
                      <a:lnTo>
                        <a:pt x="382" y="1244"/>
                      </a:lnTo>
                      <a:lnTo>
                        <a:pt x="384" y="1248"/>
                      </a:lnTo>
                      <a:lnTo>
                        <a:pt x="392" y="1258"/>
                      </a:lnTo>
                      <a:lnTo>
                        <a:pt x="398" y="1264"/>
                      </a:lnTo>
                      <a:lnTo>
                        <a:pt x="406" y="1268"/>
                      </a:lnTo>
                      <a:lnTo>
                        <a:pt x="416" y="1272"/>
                      </a:lnTo>
                      <a:lnTo>
                        <a:pt x="428" y="1272"/>
                      </a:lnTo>
                      <a:lnTo>
                        <a:pt x="428" y="1272"/>
                      </a:lnTo>
                      <a:lnTo>
                        <a:pt x="440" y="1274"/>
                      </a:lnTo>
                      <a:lnTo>
                        <a:pt x="448" y="1280"/>
                      </a:lnTo>
                      <a:lnTo>
                        <a:pt x="452" y="1286"/>
                      </a:lnTo>
                      <a:lnTo>
                        <a:pt x="456" y="1294"/>
                      </a:lnTo>
                      <a:lnTo>
                        <a:pt x="458" y="1310"/>
                      </a:lnTo>
                      <a:lnTo>
                        <a:pt x="458" y="1316"/>
                      </a:lnTo>
                      <a:lnTo>
                        <a:pt x="458" y="1316"/>
                      </a:lnTo>
                      <a:lnTo>
                        <a:pt x="456" y="1338"/>
                      </a:lnTo>
                      <a:lnTo>
                        <a:pt x="458" y="1354"/>
                      </a:lnTo>
                      <a:lnTo>
                        <a:pt x="458" y="1360"/>
                      </a:lnTo>
                      <a:lnTo>
                        <a:pt x="460" y="1364"/>
                      </a:lnTo>
                      <a:lnTo>
                        <a:pt x="460" y="1364"/>
                      </a:lnTo>
                      <a:lnTo>
                        <a:pt x="468" y="1374"/>
                      </a:lnTo>
                      <a:lnTo>
                        <a:pt x="474" y="1378"/>
                      </a:lnTo>
                      <a:lnTo>
                        <a:pt x="486" y="1380"/>
                      </a:lnTo>
                      <a:lnTo>
                        <a:pt x="486" y="1380"/>
                      </a:lnTo>
                      <a:lnTo>
                        <a:pt x="502" y="1380"/>
                      </a:lnTo>
                      <a:lnTo>
                        <a:pt x="514" y="1384"/>
                      </a:lnTo>
                      <a:lnTo>
                        <a:pt x="522" y="1390"/>
                      </a:lnTo>
                      <a:lnTo>
                        <a:pt x="526" y="1394"/>
                      </a:lnTo>
                      <a:lnTo>
                        <a:pt x="526" y="1396"/>
                      </a:lnTo>
                      <a:lnTo>
                        <a:pt x="526" y="1396"/>
                      </a:lnTo>
                      <a:lnTo>
                        <a:pt x="526" y="1400"/>
                      </a:lnTo>
                      <a:lnTo>
                        <a:pt x="530" y="1404"/>
                      </a:lnTo>
                      <a:lnTo>
                        <a:pt x="532" y="1408"/>
                      </a:lnTo>
                      <a:lnTo>
                        <a:pt x="534" y="1414"/>
                      </a:lnTo>
                      <a:lnTo>
                        <a:pt x="536" y="1422"/>
                      </a:lnTo>
                      <a:lnTo>
                        <a:pt x="536" y="1432"/>
                      </a:lnTo>
                      <a:lnTo>
                        <a:pt x="532" y="1446"/>
                      </a:lnTo>
                      <a:lnTo>
                        <a:pt x="524" y="1462"/>
                      </a:lnTo>
                      <a:lnTo>
                        <a:pt x="524" y="1462"/>
                      </a:lnTo>
                      <a:lnTo>
                        <a:pt x="492" y="1522"/>
                      </a:lnTo>
                      <a:lnTo>
                        <a:pt x="478" y="1540"/>
                      </a:lnTo>
                      <a:lnTo>
                        <a:pt x="472" y="1546"/>
                      </a:lnTo>
                      <a:lnTo>
                        <a:pt x="466" y="1550"/>
                      </a:lnTo>
                      <a:lnTo>
                        <a:pt x="466" y="1550"/>
                      </a:lnTo>
                      <a:lnTo>
                        <a:pt x="460" y="1554"/>
                      </a:lnTo>
                      <a:lnTo>
                        <a:pt x="454" y="1560"/>
                      </a:lnTo>
                      <a:lnTo>
                        <a:pt x="440" y="1578"/>
                      </a:lnTo>
                      <a:lnTo>
                        <a:pt x="424" y="1604"/>
                      </a:lnTo>
                      <a:lnTo>
                        <a:pt x="424" y="1604"/>
                      </a:lnTo>
                      <a:lnTo>
                        <a:pt x="420" y="1614"/>
                      </a:lnTo>
                      <a:lnTo>
                        <a:pt x="412" y="1636"/>
                      </a:lnTo>
                      <a:lnTo>
                        <a:pt x="410" y="1650"/>
                      </a:lnTo>
                      <a:lnTo>
                        <a:pt x="408" y="1666"/>
                      </a:lnTo>
                      <a:lnTo>
                        <a:pt x="410" y="1680"/>
                      </a:lnTo>
                      <a:lnTo>
                        <a:pt x="414" y="1686"/>
                      </a:lnTo>
                      <a:lnTo>
                        <a:pt x="416" y="1692"/>
                      </a:lnTo>
                      <a:lnTo>
                        <a:pt x="416" y="1692"/>
                      </a:lnTo>
                      <a:lnTo>
                        <a:pt x="426" y="1702"/>
                      </a:lnTo>
                      <a:lnTo>
                        <a:pt x="438" y="1710"/>
                      </a:lnTo>
                      <a:lnTo>
                        <a:pt x="450" y="1714"/>
                      </a:lnTo>
                      <a:lnTo>
                        <a:pt x="456" y="1714"/>
                      </a:lnTo>
                      <a:lnTo>
                        <a:pt x="464" y="1714"/>
                      </a:lnTo>
                      <a:lnTo>
                        <a:pt x="470" y="1712"/>
                      </a:lnTo>
                      <a:lnTo>
                        <a:pt x="478" y="1710"/>
                      </a:lnTo>
                      <a:lnTo>
                        <a:pt x="486" y="1704"/>
                      </a:lnTo>
                      <a:lnTo>
                        <a:pt x="492" y="1698"/>
                      </a:lnTo>
                      <a:lnTo>
                        <a:pt x="500" y="1690"/>
                      </a:lnTo>
                      <a:lnTo>
                        <a:pt x="508" y="1678"/>
                      </a:lnTo>
                      <a:lnTo>
                        <a:pt x="514" y="1666"/>
                      </a:lnTo>
                      <a:lnTo>
                        <a:pt x="522" y="1650"/>
                      </a:lnTo>
                      <a:lnTo>
                        <a:pt x="522" y="1650"/>
                      </a:lnTo>
                      <a:lnTo>
                        <a:pt x="548" y="1592"/>
                      </a:lnTo>
                      <a:lnTo>
                        <a:pt x="568" y="1554"/>
                      </a:lnTo>
                      <a:lnTo>
                        <a:pt x="582" y="1532"/>
                      </a:lnTo>
                      <a:lnTo>
                        <a:pt x="586" y="1526"/>
                      </a:lnTo>
                      <a:lnTo>
                        <a:pt x="586" y="1526"/>
                      </a:lnTo>
                      <a:lnTo>
                        <a:pt x="590" y="1522"/>
                      </a:lnTo>
                      <a:lnTo>
                        <a:pt x="594" y="1518"/>
                      </a:lnTo>
                      <a:lnTo>
                        <a:pt x="600" y="1516"/>
                      </a:lnTo>
                      <a:lnTo>
                        <a:pt x="608" y="1514"/>
                      </a:lnTo>
                      <a:lnTo>
                        <a:pt x="620" y="1514"/>
                      </a:lnTo>
                      <a:lnTo>
                        <a:pt x="632" y="1516"/>
                      </a:lnTo>
                      <a:lnTo>
                        <a:pt x="648" y="1520"/>
                      </a:lnTo>
                      <a:lnTo>
                        <a:pt x="648" y="1520"/>
                      </a:lnTo>
                      <a:lnTo>
                        <a:pt x="662" y="1528"/>
                      </a:lnTo>
                      <a:lnTo>
                        <a:pt x="668" y="1532"/>
                      </a:lnTo>
                      <a:lnTo>
                        <a:pt x="670" y="1536"/>
                      </a:lnTo>
                      <a:lnTo>
                        <a:pt x="668" y="1536"/>
                      </a:lnTo>
                      <a:lnTo>
                        <a:pt x="664" y="1538"/>
                      </a:lnTo>
                      <a:lnTo>
                        <a:pt x="670" y="1538"/>
                      </a:lnTo>
                      <a:lnTo>
                        <a:pt x="670" y="1538"/>
                      </a:lnTo>
                      <a:lnTo>
                        <a:pt x="682" y="1536"/>
                      </a:lnTo>
                      <a:lnTo>
                        <a:pt x="692" y="1532"/>
                      </a:lnTo>
                      <a:lnTo>
                        <a:pt x="700" y="1528"/>
                      </a:lnTo>
                      <a:lnTo>
                        <a:pt x="700" y="1528"/>
                      </a:lnTo>
                      <a:lnTo>
                        <a:pt x="708" y="1522"/>
                      </a:lnTo>
                      <a:lnTo>
                        <a:pt x="716" y="1518"/>
                      </a:lnTo>
                      <a:lnTo>
                        <a:pt x="724" y="1516"/>
                      </a:lnTo>
                      <a:lnTo>
                        <a:pt x="724" y="1516"/>
                      </a:lnTo>
                      <a:lnTo>
                        <a:pt x="734" y="1518"/>
                      </a:lnTo>
                      <a:lnTo>
                        <a:pt x="744" y="1522"/>
                      </a:lnTo>
                      <a:lnTo>
                        <a:pt x="754" y="1528"/>
                      </a:lnTo>
                      <a:lnTo>
                        <a:pt x="754" y="1528"/>
                      </a:lnTo>
                      <a:lnTo>
                        <a:pt x="758" y="1530"/>
                      </a:lnTo>
                      <a:lnTo>
                        <a:pt x="768" y="1532"/>
                      </a:lnTo>
                      <a:lnTo>
                        <a:pt x="774" y="1532"/>
                      </a:lnTo>
                      <a:lnTo>
                        <a:pt x="780" y="1532"/>
                      </a:lnTo>
                      <a:lnTo>
                        <a:pt x="786" y="1528"/>
                      </a:lnTo>
                      <a:lnTo>
                        <a:pt x="794" y="1520"/>
                      </a:lnTo>
                      <a:lnTo>
                        <a:pt x="794" y="1520"/>
                      </a:lnTo>
                      <a:lnTo>
                        <a:pt x="800" y="1512"/>
                      </a:lnTo>
                      <a:lnTo>
                        <a:pt x="806" y="1500"/>
                      </a:lnTo>
                      <a:lnTo>
                        <a:pt x="812" y="1478"/>
                      </a:lnTo>
                      <a:lnTo>
                        <a:pt x="816" y="1458"/>
                      </a:lnTo>
                      <a:lnTo>
                        <a:pt x="816" y="1452"/>
                      </a:lnTo>
                      <a:lnTo>
                        <a:pt x="840" y="1406"/>
                      </a:lnTo>
                      <a:lnTo>
                        <a:pt x="844" y="1388"/>
                      </a:lnTo>
                      <a:lnTo>
                        <a:pt x="870" y="1386"/>
                      </a:lnTo>
                      <a:lnTo>
                        <a:pt x="894" y="1318"/>
                      </a:lnTo>
                      <a:lnTo>
                        <a:pt x="922" y="1204"/>
                      </a:lnTo>
                      <a:lnTo>
                        <a:pt x="952" y="1056"/>
                      </a:lnTo>
                      <a:lnTo>
                        <a:pt x="970" y="942"/>
                      </a:lnTo>
                      <a:lnTo>
                        <a:pt x="970" y="942"/>
                      </a:lnTo>
                      <a:lnTo>
                        <a:pt x="974" y="940"/>
                      </a:lnTo>
                      <a:lnTo>
                        <a:pt x="978" y="928"/>
                      </a:lnTo>
                      <a:lnTo>
                        <a:pt x="984" y="908"/>
                      </a:lnTo>
                      <a:lnTo>
                        <a:pt x="986" y="894"/>
                      </a:lnTo>
                      <a:lnTo>
                        <a:pt x="988" y="880"/>
                      </a:lnTo>
                      <a:lnTo>
                        <a:pt x="988" y="880"/>
                      </a:lnTo>
                      <a:lnTo>
                        <a:pt x="990" y="866"/>
                      </a:lnTo>
                      <a:lnTo>
                        <a:pt x="994" y="858"/>
                      </a:lnTo>
                      <a:lnTo>
                        <a:pt x="1000" y="856"/>
                      </a:lnTo>
                      <a:lnTo>
                        <a:pt x="1004" y="854"/>
                      </a:lnTo>
                      <a:lnTo>
                        <a:pt x="1004" y="880"/>
                      </a:lnTo>
                      <a:lnTo>
                        <a:pt x="996" y="942"/>
                      </a:lnTo>
                      <a:lnTo>
                        <a:pt x="998" y="962"/>
                      </a:lnTo>
                      <a:lnTo>
                        <a:pt x="990" y="990"/>
                      </a:lnTo>
                      <a:lnTo>
                        <a:pt x="990" y="1034"/>
                      </a:lnTo>
                      <a:lnTo>
                        <a:pt x="990" y="1046"/>
                      </a:lnTo>
                      <a:lnTo>
                        <a:pt x="990" y="1108"/>
                      </a:lnTo>
                      <a:lnTo>
                        <a:pt x="998" y="1112"/>
                      </a:lnTo>
                      <a:lnTo>
                        <a:pt x="998" y="1122"/>
                      </a:lnTo>
                      <a:lnTo>
                        <a:pt x="990" y="1130"/>
                      </a:lnTo>
                      <a:lnTo>
                        <a:pt x="992" y="1160"/>
                      </a:lnTo>
                      <a:lnTo>
                        <a:pt x="992" y="1208"/>
                      </a:lnTo>
                      <a:lnTo>
                        <a:pt x="1010" y="1248"/>
                      </a:lnTo>
                      <a:lnTo>
                        <a:pt x="1040" y="1274"/>
                      </a:lnTo>
                      <a:lnTo>
                        <a:pt x="1044" y="1246"/>
                      </a:lnTo>
                      <a:lnTo>
                        <a:pt x="1048" y="1274"/>
                      </a:lnTo>
                      <a:lnTo>
                        <a:pt x="1078" y="1248"/>
                      </a:lnTo>
                      <a:lnTo>
                        <a:pt x="1096" y="1208"/>
                      </a:lnTo>
                      <a:lnTo>
                        <a:pt x="1096" y="1160"/>
                      </a:lnTo>
                      <a:lnTo>
                        <a:pt x="1098" y="1130"/>
                      </a:lnTo>
                      <a:lnTo>
                        <a:pt x="1088" y="1122"/>
                      </a:lnTo>
                      <a:lnTo>
                        <a:pt x="1088" y="1112"/>
                      </a:lnTo>
                      <a:lnTo>
                        <a:pt x="1098" y="1108"/>
                      </a:lnTo>
                      <a:lnTo>
                        <a:pt x="1098" y="1046"/>
                      </a:lnTo>
                      <a:lnTo>
                        <a:pt x="1098" y="1034"/>
                      </a:lnTo>
                      <a:lnTo>
                        <a:pt x="1098" y="990"/>
                      </a:lnTo>
                      <a:lnTo>
                        <a:pt x="1088" y="962"/>
                      </a:lnTo>
                      <a:lnTo>
                        <a:pt x="1090" y="942"/>
                      </a:lnTo>
                      <a:lnTo>
                        <a:pt x="1084" y="880"/>
                      </a:lnTo>
                      <a:lnTo>
                        <a:pt x="1082" y="856"/>
                      </a:lnTo>
                      <a:lnTo>
                        <a:pt x="1082" y="856"/>
                      </a:lnTo>
                      <a:lnTo>
                        <a:pt x="1088" y="854"/>
                      </a:lnTo>
                      <a:lnTo>
                        <a:pt x="1094" y="858"/>
                      </a:lnTo>
                      <a:lnTo>
                        <a:pt x="1100" y="866"/>
                      </a:lnTo>
                      <a:lnTo>
                        <a:pt x="1102" y="880"/>
                      </a:lnTo>
                      <a:lnTo>
                        <a:pt x="1102" y="880"/>
                      </a:lnTo>
                      <a:lnTo>
                        <a:pt x="1102" y="894"/>
                      </a:lnTo>
                      <a:lnTo>
                        <a:pt x="1106" y="908"/>
                      </a:lnTo>
                      <a:lnTo>
                        <a:pt x="1112" y="928"/>
                      </a:lnTo>
                      <a:lnTo>
                        <a:pt x="1116" y="940"/>
                      </a:lnTo>
                      <a:lnTo>
                        <a:pt x="1120" y="942"/>
                      </a:lnTo>
                      <a:lnTo>
                        <a:pt x="1138" y="1056"/>
                      </a:lnTo>
                      <a:lnTo>
                        <a:pt x="1168" y="1204"/>
                      </a:lnTo>
                      <a:lnTo>
                        <a:pt x="1196" y="1318"/>
                      </a:lnTo>
                      <a:lnTo>
                        <a:pt x="1220" y="1386"/>
                      </a:lnTo>
                      <a:lnTo>
                        <a:pt x="1246" y="1388"/>
                      </a:lnTo>
                      <a:lnTo>
                        <a:pt x="1250" y="1406"/>
                      </a:lnTo>
                      <a:lnTo>
                        <a:pt x="1274" y="1452"/>
                      </a:lnTo>
                      <a:lnTo>
                        <a:pt x="1274" y="1452"/>
                      </a:lnTo>
                      <a:lnTo>
                        <a:pt x="1274" y="1458"/>
                      </a:lnTo>
                      <a:lnTo>
                        <a:pt x="1278" y="1478"/>
                      </a:lnTo>
                      <a:lnTo>
                        <a:pt x="1284" y="1500"/>
                      </a:lnTo>
                      <a:lnTo>
                        <a:pt x="1290" y="1512"/>
                      </a:lnTo>
                      <a:lnTo>
                        <a:pt x="1296" y="1520"/>
                      </a:lnTo>
                      <a:lnTo>
                        <a:pt x="1296" y="1520"/>
                      </a:lnTo>
                      <a:lnTo>
                        <a:pt x="1304" y="1528"/>
                      </a:lnTo>
                      <a:lnTo>
                        <a:pt x="1310" y="1532"/>
                      </a:lnTo>
                      <a:lnTo>
                        <a:pt x="1316" y="1532"/>
                      </a:lnTo>
                      <a:lnTo>
                        <a:pt x="1322" y="1532"/>
                      </a:lnTo>
                      <a:lnTo>
                        <a:pt x="1332" y="1530"/>
                      </a:lnTo>
                      <a:lnTo>
                        <a:pt x="1334" y="1528"/>
                      </a:lnTo>
                      <a:lnTo>
                        <a:pt x="1334" y="1528"/>
                      </a:lnTo>
                      <a:lnTo>
                        <a:pt x="1346" y="1522"/>
                      </a:lnTo>
                      <a:lnTo>
                        <a:pt x="1356" y="1518"/>
                      </a:lnTo>
                      <a:lnTo>
                        <a:pt x="1366" y="1516"/>
                      </a:lnTo>
                      <a:lnTo>
                        <a:pt x="1366" y="1516"/>
                      </a:lnTo>
                      <a:lnTo>
                        <a:pt x="1374" y="1518"/>
                      </a:lnTo>
                      <a:lnTo>
                        <a:pt x="1382" y="1522"/>
                      </a:lnTo>
                      <a:lnTo>
                        <a:pt x="1390" y="1528"/>
                      </a:lnTo>
                      <a:lnTo>
                        <a:pt x="1390" y="1528"/>
                      </a:lnTo>
                      <a:lnTo>
                        <a:pt x="1398" y="1532"/>
                      </a:lnTo>
                      <a:lnTo>
                        <a:pt x="1406" y="1536"/>
                      </a:lnTo>
                      <a:lnTo>
                        <a:pt x="1420" y="1538"/>
                      </a:lnTo>
                      <a:lnTo>
                        <a:pt x="1420" y="1538"/>
                      </a:lnTo>
                      <a:lnTo>
                        <a:pt x="1426" y="1538"/>
                      </a:lnTo>
                      <a:lnTo>
                        <a:pt x="1422" y="1536"/>
                      </a:lnTo>
                      <a:lnTo>
                        <a:pt x="1420" y="1536"/>
                      </a:lnTo>
                      <a:lnTo>
                        <a:pt x="1422" y="1532"/>
                      </a:lnTo>
                      <a:lnTo>
                        <a:pt x="1428" y="1528"/>
                      </a:lnTo>
                      <a:lnTo>
                        <a:pt x="1442" y="1520"/>
                      </a:lnTo>
                      <a:lnTo>
                        <a:pt x="1442" y="1520"/>
                      </a:lnTo>
                      <a:lnTo>
                        <a:pt x="1458" y="1516"/>
                      </a:lnTo>
                      <a:lnTo>
                        <a:pt x="1470" y="1514"/>
                      </a:lnTo>
                      <a:lnTo>
                        <a:pt x="1482" y="1514"/>
                      </a:lnTo>
                      <a:lnTo>
                        <a:pt x="1490" y="1516"/>
                      </a:lnTo>
                      <a:lnTo>
                        <a:pt x="1496" y="1518"/>
                      </a:lnTo>
                      <a:lnTo>
                        <a:pt x="1500" y="1522"/>
                      </a:lnTo>
                      <a:lnTo>
                        <a:pt x="1502" y="1526"/>
                      </a:lnTo>
                      <a:lnTo>
                        <a:pt x="1502" y="1526"/>
                      </a:lnTo>
                      <a:lnTo>
                        <a:pt x="1508" y="1532"/>
                      </a:lnTo>
                      <a:lnTo>
                        <a:pt x="1522" y="1554"/>
                      </a:lnTo>
                      <a:lnTo>
                        <a:pt x="1542" y="1592"/>
                      </a:lnTo>
                      <a:lnTo>
                        <a:pt x="1568" y="1650"/>
                      </a:lnTo>
                      <a:lnTo>
                        <a:pt x="1568" y="1650"/>
                      </a:lnTo>
                      <a:lnTo>
                        <a:pt x="1576" y="1666"/>
                      </a:lnTo>
                      <a:lnTo>
                        <a:pt x="1582" y="1678"/>
                      </a:lnTo>
                      <a:lnTo>
                        <a:pt x="1590" y="1690"/>
                      </a:lnTo>
                      <a:lnTo>
                        <a:pt x="1598" y="1698"/>
                      </a:lnTo>
                      <a:lnTo>
                        <a:pt x="1604" y="1704"/>
                      </a:lnTo>
                      <a:lnTo>
                        <a:pt x="1612" y="1710"/>
                      </a:lnTo>
                      <a:lnTo>
                        <a:pt x="1620" y="1712"/>
                      </a:lnTo>
                      <a:lnTo>
                        <a:pt x="1626" y="1714"/>
                      </a:lnTo>
                      <a:lnTo>
                        <a:pt x="1634" y="1714"/>
                      </a:lnTo>
                      <a:lnTo>
                        <a:pt x="1640" y="1714"/>
                      </a:lnTo>
                      <a:lnTo>
                        <a:pt x="1652" y="1710"/>
                      </a:lnTo>
                      <a:lnTo>
                        <a:pt x="1664" y="1702"/>
                      </a:lnTo>
                      <a:lnTo>
                        <a:pt x="1672" y="1692"/>
                      </a:lnTo>
                      <a:lnTo>
                        <a:pt x="1672" y="1692"/>
                      </a:lnTo>
                      <a:lnTo>
                        <a:pt x="1676" y="1686"/>
                      </a:lnTo>
                      <a:lnTo>
                        <a:pt x="1678" y="1680"/>
                      </a:lnTo>
                      <a:lnTo>
                        <a:pt x="1682" y="1666"/>
                      </a:lnTo>
                      <a:lnTo>
                        <a:pt x="1680" y="1650"/>
                      </a:lnTo>
                      <a:lnTo>
                        <a:pt x="1678" y="1636"/>
                      </a:lnTo>
                      <a:lnTo>
                        <a:pt x="1670" y="1614"/>
                      </a:lnTo>
                      <a:lnTo>
                        <a:pt x="1666" y="1604"/>
                      </a:lnTo>
                      <a:lnTo>
                        <a:pt x="1666" y="1604"/>
                      </a:lnTo>
                      <a:lnTo>
                        <a:pt x="1650" y="1578"/>
                      </a:lnTo>
                      <a:lnTo>
                        <a:pt x="1636" y="1560"/>
                      </a:lnTo>
                      <a:lnTo>
                        <a:pt x="1630" y="1554"/>
                      </a:lnTo>
                      <a:lnTo>
                        <a:pt x="1622" y="1550"/>
                      </a:lnTo>
                      <a:lnTo>
                        <a:pt x="1622" y="1550"/>
                      </a:lnTo>
                      <a:lnTo>
                        <a:pt x="1618" y="1546"/>
                      </a:lnTo>
                      <a:lnTo>
                        <a:pt x="1612" y="1540"/>
                      </a:lnTo>
                      <a:lnTo>
                        <a:pt x="1598" y="1522"/>
                      </a:lnTo>
                      <a:lnTo>
                        <a:pt x="1566" y="1462"/>
                      </a:lnTo>
                      <a:lnTo>
                        <a:pt x="1566" y="1462"/>
                      </a:lnTo>
                      <a:lnTo>
                        <a:pt x="1558" y="1446"/>
                      </a:lnTo>
                      <a:lnTo>
                        <a:pt x="1554" y="1432"/>
                      </a:lnTo>
                      <a:lnTo>
                        <a:pt x="1554" y="1422"/>
                      </a:lnTo>
                      <a:lnTo>
                        <a:pt x="1556" y="1414"/>
                      </a:lnTo>
                      <a:lnTo>
                        <a:pt x="1558" y="1408"/>
                      </a:lnTo>
                      <a:lnTo>
                        <a:pt x="1560" y="1404"/>
                      </a:lnTo>
                      <a:lnTo>
                        <a:pt x="1562" y="1400"/>
                      </a:lnTo>
                      <a:lnTo>
                        <a:pt x="1564" y="1396"/>
                      </a:lnTo>
                      <a:lnTo>
                        <a:pt x="1564" y="1396"/>
                      </a:lnTo>
                      <a:lnTo>
                        <a:pt x="1564" y="1394"/>
                      </a:lnTo>
                      <a:lnTo>
                        <a:pt x="1566" y="1390"/>
                      </a:lnTo>
                      <a:lnTo>
                        <a:pt x="1576" y="1384"/>
                      </a:lnTo>
                      <a:lnTo>
                        <a:pt x="1588" y="1380"/>
                      </a:lnTo>
                      <a:lnTo>
                        <a:pt x="1604" y="1380"/>
                      </a:lnTo>
                      <a:lnTo>
                        <a:pt x="1604" y="1380"/>
                      </a:lnTo>
                      <a:lnTo>
                        <a:pt x="1616" y="1378"/>
                      </a:lnTo>
                      <a:lnTo>
                        <a:pt x="1622" y="1374"/>
                      </a:lnTo>
                      <a:lnTo>
                        <a:pt x="1630" y="1364"/>
                      </a:lnTo>
                      <a:lnTo>
                        <a:pt x="1630" y="1364"/>
                      </a:lnTo>
                      <a:lnTo>
                        <a:pt x="1632" y="1360"/>
                      </a:lnTo>
                      <a:lnTo>
                        <a:pt x="1632" y="1354"/>
                      </a:lnTo>
                      <a:lnTo>
                        <a:pt x="1632" y="1338"/>
                      </a:lnTo>
                      <a:lnTo>
                        <a:pt x="1632" y="1316"/>
                      </a:lnTo>
                      <a:lnTo>
                        <a:pt x="1632" y="1316"/>
                      </a:lnTo>
                      <a:lnTo>
                        <a:pt x="1632" y="1310"/>
                      </a:lnTo>
                      <a:lnTo>
                        <a:pt x="1634" y="1294"/>
                      </a:lnTo>
                      <a:lnTo>
                        <a:pt x="1638" y="1286"/>
                      </a:lnTo>
                      <a:lnTo>
                        <a:pt x="1642" y="1280"/>
                      </a:lnTo>
                      <a:lnTo>
                        <a:pt x="1650" y="1274"/>
                      </a:lnTo>
                      <a:lnTo>
                        <a:pt x="1662" y="1272"/>
                      </a:lnTo>
                      <a:lnTo>
                        <a:pt x="1662" y="1272"/>
                      </a:lnTo>
                      <a:lnTo>
                        <a:pt x="1674" y="1272"/>
                      </a:lnTo>
                      <a:lnTo>
                        <a:pt x="1684" y="1268"/>
                      </a:lnTo>
                      <a:lnTo>
                        <a:pt x="1692" y="1264"/>
                      </a:lnTo>
                      <a:lnTo>
                        <a:pt x="1698" y="1258"/>
                      </a:lnTo>
                      <a:lnTo>
                        <a:pt x="1706" y="1248"/>
                      </a:lnTo>
                      <a:lnTo>
                        <a:pt x="1708" y="1244"/>
                      </a:lnTo>
                      <a:lnTo>
                        <a:pt x="1710" y="1212"/>
                      </a:lnTo>
                      <a:lnTo>
                        <a:pt x="1710" y="1212"/>
                      </a:lnTo>
                      <a:lnTo>
                        <a:pt x="1710" y="1206"/>
                      </a:lnTo>
                      <a:lnTo>
                        <a:pt x="1708" y="1192"/>
                      </a:lnTo>
                      <a:lnTo>
                        <a:pt x="1710" y="1184"/>
                      </a:lnTo>
                      <a:lnTo>
                        <a:pt x="1712" y="1176"/>
                      </a:lnTo>
                      <a:lnTo>
                        <a:pt x="1718" y="1170"/>
                      </a:lnTo>
                      <a:lnTo>
                        <a:pt x="1726" y="1166"/>
                      </a:lnTo>
                      <a:lnTo>
                        <a:pt x="1726" y="1166"/>
                      </a:lnTo>
                      <a:lnTo>
                        <a:pt x="1734" y="1162"/>
                      </a:lnTo>
                      <a:lnTo>
                        <a:pt x="1738" y="1156"/>
                      </a:lnTo>
                      <a:lnTo>
                        <a:pt x="1742" y="1148"/>
                      </a:lnTo>
                      <a:lnTo>
                        <a:pt x="1746" y="1142"/>
                      </a:lnTo>
                      <a:lnTo>
                        <a:pt x="1748" y="1130"/>
                      </a:lnTo>
                      <a:lnTo>
                        <a:pt x="1748" y="1124"/>
                      </a:lnTo>
                      <a:lnTo>
                        <a:pt x="1736" y="1078"/>
                      </a:lnTo>
                      <a:lnTo>
                        <a:pt x="1724" y="1052"/>
                      </a:lnTo>
                      <a:lnTo>
                        <a:pt x="1706" y="1022"/>
                      </a:lnTo>
                      <a:lnTo>
                        <a:pt x="1702" y="1004"/>
                      </a:lnTo>
                      <a:lnTo>
                        <a:pt x="1706" y="988"/>
                      </a:lnTo>
                      <a:lnTo>
                        <a:pt x="1632" y="878"/>
                      </a:lnTo>
                      <a:lnTo>
                        <a:pt x="1632" y="878"/>
                      </a:lnTo>
                      <a:lnTo>
                        <a:pt x="1632" y="876"/>
                      </a:lnTo>
                      <a:lnTo>
                        <a:pt x="1632" y="874"/>
                      </a:lnTo>
                      <a:lnTo>
                        <a:pt x="1628" y="868"/>
                      </a:lnTo>
                      <a:lnTo>
                        <a:pt x="1620" y="858"/>
                      </a:lnTo>
                      <a:lnTo>
                        <a:pt x="1600" y="842"/>
                      </a:lnTo>
                      <a:lnTo>
                        <a:pt x="1572" y="820"/>
                      </a:lnTo>
                      <a:lnTo>
                        <a:pt x="1528" y="790"/>
                      </a:lnTo>
                      <a:lnTo>
                        <a:pt x="1466" y="754"/>
                      </a:lnTo>
                      <a:lnTo>
                        <a:pt x="1486" y="752"/>
                      </a:lnTo>
                      <a:lnTo>
                        <a:pt x="1556" y="746"/>
                      </a:lnTo>
                      <a:lnTo>
                        <a:pt x="1606" y="746"/>
                      </a:lnTo>
                      <a:lnTo>
                        <a:pt x="1660" y="746"/>
                      </a:lnTo>
                      <a:lnTo>
                        <a:pt x="1712" y="740"/>
                      </a:lnTo>
                      <a:lnTo>
                        <a:pt x="1712" y="740"/>
                      </a:lnTo>
                      <a:lnTo>
                        <a:pt x="1734" y="732"/>
                      </a:lnTo>
                      <a:lnTo>
                        <a:pt x="1750" y="724"/>
                      </a:lnTo>
                      <a:lnTo>
                        <a:pt x="1758" y="718"/>
                      </a:lnTo>
                      <a:lnTo>
                        <a:pt x="1762" y="714"/>
                      </a:lnTo>
                      <a:lnTo>
                        <a:pt x="1762" y="714"/>
                      </a:lnTo>
                      <a:lnTo>
                        <a:pt x="1776" y="694"/>
                      </a:lnTo>
                      <a:lnTo>
                        <a:pt x="1786" y="680"/>
                      </a:lnTo>
                      <a:lnTo>
                        <a:pt x="1802" y="660"/>
                      </a:lnTo>
                      <a:lnTo>
                        <a:pt x="1802" y="660"/>
                      </a:lnTo>
                      <a:lnTo>
                        <a:pt x="1818" y="640"/>
                      </a:lnTo>
                      <a:lnTo>
                        <a:pt x="1826" y="624"/>
                      </a:lnTo>
                      <a:lnTo>
                        <a:pt x="1830" y="614"/>
                      </a:lnTo>
                      <a:lnTo>
                        <a:pt x="1830" y="612"/>
                      </a:lnTo>
                      <a:lnTo>
                        <a:pt x="1830" y="612"/>
                      </a:lnTo>
                      <a:lnTo>
                        <a:pt x="1834" y="594"/>
                      </a:lnTo>
                      <a:lnTo>
                        <a:pt x="1840" y="582"/>
                      </a:lnTo>
                      <a:lnTo>
                        <a:pt x="1842" y="578"/>
                      </a:lnTo>
                      <a:lnTo>
                        <a:pt x="1846" y="574"/>
                      </a:lnTo>
                      <a:lnTo>
                        <a:pt x="1846" y="574"/>
                      </a:lnTo>
                      <a:lnTo>
                        <a:pt x="1850" y="572"/>
                      </a:lnTo>
                      <a:lnTo>
                        <a:pt x="1854" y="564"/>
                      </a:lnTo>
                      <a:lnTo>
                        <a:pt x="1864" y="546"/>
                      </a:lnTo>
                      <a:lnTo>
                        <a:pt x="1868" y="536"/>
                      </a:lnTo>
                      <a:lnTo>
                        <a:pt x="1870" y="526"/>
                      </a:lnTo>
                      <a:lnTo>
                        <a:pt x="1870" y="518"/>
                      </a:lnTo>
                      <a:lnTo>
                        <a:pt x="1868" y="512"/>
                      </a:lnTo>
                      <a:lnTo>
                        <a:pt x="1868" y="512"/>
                      </a:lnTo>
                      <a:lnTo>
                        <a:pt x="1864" y="506"/>
                      </a:lnTo>
                      <a:lnTo>
                        <a:pt x="1864" y="498"/>
                      </a:lnTo>
                      <a:lnTo>
                        <a:pt x="1866" y="492"/>
                      </a:lnTo>
                      <a:lnTo>
                        <a:pt x="1868" y="486"/>
                      </a:lnTo>
                      <a:lnTo>
                        <a:pt x="1872" y="476"/>
                      </a:lnTo>
                      <a:lnTo>
                        <a:pt x="1876" y="472"/>
                      </a:lnTo>
                      <a:lnTo>
                        <a:pt x="1876" y="472"/>
                      </a:lnTo>
                      <a:lnTo>
                        <a:pt x="1888" y="462"/>
                      </a:lnTo>
                      <a:lnTo>
                        <a:pt x="1894" y="454"/>
                      </a:lnTo>
                      <a:lnTo>
                        <a:pt x="1894" y="450"/>
                      </a:lnTo>
                      <a:lnTo>
                        <a:pt x="1894" y="446"/>
                      </a:lnTo>
                      <a:lnTo>
                        <a:pt x="1894" y="446"/>
                      </a:lnTo>
                      <a:lnTo>
                        <a:pt x="1890" y="442"/>
                      </a:lnTo>
                      <a:lnTo>
                        <a:pt x="1890" y="434"/>
                      </a:lnTo>
                      <a:lnTo>
                        <a:pt x="1892" y="416"/>
                      </a:lnTo>
                      <a:lnTo>
                        <a:pt x="1898" y="394"/>
                      </a:lnTo>
                      <a:lnTo>
                        <a:pt x="1898" y="394"/>
                      </a:lnTo>
                      <a:lnTo>
                        <a:pt x="1914" y="374"/>
                      </a:lnTo>
                      <a:lnTo>
                        <a:pt x="1926" y="360"/>
                      </a:lnTo>
                      <a:lnTo>
                        <a:pt x="1928" y="354"/>
                      </a:lnTo>
                      <a:lnTo>
                        <a:pt x="1930" y="350"/>
                      </a:lnTo>
                      <a:lnTo>
                        <a:pt x="1930" y="350"/>
                      </a:lnTo>
                      <a:lnTo>
                        <a:pt x="1934" y="340"/>
                      </a:lnTo>
                      <a:lnTo>
                        <a:pt x="1944" y="324"/>
                      </a:lnTo>
                      <a:lnTo>
                        <a:pt x="1956" y="310"/>
                      </a:lnTo>
                      <a:lnTo>
                        <a:pt x="1964" y="304"/>
                      </a:lnTo>
                      <a:lnTo>
                        <a:pt x="1972" y="300"/>
                      </a:lnTo>
                      <a:lnTo>
                        <a:pt x="1972" y="300"/>
                      </a:lnTo>
                      <a:lnTo>
                        <a:pt x="1978" y="296"/>
                      </a:lnTo>
                      <a:lnTo>
                        <a:pt x="1986" y="290"/>
                      </a:lnTo>
                      <a:lnTo>
                        <a:pt x="1996" y="278"/>
                      </a:lnTo>
                      <a:lnTo>
                        <a:pt x="2004" y="264"/>
                      </a:lnTo>
                      <a:lnTo>
                        <a:pt x="2004" y="264"/>
                      </a:lnTo>
                      <a:lnTo>
                        <a:pt x="2010" y="252"/>
                      </a:lnTo>
                      <a:lnTo>
                        <a:pt x="2016" y="240"/>
                      </a:lnTo>
                      <a:lnTo>
                        <a:pt x="2020" y="236"/>
                      </a:lnTo>
                      <a:lnTo>
                        <a:pt x="2024" y="234"/>
                      </a:lnTo>
                      <a:lnTo>
                        <a:pt x="2024" y="234"/>
                      </a:lnTo>
                      <a:lnTo>
                        <a:pt x="2030" y="232"/>
                      </a:lnTo>
                      <a:lnTo>
                        <a:pt x="2034" y="226"/>
                      </a:lnTo>
                      <a:lnTo>
                        <a:pt x="2046" y="214"/>
                      </a:lnTo>
                      <a:lnTo>
                        <a:pt x="2056" y="198"/>
                      </a:lnTo>
                      <a:lnTo>
                        <a:pt x="2078" y="154"/>
                      </a:lnTo>
                      <a:lnTo>
                        <a:pt x="2090" y="112"/>
                      </a:lnTo>
                      <a:lnTo>
                        <a:pt x="2088" y="78"/>
                      </a:lnTo>
                      <a:close/>
                      <a:moveTo>
                        <a:pt x="1040" y="574"/>
                      </a:move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lnTo>
                        <a:pt x="1040" y="574"/>
                      </a:lnTo>
                      <a:close/>
                    </a:path>
                  </a:pathLst>
                </a:custGeom>
                <a:solidFill>
                  <a:srgbClr val="abcb6a">
                    <a:alpha val="10000"/>
                  </a:srgbClr>
                </a:solidFill>
                <a:ln w="9360">
                  <a:solidFill>
                    <a:srgbClr val="abcb6a">
                      <a:alpha val="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54"/>
              <p:cNvGrpSpPr/>
              <p:nvPr/>
            </p:nvGrpSpPr>
            <p:grpSpPr>
              <a:xfrm>
                <a:off x="6317280" y="1055520"/>
                <a:ext cx="1840320" cy="1753560"/>
                <a:chOff x="6317280" y="1055520"/>
                <a:chExt cx="1840320" cy="1753560"/>
              </a:xfrm>
            </p:grpSpPr>
            <p:sp>
              <p:nvSpPr>
                <p:cNvPr id="240" name="Freeform 72"/>
                <p:cNvSpPr/>
                <p:nvPr/>
              </p:nvSpPr>
              <p:spPr>
                <a:xfrm rot="2047200">
                  <a:off x="7162560" y="158904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3"/>
                <p:cNvSpPr/>
                <p:nvPr/>
              </p:nvSpPr>
              <p:spPr>
                <a:xfrm rot="2047200">
                  <a:off x="7253280" y="19015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674" h="134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47"/>
                      </a:lnTo>
                      <a:lnTo>
                        <a:pt x="0" y="134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4"/>
                <p:cNvSpPr/>
                <p:nvPr/>
              </p:nvSpPr>
              <p:spPr>
                <a:xfrm rot="2047200">
                  <a:off x="7329240" y="1701720"/>
                  <a:ext cx="187200" cy="27792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5"/>
                <p:cNvSpPr/>
                <p:nvPr/>
              </p:nvSpPr>
              <p:spPr>
                <a:xfrm rot="2047200">
                  <a:off x="6508800" y="1366560"/>
                  <a:ext cx="1456920" cy="1131120"/>
                </a:xfrm>
                <a:custGeom>
                  <a:avLst/>
                  <a:gdLst>
                    <a:gd name="textAreaLeft" fmla="*/ 0 w 1456920"/>
                    <a:gd name="textAreaRight" fmla="*/ 1457280 w 1456920"/>
                    <a:gd name="textAreaTop" fmla="*/ 0 h 1131120"/>
                    <a:gd name="textAreaBottom" fmla="*/ 1131480 h 113112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9360">
                  <a:solidFill>
                    <a:srgbClr val="d8f2ab">
                      <a:alpha val="19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64"/>
              <p:cNvGrpSpPr/>
              <p:nvPr/>
            </p:nvGrpSpPr>
            <p:grpSpPr>
              <a:xfrm>
                <a:off x="8125920" y="3738600"/>
                <a:ext cx="1085400" cy="916200"/>
                <a:chOff x="8125920" y="3738600"/>
                <a:chExt cx="1085400" cy="916200"/>
              </a:xfrm>
            </p:grpSpPr>
            <p:sp>
              <p:nvSpPr>
                <p:cNvPr id="245" name="Freeform 72"/>
                <p:cNvSpPr/>
                <p:nvPr/>
              </p:nvSpPr>
              <p:spPr>
                <a:xfrm rot="20119800">
                  <a:off x="8498160" y="40240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78" h="414">
                      <a:moveTo>
                        <a:pt x="276" y="414"/>
                      </a:moveTo>
                      <a:lnTo>
                        <a:pt x="276" y="414"/>
                      </a:lnTo>
                      <a:lnTo>
                        <a:pt x="278" y="414"/>
                      </a:lnTo>
                      <a:lnTo>
                        <a:pt x="278" y="412"/>
                      </a:lnTo>
                      <a:lnTo>
                        <a:pt x="278" y="412"/>
                      </a:lnTo>
                      <a:lnTo>
                        <a:pt x="270" y="396"/>
                      </a:lnTo>
                      <a:lnTo>
                        <a:pt x="54" y="60"/>
                      </a:lnTo>
                      <a:lnTo>
                        <a:pt x="54" y="60"/>
                      </a:lnTo>
                      <a:lnTo>
                        <a:pt x="38" y="32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26" y="14"/>
                      </a:lnTo>
                      <a:lnTo>
                        <a:pt x="14" y="4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22" y="36"/>
                      </a:lnTo>
                      <a:lnTo>
                        <a:pt x="30" y="48"/>
                      </a:lnTo>
                      <a:lnTo>
                        <a:pt x="264" y="402"/>
                      </a:lnTo>
                      <a:lnTo>
                        <a:pt x="264" y="402"/>
                      </a:lnTo>
                      <a:lnTo>
                        <a:pt x="270" y="410"/>
                      </a:lnTo>
                      <a:lnTo>
                        <a:pt x="276" y="414"/>
                      </a:lnTo>
                      <a:lnTo>
                        <a:pt x="276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73"/>
                <p:cNvSpPr/>
                <p:nvPr/>
              </p:nvSpPr>
              <p:spPr>
                <a:xfrm rot="20119800">
                  <a:off x="8656560" y="417636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44" h="88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87"/>
                      </a:lnTo>
                      <a:lnTo>
                        <a:pt x="0" y="88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74"/>
                <p:cNvSpPr/>
                <p:nvPr/>
              </p:nvSpPr>
              <p:spPr>
                <a:xfrm rot="20119800">
                  <a:off x="8618760" y="3968280"/>
                  <a:ext cx="123480" cy="18432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80" h="414">
                      <a:moveTo>
                        <a:pt x="4" y="414"/>
                      </a:moveTo>
                      <a:lnTo>
                        <a:pt x="4" y="414"/>
                      </a:lnTo>
                      <a:lnTo>
                        <a:pt x="8" y="410"/>
                      </a:lnTo>
                      <a:lnTo>
                        <a:pt x="16" y="402"/>
                      </a:lnTo>
                      <a:lnTo>
                        <a:pt x="248" y="48"/>
                      </a:lnTo>
                      <a:lnTo>
                        <a:pt x="248" y="48"/>
                      </a:lnTo>
                      <a:lnTo>
                        <a:pt x="258" y="36"/>
                      </a:lnTo>
                      <a:lnTo>
                        <a:pt x="266" y="28"/>
                      </a:lnTo>
                      <a:lnTo>
                        <a:pt x="266" y="28"/>
                      </a:lnTo>
                      <a:lnTo>
                        <a:pt x="274" y="18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0" y="2"/>
                      </a:lnTo>
                      <a:lnTo>
                        <a:pt x="278" y="0"/>
                      </a:lnTo>
                      <a:lnTo>
                        <a:pt x="274" y="0"/>
                      </a:lnTo>
                      <a:lnTo>
                        <a:pt x="268" y="2"/>
                      </a:lnTo>
                      <a:lnTo>
                        <a:pt x="266" y="4"/>
                      </a:lnTo>
                      <a:lnTo>
                        <a:pt x="266" y="4"/>
                      </a:lnTo>
                      <a:lnTo>
                        <a:pt x="254" y="14"/>
                      </a:lnTo>
                      <a:lnTo>
                        <a:pt x="244" y="28"/>
                      </a:lnTo>
                      <a:lnTo>
                        <a:pt x="240" y="32"/>
                      </a:lnTo>
                      <a:lnTo>
                        <a:pt x="240" y="32"/>
                      </a:lnTo>
                      <a:lnTo>
                        <a:pt x="224" y="60"/>
                      </a:lnTo>
                      <a:lnTo>
                        <a:pt x="10" y="396"/>
                      </a:lnTo>
                      <a:lnTo>
                        <a:pt x="10" y="396"/>
                      </a:lnTo>
                      <a:lnTo>
                        <a:pt x="0" y="412"/>
                      </a:lnTo>
                      <a:lnTo>
                        <a:pt x="0" y="412"/>
                      </a:lnTo>
                      <a:lnTo>
                        <a:pt x="0" y="414"/>
                      </a:lnTo>
                      <a:lnTo>
                        <a:pt x="0" y="414"/>
                      </a:lnTo>
                      <a:lnTo>
                        <a:pt x="4" y="414"/>
                      </a:lnTo>
                      <a:lnTo>
                        <a:pt x="4" y="414"/>
                      </a:lnTo>
                      <a:close/>
                    </a:path>
                  </a:pathLst>
                </a:custGeom>
                <a:solidFill>
                  <a:srgbClr val="d8f2ab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5"/>
                <p:cNvSpPr/>
                <p:nvPr/>
              </p:nvSpPr>
              <p:spPr>
                <a:xfrm rot="20932800">
                  <a:off x="8188560" y="3823920"/>
                  <a:ext cx="959760" cy="74520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745200"/>
                    <a:gd name="textAreaBottom" fmla="*/ 745560 h 745200"/>
                  </a:gdLst>
                  <a:ahLst/>
                  <a:rect l="textAreaLeft" t="textAreaTop" r="textAreaRight" b="textAreaBottom"/>
                  <a:pathLst>
                    <a:path w="2164" h="1680">
                      <a:moveTo>
                        <a:pt x="2162" y="70"/>
                      </a:moveTo>
                      <a:lnTo>
                        <a:pt x="2162" y="70"/>
                      </a:lnTo>
                      <a:lnTo>
                        <a:pt x="2164" y="64"/>
                      </a:lnTo>
                      <a:lnTo>
                        <a:pt x="2164" y="60"/>
                      </a:lnTo>
                      <a:lnTo>
                        <a:pt x="2164" y="52"/>
                      </a:lnTo>
                      <a:lnTo>
                        <a:pt x="2160" y="44"/>
                      </a:lnTo>
                      <a:lnTo>
                        <a:pt x="2156" y="36"/>
                      </a:lnTo>
                      <a:lnTo>
                        <a:pt x="2146" y="28"/>
                      </a:lnTo>
                      <a:lnTo>
                        <a:pt x="2134" y="18"/>
                      </a:lnTo>
                      <a:lnTo>
                        <a:pt x="2134" y="18"/>
                      </a:lnTo>
                      <a:lnTo>
                        <a:pt x="2118" y="12"/>
                      </a:lnTo>
                      <a:lnTo>
                        <a:pt x="2102" y="6"/>
                      </a:lnTo>
                      <a:lnTo>
                        <a:pt x="2086" y="4"/>
                      </a:lnTo>
                      <a:lnTo>
                        <a:pt x="2072" y="2"/>
                      </a:lnTo>
                      <a:lnTo>
                        <a:pt x="2048" y="0"/>
                      </a:lnTo>
                      <a:lnTo>
                        <a:pt x="2038" y="0"/>
                      </a:lnTo>
                      <a:lnTo>
                        <a:pt x="1904" y="40"/>
                      </a:lnTo>
                      <a:lnTo>
                        <a:pt x="1752" y="118"/>
                      </a:lnTo>
                      <a:lnTo>
                        <a:pt x="1598" y="244"/>
                      </a:lnTo>
                      <a:lnTo>
                        <a:pt x="1476" y="370"/>
                      </a:lnTo>
                      <a:lnTo>
                        <a:pt x="1312" y="580"/>
                      </a:lnTo>
                      <a:lnTo>
                        <a:pt x="1216" y="732"/>
                      </a:lnTo>
                      <a:lnTo>
                        <a:pt x="1160" y="836"/>
                      </a:lnTo>
                      <a:lnTo>
                        <a:pt x="1142" y="870"/>
                      </a:lnTo>
                      <a:lnTo>
                        <a:pt x="1142" y="870"/>
                      </a:lnTo>
                      <a:lnTo>
                        <a:pt x="1142" y="860"/>
                      </a:lnTo>
                      <a:lnTo>
                        <a:pt x="1142" y="860"/>
                      </a:lnTo>
                      <a:lnTo>
                        <a:pt x="1142" y="856"/>
                      </a:lnTo>
                      <a:lnTo>
                        <a:pt x="1138" y="848"/>
                      </a:lnTo>
                      <a:lnTo>
                        <a:pt x="1126" y="832"/>
                      </a:lnTo>
                      <a:lnTo>
                        <a:pt x="1126" y="832"/>
                      </a:lnTo>
                      <a:lnTo>
                        <a:pt x="1132" y="822"/>
                      </a:lnTo>
                      <a:lnTo>
                        <a:pt x="1134" y="812"/>
                      </a:lnTo>
                      <a:lnTo>
                        <a:pt x="1134" y="812"/>
                      </a:lnTo>
                      <a:lnTo>
                        <a:pt x="1132" y="802"/>
                      </a:lnTo>
                      <a:lnTo>
                        <a:pt x="1126" y="794"/>
                      </a:lnTo>
                      <a:lnTo>
                        <a:pt x="1118" y="788"/>
                      </a:lnTo>
                      <a:lnTo>
                        <a:pt x="1108" y="786"/>
                      </a:lnTo>
                      <a:lnTo>
                        <a:pt x="1108" y="786"/>
                      </a:lnTo>
                      <a:lnTo>
                        <a:pt x="1104" y="786"/>
                      </a:lnTo>
                      <a:lnTo>
                        <a:pt x="1108" y="780"/>
                      </a:lnTo>
                      <a:lnTo>
                        <a:pt x="1100" y="780"/>
                      </a:lnTo>
                      <a:lnTo>
                        <a:pt x="1094" y="780"/>
                      </a:lnTo>
                      <a:lnTo>
                        <a:pt x="1094" y="780"/>
                      </a:lnTo>
                      <a:lnTo>
                        <a:pt x="1086" y="774"/>
                      </a:lnTo>
                      <a:lnTo>
                        <a:pt x="1086" y="776"/>
                      </a:lnTo>
                      <a:lnTo>
                        <a:pt x="1084" y="774"/>
                      </a:lnTo>
                      <a:lnTo>
                        <a:pt x="1080" y="778"/>
                      </a:lnTo>
                      <a:lnTo>
                        <a:pt x="1074" y="776"/>
                      </a:lnTo>
                      <a:lnTo>
                        <a:pt x="1074" y="780"/>
                      </a:lnTo>
                      <a:lnTo>
                        <a:pt x="1068" y="780"/>
                      </a:lnTo>
                      <a:lnTo>
                        <a:pt x="1064" y="780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68" y="788"/>
                      </a:lnTo>
                      <a:lnTo>
                        <a:pt x="1058" y="786"/>
                      </a:lnTo>
                      <a:lnTo>
                        <a:pt x="1058" y="786"/>
                      </a:lnTo>
                      <a:lnTo>
                        <a:pt x="1048" y="788"/>
                      </a:lnTo>
                      <a:lnTo>
                        <a:pt x="1040" y="794"/>
                      </a:lnTo>
                      <a:lnTo>
                        <a:pt x="1034" y="802"/>
                      </a:lnTo>
                      <a:lnTo>
                        <a:pt x="1032" y="812"/>
                      </a:lnTo>
                      <a:lnTo>
                        <a:pt x="1032" y="812"/>
                      </a:lnTo>
                      <a:lnTo>
                        <a:pt x="1034" y="820"/>
                      </a:lnTo>
                      <a:lnTo>
                        <a:pt x="1036" y="828"/>
                      </a:lnTo>
                      <a:lnTo>
                        <a:pt x="1036" y="828"/>
                      </a:lnTo>
                      <a:lnTo>
                        <a:pt x="1024" y="846"/>
                      </a:lnTo>
                      <a:lnTo>
                        <a:pt x="1020" y="854"/>
                      </a:lnTo>
                      <a:lnTo>
                        <a:pt x="1018" y="860"/>
                      </a:lnTo>
                      <a:lnTo>
                        <a:pt x="1006" y="836"/>
                      </a:lnTo>
                      <a:lnTo>
                        <a:pt x="950" y="732"/>
                      </a:lnTo>
                      <a:lnTo>
                        <a:pt x="854" y="580"/>
                      </a:lnTo>
                      <a:lnTo>
                        <a:pt x="690" y="370"/>
                      </a:lnTo>
                      <a:lnTo>
                        <a:pt x="568" y="244"/>
                      </a:lnTo>
                      <a:lnTo>
                        <a:pt x="412" y="118"/>
                      </a:lnTo>
                      <a:lnTo>
                        <a:pt x="262" y="4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18" y="0"/>
                      </a:lnTo>
                      <a:lnTo>
                        <a:pt x="94" y="2"/>
                      </a:lnTo>
                      <a:lnTo>
                        <a:pt x="80" y="4"/>
                      </a:lnTo>
                      <a:lnTo>
                        <a:pt x="64" y="6"/>
                      </a:lnTo>
                      <a:lnTo>
                        <a:pt x="48" y="12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20" y="28"/>
                      </a:lnTo>
                      <a:lnTo>
                        <a:pt x="10" y="36"/>
                      </a:lnTo>
                      <a:lnTo>
                        <a:pt x="6" y="44"/>
                      </a:lnTo>
                      <a:lnTo>
                        <a:pt x="2" y="52"/>
                      </a:lnTo>
                      <a:lnTo>
                        <a:pt x="2" y="60"/>
                      </a:lnTo>
                      <a:lnTo>
                        <a:pt x="2" y="64"/>
                      </a:lnTo>
                      <a:lnTo>
                        <a:pt x="4" y="70"/>
                      </a:lnTo>
                      <a:lnTo>
                        <a:pt x="0" y="114"/>
                      </a:lnTo>
                      <a:lnTo>
                        <a:pt x="12" y="226"/>
                      </a:lnTo>
                      <a:lnTo>
                        <a:pt x="58" y="452"/>
                      </a:lnTo>
                      <a:lnTo>
                        <a:pt x="80" y="544"/>
                      </a:lnTo>
                      <a:lnTo>
                        <a:pt x="108" y="686"/>
                      </a:lnTo>
                      <a:lnTo>
                        <a:pt x="122" y="734"/>
                      </a:lnTo>
                      <a:lnTo>
                        <a:pt x="154" y="810"/>
                      </a:lnTo>
                      <a:lnTo>
                        <a:pt x="196" y="876"/>
                      </a:lnTo>
                      <a:lnTo>
                        <a:pt x="240" y="918"/>
                      </a:lnTo>
                      <a:lnTo>
                        <a:pt x="284" y="942"/>
                      </a:lnTo>
                      <a:lnTo>
                        <a:pt x="348" y="952"/>
                      </a:lnTo>
                      <a:lnTo>
                        <a:pt x="410" y="960"/>
                      </a:lnTo>
                      <a:lnTo>
                        <a:pt x="622" y="978"/>
                      </a:lnTo>
                      <a:lnTo>
                        <a:pt x="622" y="978"/>
                      </a:lnTo>
                      <a:lnTo>
                        <a:pt x="580" y="992"/>
                      </a:lnTo>
                      <a:lnTo>
                        <a:pt x="538" y="1006"/>
                      </a:lnTo>
                      <a:lnTo>
                        <a:pt x="504" y="1020"/>
                      </a:lnTo>
                      <a:lnTo>
                        <a:pt x="486" y="1028"/>
                      </a:lnTo>
                      <a:lnTo>
                        <a:pt x="486" y="1028"/>
                      </a:lnTo>
                      <a:lnTo>
                        <a:pt x="444" y="1066"/>
                      </a:lnTo>
                      <a:lnTo>
                        <a:pt x="410" y="1098"/>
                      </a:lnTo>
                      <a:lnTo>
                        <a:pt x="346" y="1198"/>
                      </a:lnTo>
                      <a:lnTo>
                        <a:pt x="346" y="1198"/>
                      </a:lnTo>
                      <a:lnTo>
                        <a:pt x="338" y="1222"/>
                      </a:lnTo>
                      <a:lnTo>
                        <a:pt x="330" y="1242"/>
                      </a:lnTo>
                      <a:lnTo>
                        <a:pt x="326" y="1256"/>
                      </a:lnTo>
                      <a:lnTo>
                        <a:pt x="326" y="1256"/>
                      </a:lnTo>
                      <a:lnTo>
                        <a:pt x="326" y="1270"/>
                      </a:lnTo>
                      <a:lnTo>
                        <a:pt x="330" y="1284"/>
                      </a:lnTo>
                      <a:lnTo>
                        <a:pt x="334" y="1302"/>
                      </a:lnTo>
                      <a:lnTo>
                        <a:pt x="334" y="1346"/>
                      </a:lnTo>
                      <a:lnTo>
                        <a:pt x="358" y="1386"/>
                      </a:lnTo>
                      <a:lnTo>
                        <a:pt x="370" y="1438"/>
                      </a:lnTo>
                      <a:lnTo>
                        <a:pt x="370" y="1438"/>
                      </a:lnTo>
                      <a:lnTo>
                        <a:pt x="372" y="1442"/>
                      </a:lnTo>
                      <a:lnTo>
                        <a:pt x="376" y="1454"/>
                      </a:lnTo>
                      <a:lnTo>
                        <a:pt x="380" y="1460"/>
                      </a:lnTo>
                      <a:lnTo>
                        <a:pt x="386" y="1466"/>
                      </a:lnTo>
                      <a:lnTo>
                        <a:pt x="396" y="1472"/>
                      </a:lnTo>
                      <a:lnTo>
                        <a:pt x="406" y="1476"/>
                      </a:lnTo>
                      <a:lnTo>
                        <a:pt x="406" y="1476"/>
                      </a:lnTo>
                      <a:lnTo>
                        <a:pt x="418" y="1480"/>
                      </a:lnTo>
                      <a:lnTo>
                        <a:pt x="424" y="1484"/>
                      </a:lnTo>
                      <a:lnTo>
                        <a:pt x="430" y="1488"/>
                      </a:lnTo>
                      <a:lnTo>
                        <a:pt x="434" y="1492"/>
                      </a:lnTo>
                      <a:lnTo>
                        <a:pt x="436" y="1498"/>
                      </a:lnTo>
                      <a:lnTo>
                        <a:pt x="436" y="1500"/>
                      </a:lnTo>
                      <a:lnTo>
                        <a:pt x="436" y="1500"/>
                      </a:lnTo>
                      <a:lnTo>
                        <a:pt x="444" y="1514"/>
                      </a:lnTo>
                      <a:lnTo>
                        <a:pt x="458" y="1534"/>
                      </a:lnTo>
                      <a:lnTo>
                        <a:pt x="458" y="1534"/>
                      </a:lnTo>
                      <a:lnTo>
                        <a:pt x="466" y="1540"/>
                      </a:lnTo>
                      <a:lnTo>
                        <a:pt x="478" y="1550"/>
                      </a:lnTo>
                      <a:lnTo>
                        <a:pt x="490" y="1556"/>
                      </a:lnTo>
                      <a:lnTo>
                        <a:pt x="498" y="1558"/>
                      </a:lnTo>
                      <a:lnTo>
                        <a:pt x="504" y="1558"/>
                      </a:lnTo>
                      <a:lnTo>
                        <a:pt x="504" y="1558"/>
                      </a:lnTo>
                      <a:lnTo>
                        <a:pt x="510" y="1558"/>
                      </a:lnTo>
                      <a:lnTo>
                        <a:pt x="516" y="1562"/>
                      </a:lnTo>
                      <a:lnTo>
                        <a:pt x="528" y="1572"/>
                      </a:lnTo>
                      <a:lnTo>
                        <a:pt x="536" y="1582"/>
                      </a:lnTo>
                      <a:lnTo>
                        <a:pt x="540" y="1588"/>
                      </a:lnTo>
                      <a:lnTo>
                        <a:pt x="540" y="1588"/>
                      </a:lnTo>
                      <a:lnTo>
                        <a:pt x="548" y="1598"/>
                      </a:lnTo>
                      <a:lnTo>
                        <a:pt x="558" y="1608"/>
                      </a:lnTo>
                      <a:lnTo>
                        <a:pt x="564" y="1612"/>
                      </a:lnTo>
                      <a:lnTo>
                        <a:pt x="570" y="1614"/>
                      </a:lnTo>
                      <a:lnTo>
                        <a:pt x="570" y="1614"/>
                      </a:lnTo>
                      <a:lnTo>
                        <a:pt x="586" y="1618"/>
                      </a:lnTo>
                      <a:lnTo>
                        <a:pt x="602" y="1626"/>
                      </a:lnTo>
                      <a:lnTo>
                        <a:pt x="622" y="1636"/>
                      </a:lnTo>
                      <a:lnTo>
                        <a:pt x="648" y="1656"/>
                      </a:lnTo>
                      <a:lnTo>
                        <a:pt x="676" y="1678"/>
                      </a:lnTo>
                      <a:lnTo>
                        <a:pt x="676" y="1678"/>
                      </a:lnTo>
                      <a:lnTo>
                        <a:pt x="682" y="1678"/>
                      </a:lnTo>
                      <a:lnTo>
                        <a:pt x="694" y="1680"/>
                      </a:lnTo>
                      <a:lnTo>
                        <a:pt x="708" y="1676"/>
                      </a:lnTo>
                      <a:lnTo>
                        <a:pt x="716" y="1674"/>
                      </a:lnTo>
                      <a:lnTo>
                        <a:pt x="724" y="1670"/>
                      </a:lnTo>
                      <a:lnTo>
                        <a:pt x="724" y="1670"/>
                      </a:lnTo>
                      <a:lnTo>
                        <a:pt x="730" y="1664"/>
                      </a:lnTo>
                      <a:lnTo>
                        <a:pt x="736" y="1662"/>
                      </a:lnTo>
                      <a:lnTo>
                        <a:pt x="742" y="1660"/>
                      </a:lnTo>
                      <a:lnTo>
                        <a:pt x="746" y="1660"/>
                      </a:lnTo>
                      <a:lnTo>
                        <a:pt x="754" y="1664"/>
                      </a:lnTo>
                      <a:lnTo>
                        <a:pt x="756" y="1664"/>
                      </a:lnTo>
                      <a:lnTo>
                        <a:pt x="772" y="1662"/>
                      </a:lnTo>
                      <a:lnTo>
                        <a:pt x="796" y="1646"/>
                      </a:lnTo>
                      <a:lnTo>
                        <a:pt x="836" y="1606"/>
                      </a:lnTo>
                      <a:lnTo>
                        <a:pt x="836" y="1606"/>
                      </a:lnTo>
                      <a:lnTo>
                        <a:pt x="840" y="1602"/>
                      </a:lnTo>
                      <a:lnTo>
                        <a:pt x="852" y="1588"/>
                      </a:lnTo>
                      <a:lnTo>
                        <a:pt x="870" y="1564"/>
                      </a:lnTo>
                      <a:lnTo>
                        <a:pt x="892" y="1528"/>
                      </a:lnTo>
                      <a:lnTo>
                        <a:pt x="892" y="1528"/>
                      </a:lnTo>
                      <a:lnTo>
                        <a:pt x="914" y="1478"/>
                      </a:lnTo>
                      <a:lnTo>
                        <a:pt x="938" y="1424"/>
                      </a:lnTo>
                      <a:lnTo>
                        <a:pt x="964" y="1362"/>
                      </a:lnTo>
                      <a:lnTo>
                        <a:pt x="964" y="1362"/>
                      </a:lnTo>
                      <a:lnTo>
                        <a:pt x="988" y="1268"/>
                      </a:lnTo>
                      <a:lnTo>
                        <a:pt x="1012" y="1188"/>
                      </a:lnTo>
                      <a:lnTo>
                        <a:pt x="1034" y="1116"/>
                      </a:lnTo>
                      <a:lnTo>
                        <a:pt x="1032" y="1158"/>
                      </a:lnTo>
                      <a:lnTo>
                        <a:pt x="1024" y="1232"/>
                      </a:lnTo>
                      <a:lnTo>
                        <a:pt x="1026" y="1256"/>
                      </a:lnTo>
                      <a:lnTo>
                        <a:pt x="1016" y="1290"/>
                      </a:lnTo>
                      <a:lnTo>
                        <a:pt x="1016" y="1342"/>
                      </a:lnTo>
                      <a:lnTo>
                        <a:pt x="1016" y="1356"/>
                      </a:lnTo>
                      <a:lnTo>
                        <a:pt x="1016" y="1430"/>
                      </a:lnTo>
                      <a:lnTo>
                        <a:pt x="1026" y="1436"/>
                      </a:lnTo>
                      <a:lnTo>
                        <a:pt x="1026" y="1446"/>
                      </a:lnTo>
                      <a:lnTo>
                        <a:pt x="1016" y="1458"/>
                      </a:lnTo>
                      <a:lnTo>
                        <a:pt x="1018" y="1494"/>
                      </a:lnTo>
                      <a:lnTo>
                        <a:pt x="1018" y="1552"/>
                      </a:lnTo>
                      <a:lnTo>
                        <a:pt x="1040" y="1598"/>
                      </a:lnTo>
                      <a:lnTo>
                        <a:pt x="1076" y="1628"/>
                      </a:lnTo>
                      <a:lnTo>
                        <a:pt x="1080" y="1596"/>
                      </a:lnTo>
                      <a:lnTo>
                        <a:pt x="1084" y="1628"/>
                      </a:lnTo>
                      <a:lnTo>
                        <a:pt x="1120" y="1598"/>
                      </a:lnTo>
                      <a:lnTo>
                        <a:pt x="1142" y="1552"/>
                      </a:lnTo>
                      <a:lnTo>
                        <a:pt x="1142" y="1494"/>
                      </a:lnTo>
                      <a:lnTo>
                        <a:pt x="1146" y="1458"/>
                      </a:lnTo>
                      <a:lnTo>
                        <a:pt x="1134" y="1446"/>
                      </a:lnTo>
                      <a:lnTo>
                        <a:pt x="1134" y="1436"/>
                      </a:lnTo>
                      <a:lnTo>
                        <a:pt x="1146" y="1430"/>
                      </a:lnTo>
                      <a:lnTo>
                        <a:pt x="1146" y="1356"/>
                      </a:lnTo>
                      <a:lnTo>
                        <a:pt x="1146" y="1342"/>
                      </a:lnTo>
                      <a:lnTo>
                        <a:pt x="1146" y="1290"/>
                      </a:lnTo>
                      <a:lnTo>
                        <a:pt x="1134" y="1256"/>
                      </a:lnTo>
                      <a:lnTo>
                        <a:pt x="1136" y="1232"/>
                      </a:lnTo>
                      <a:lnTo>
                        <a:pt x="1128" y="1158"/>
                      </a:lnTo>
                      <a:lnTo>
                        <a:pt x="1126" y="1116"/>
                      </a:lnTo>
                      <a:lnTo>
                        <a:pt x="1126" y="1116"/>
                      </a:lnTo>
                      <a:lnTo>
                        <a:pt x="1126" y="1106"/>
                      </a:lnTo>
                      <a:lnTo>
                        <a:pt x="1126" y="1106"/>
                      </a:lnTo>
                      <a:lnTo>
                        <a:pt x="1138" y="1136"/>
                      </a:lnTo>
                      <a:lnTo>
                        <a:pt x="1150" y="1176"/>
                      </a:lnTo>
                      <a:lnTo>
                        <a:pt x="1174" y="1260"/>
                      </a:lnTo>
                      <a:lnTo>
                        <a:pt x="1202" y="1362"/>
                      </a:lnTo>
                      <a:lnTo>
                        <a:pt x="1202" y="1362"/>
                      </a:lnTo>
                      <a:lnTo>
                        <a:pt x="1228" y="1424"/>
                      </a:lnTo>
                      <a:lnTo>
                        <a:pt x="1250" y="1478"/>
                      </a:lnTo>
                      <a:lnTo>
                        <a:pt x="1274" y="1528"/>
                      </a:lnTo>
                      <a:lnTo>
                        <a:pt x="1274" y="1528"/>
                      </a:lnTo>
                      <a:lnTo>
                        <a:pt x="1296" y="1564"/>
                      </a:lnTo>
                      <a:lnTo>
                        <a:pt x="1312" y="1588"/>
                      </a:lnTo>
                      <a:lnTo>
                        <a:pt x="1326" y="1602"/>
                      </a:lnTo>
                      <a:lnTo>
                        <a:pt x="1330" y="1606"/>
                      </a:lnTo>
                      <a:lnTo>
                        <a:pt x="1370" y="1646"/>
                      </a:lnTo>
                      <a:lnTo>
                        <a:pt x="1394" y="1662"/>
                      </a:lnTo>
                      <a:lnTo>
                        <a:pt x="1410" y="1664"/>
                      </a:lnTo>
                      <a:lnTo>
                        <a:pt x="1410" y="1664"/>
                      </a:lnTo>
                      <a:lnTo>
                        <a:pt x="1412" y="1664"/>
                      </a:lnTo>
                      <a:lnTo>
                        <a:pt x="1420" y="1660"/>
                      </a:lnTo>
                      <a:lnTo>
                        <a:pt x="1424" y="1660"/>
                      </a:lnTo>
                      <a:lnTo>
                        <a:pt x="1430" y="1662"/>
                      </a:lnTo>
                      <a:lnTo>
                        <a:pt x="1436" y="1664"/>
                      </a:lnTo>
                      <a:lnTo>
                        <a:pt x="1442" y="1670"/>
                      </a:lnTo>
                      <a:lnTo>
                        <a:pt x="1442" y="1670"/>
                      </a:lnTo>
                      <a:lnTo>
                        <a:pt x="1450" y="1674"/>
                      </a:lnTo>
                      <a:lnTo>
                        <a:pt x="1458" y="1676"/>
                      </a:lnTo>
                      <a:lnTo>
                        <a:pt x="1472" y="1680"/>
                      </a:lnTo>
                      <a:lnTo>
                        <a:pt x="1484" y="1678"/>
                      </a:lnTo>
                      <a:lnTo>
                        <a:pt x="1490" y="1678"/>
                      </a:lnTo>
                      <a:lnTo>
                        <a:pt x="1518" y="1656"/>
                      </a:lnTo>
                      <a:lnTo>
                        <a:pt x="1544" y="1636"/>
                      </a:lnTo>
                      <a:lnTo>
                        <a:pt x="1544" y="1636"/>
                      </a:lnTo>
                      <a:lnTo>
                        <a:pt x="1564" y="1626"/>
                      </a:lnTo>
                      <a:lnTo>
                        <a:pt x="1580" y="1618"/>
                      </a:lnTo>
                      <a:lnTo>
                        <a:pt x="1596" y="1614"/>
                      </a:lnTo>
                      <a:lnTo>
                        <a:pt x="1596" y="1614"/>
                      </a:lnTo>
                      <a:lnTo>
                        <a:pt x="1602" y="1612"/>
                      </a:lnTo>
                      <a:lnTo>
                        <a:pt x="1608" y="1608"/>
                      </a:lnTo>
                      <a:lnTo>
                        <a:pt x="1618" y="1598"/>
                      </a:lnTo>
                      <a:lnTo>
                        <a:pt x="1626" y="1588"/>
                      </a:lnTo>
                      <a:lnTo>
                        <a:pt x="1626" y="1588"/>
                      </a:lnTo>
                      <a:lnTo>
                        <a:pt x="1630" y="1582"/>
                      </a:lnTo>
                      <a:lnTo>
                        <a:pt x="1638" y="1572"/>
                      </a:lnTo>
                      <a:lnTo>
                        <a:pt x="1650" y="1562"/>
                      </a:lnTo>
                      <a:lnTo>
                        <a:pt x="1656" y="1558"/>
                      </a:lnTo>
                      <a:lnTo>
                        <a:pt x="1662" y="1558"/>
                      </a:lnTo>
                      <a:lnTo>
                        <a:pt x="1662" y="1558"/>
                      </a:lnTo>
                      <a:lnTo>
                        <a:pt x="1668" y="1558"/>
                      </a:lnTo>
                      <a:lnTo>
                        <a:pt x="1674" y="1556"/>
                      </a:lnTo>
                      <a:lnTo>
                        <a:pt x="1688" y="1550"/>
                      </a:lnTo>
                      <a:lnTo>
                        <a:pt x="1700" y="1540"/>
                      </a:lnTo>
                      <a:lnTo>
                        <a:pt x="1708" y="1534"/>
                      </a:lnTo>
                      <a:lnTo>
                        <a:pt x="1708" y="1534"/>
                      </a:lnTo>
                      <a:lnTo>
                        <a:pt x="1722" y="1514"/>
                      </a:lnTo>
                      <a:lnTo>
                        <a:pt x="1730" y="1500"/>
                      </a:lnTo>
                      <a:lnTo>
                        <a:pt x="1730" y="1500"/>
                      </a:lnTo>
                      <a:lnTo>
                        <a:pt x="1730" y="1498"/>
                      </a:lnTo>
                      <a:lnTo>
                        <a:pt x="1732" y="1492"/>
                      </a:lnTo>
                      <a:lnTo>
                        <a:pt x="1736" y="1488"/>
                      </a:lnTo>
                      <a:lnTo>
                        <a:pt x="1740" y="1484"/>
                      </a:lnTo>
                      <a:lnTo>
                        <a:pt x="1748" y="1480"/>
                      </a:lnTo>
                      <a:lnTo>
                        <a:pt x="1760" y="1476"/>
                      </a:lnTo>
                      <a:lnTo>
                        <a:pt x="1760" y="1476"/>
                      </a:lnTo>
                      <a:lnTo>
                        <a:pt x="1770" y="1472"/>
                      </a:lnTo>
                      <a:lnTo>
                        <a:pt x="1780" y="1466"/>
                      </a:lnTo>
                      <a:lnTo>
                        <a:pt x="1786" y="1460"/>
                      </a:lnTo>
                      <a:lnTo>
                        <a:pt x="1790" y="1454"/>
                      </a:lnTo>
                      <a:lnTo>
                        <a:pt x="1794" y="1442"/>
                      </a:lnTo>
                      <a:lnTo>
                        <a:pt x="1794" y="1438"/>
                      </a:lnTo>
                      <a:lnTo>
                        <a:pt x="1808" y="1386"/>
                      </a:lnTo>
                      <a:lnTo>
                        <a:pt x="1832" y="1346"/>
                      </a:lnTo>
                      <a:lnTo>
                        <a:pt x="1832" y="1302"/>
                      </a:lnTo>
                      <a:lnTo>
                        <a:pt x="1832" y="1302"/>
                      </a:lnTo>
                      <a:lnTo>
                        <a:pt x="1836" y="1284"/>
                      </a:lnTo>
                      <a:lnTo>
                        <a:pt x="1840" y="1270"/>
                      </a:lnTo>
                      <a:lnTo>
                        <a:pt x="1840" y="1256"/>
                      </a:lnTo>
                      <a:lnTo>
                        <a:pt x="1840" y="1256"/>
                      </a:lnTo>
                      <a:lnTo>
                        <a:pt x="1836" y="1242"/>
                      </a:lnTo>
                      <a:lnTo>
                        <a:pt x="1828" y="1222"/>
                      </a:lnTo>
                      <a:lnTo>
                        <a:pt x="1820" y="1198"/>
                      </a:lnTo>
                      <a:lnTo>
                        <a:pt x="1756" y="1098"/>
                      </a:lnTo>
                      <a:lnTo>
                        <a:pt x="1756" y="1098"/>
                      </a:lnTo>
                      <a:lnTo>
                        <a:pt x="1722" y="1066"/>
                      </a:lnTo>
                      <a:lnTo>
                        <a:pt x="1680" y="1028"/>
                      </a:lnTo>
                      <a:lnTo>
                        <a:pt x="1680" y="1028"/>
                      </a:lnTo>
                      <a:lnTo>
                        <a:pt x="1662" y="1020"/>
                      </a:lnTo>
                      <a:lnTo>
                        <a:pt x="1628" y="1006"/>
                      </a:lnTo>
                      <a:lnTo>
                        <a:pt x="1586" y="992"/>
                      </a:lnTo>
                      <a:lnTo>
                        <a:pt x="1544" y="978"/>
                      </a:lnTo>
                      <a:lnTo>
                        <a:pt x="1756" y="960"/>
                      </a:lnTo>
                      <a:lnTo>
                        <a:pt x="1818" y="952"/>
                      </a:lnTo>
                      <a:lnTo>
                        <a:pt x="1882" y="942"/>
                      </a:lnTo>
                      <a:lnTo>
                        <a:pt x="1926" y="918"/>
                      </a:lnTo>
                      <a:lnTo>
                        <a:pt x="1970" y="876"/>
                      </a:lnTo>
                      <a:lnTo>
                        <a:pt x="2012" y="810"/>
                      </a:lnTo>
                      <a:lnTo>
                        <a:pt x="2044" y="734"/>
                      </a:lnTo>
                      <a:lnTo>
                        <a:pt x="2058" y="686"/>
                      </a:lnTo>
                      <a:lnTo>
                        <a:pt x="2086" y="544"/>
                      </a:lnTo>
                      <a:lnTo>
                        <a:pt x="2108" y="452"/>
                      </a:lnTo>
                      <a:lnTo>
                        <a:pt x="2154" y="226"/>
                      </a:lnTo>
                      <a:lnTo>
                        <a:pt x="2164" y="114"/>
                      </a:lnTo>
                      <a:lnTo>
                        <a:pt x="2162" y="70"/>
                      </a:lnTo>
                      <a:close/>
                      <a:moveTo>
                        <a:pt x="1076" y="792"/>
                      </a:moveTo>
                      <a:lnTo>
                        <a:pt x="1076" y="792"/>
                      </a:lnTo>
                      <a:lnTo>
                        <a:pt x="1076" y="790"/>
                      </a:lnTo>
                      <a:lnTo>
                        <a:pt x="1076" y="790"/>
                      </a:lnTo>
                      <a:lnTo>
                        <a:pt x="1076" y="79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48"/>
              <p:cNvGrpSpPr/>
              <p:nvPr/>
            </p:nvGrpSpPr>
            <p:grpSpPr>
              <a:xfrm>
                <a:off x="0" y="685800"/>
                <a:ext cx="1312560" cy="1509120"/>
                <a:chOff x="0" y="685800"/>
                <a:chExt cx="1312560" cy="1509120"/>
              </a:xfrm>
            </p:grpSpPr>
            <p:sp>
              <p:nvSpPr>
                <p:cNvPr id="250" name="Freeform 42"/>
                <p:cNvSpPr/>
                <p:nvPr/>
              </p:nvSpPr>
              <p:spPr>
                <a:xfrm>
                  <a:off x="387360" y="1444320"/>
                  <a:ext cx="357120" cy="191880"/>
                </a:xfrm>
                <a:custGeom>
                  <a:avLst/>
                  <a:gdLst>
                    <a:gd name="textAreaLeft" fmla="*/ 0 w 357120"/>
                    <a:gd name="textAreaRight" fmla="*/ 357480 w 3571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314" h="170">
                      <a:moveTo>
                        <a:pt x="314" y="170"/>
                      </a:moveTo>
                      <a:lnTo>
                        <a:pt x="314" y="170"/>
                      </a:lnTo>
                      <a:lnTo>
                        <a:pt x="314" y="168"/>
                      </a:lnTo>
                      <a:lnTo>
                        <a:pt x="314" y="166"/>
                      </a:lnTo>
                      <a:lnTo>
                        <a:pt x="314" y="166"/>
                      </a:lnTo>
                      <a:lnTo>
                        <a:pt x="300" y="158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2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8" y="12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28" y="18"/>
                      </a:lnTo>
                      <a:lnTo>
                        <a:pt x="40" y="24"/>
                      </a:lnTo>
                      <a:lnTo>
                        <a:pt x="298" y="162"/>
                      </a:lnTo>
                      <a:lnTo>
                        <a:pt x="298" y="162"/>
                      </a:lnTo>
                      <a:lnTo>
                        <a:pt x="308" y="168"/>
                      </a:lnTo>
                      <a:lnTo>
                        <a:pt x="314" y="170"/>
                      </a:lnTo>
                      <a:lnTo>
                        <a:pt x="314" y="17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3"/>
                <p:cNvSpPr/>
                <p:nvPr/>
              </p:nvSpPr>
              <p:spPr>
                <a:xfrm>
                  <a:off x="750600" y="1641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4"/>
                <p:cNvSpPr/>
                <p:nvPr/>
              </p:nvSpPr>
              <p:spPr>
                <a:xfrm>
                  <a:off x="760320" y="1225440"/>
                  <a:ext cx="42840" cy="4014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401400"/>
                    <a:gd name="textAreaBottom" fmla="*/ 401760 h 401400"/>
                  </a:gdLst>
                  <a:ahLst/>
                  <a:rect l="textAreaLeft" t="textAreaTop" r="textAreaRight" b="textAreaBottom"/>
                  <a:pathLst>
                    <a:path w="38" h="354">
                      <a:moveTo>
                        <a:pt x="2" y="352"/>
                      </a:moveTo>
                      <a:lnTo>
                        <a:pt x="2" y="352"/>
                      </a:lnTo>
                      <a:lnTo>
                        <a:pt x="4" y="346"/>
                      </a:lnTo>
                      <a:lnTo>
                        <a:pt x="6" y="336"/>
                      </a:lnTo>
                      <a:lnTo>
                        <a:pt x="32" y="44"/>
                      </a:lnTo>
                      <a:lnTo>
                        <a:pt x="32" y="44"/>
                      </a:lnTo>
                      <a:lnTo>
                        <a:pt x="34" y="30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38" y="1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16"/>
                      </a:lnTo>
                      <a:lnTo>
                        <a:pt x="22" y="30"/>
                      </a:lnTo>
                      <a:lnTo>
                        <a:pt x="22" y="30"/>
                      </a:lnTo>
                      <a:lnTo>
                        <a:pt x="20" y="58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0" y="354"/>
                      </a:lnTo>
                      <a:lnTo>
                        <a:pt x="0" y="354"/>
                      </a:lnTo>
                      <a:lnTo>
                        <a:pt x="2" y="352"/>
                      </a:lnTo>
                      <a:lnTo>
                        <a:pt x="2" y="35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5"/>
                <p:cNvSpPr/>
                <p:nvPr/>
              </p:nvSpPr>
              <p:spPr>
                <a:xfrm>
                  <a:off x="0" y="685800"/>
                  <a:ext cx="1312560" cy="1509120"/>
                </a:xfrm>
                <a:custGeom>
                  <a:avLst/>
                  <a:gdLst>
                    <a:gd name="textAreaLeft" fmla="*/ 0 w 1312560"/>
                    <a:gd name="textAreaRight" fmla="*/ 1312920 w 1312560"/>
                    <a:gd name="textAreaTop" fmla="*/ 0 h 1509120"/>
                    <a:gd name="textAreaBottom" fmla="*/ 1509480 h 1509120"/>
                  </a:gdLst>
                  <a:ahLst/>
                  <a:rect l="textAreaLeft" t="textAreaTop" r="textAreaRight" b="textAreaBottom"/>
                  <a:pathLst>
                    <a:path w="1336" h="1536">
                      <a:moveTo>
                        <a:pt x="1336" y="1020"/>
                      </a:moveTo>
                      <a:lnTo>
                        <a:pt x="1336" y="1012"/>
                      </a:lnTo>
                      <a:lnTo>
                        <a:pt x="1336" y="1012"/>
                      </a:lnTo>
                      <a:lnTo>
                        <a:pt x="1334" y="1006"/>
                      </a:lnTo>
                      <a:lnTo>
                        <a:pt x="1324" y="968"/>
                      </a:lnTo>
                      <a:lnTo>
                        <a:pt x="1326" y="934"/>
                      </a:lnTo>
                      <a:lnTo>
                        <a:pt x="1312" y="908"/>
                      </a:lnTo>
                      <a:lnTo>
                        <a:pt x="1312" y="908"/>
                      </a:lnTo>
                      <a:lnTo>
                        <a:pt x="1308" y="896"/>
                      </a:lnTo>
                      <a:lnTo>
                        <a:pt x="1306" y="886"/>
                      </a:lnTo>
                      <a:lnTo>
                        <a:pt x="1300" y="876"/>
                      </a:lnTo>
                      <a:lnTo>
                        <a:pt x="1300" y="876"/>
                      </a:lnTo>
                      <a:lnTo>
                        <a:pt x="1292" y="868"/>
                      </a:lnTo>
                      <a:lnTo>
                        <a:pt x="1282" y="858"/>
                      </a:lnTo>
                      <a:lnTo>
                        <a:pt x="1268" y="846"/>
                      </a:lnTo>
                      <a:lnTo>
                        <a:pt x="1194" y="804"/>
                      </a:lnTo>
                      <a:lnTo>
                        <a:pt x="1194" y="804"/>
                      </a:lnTo>
                      <a:lnTo>
                        <a:pt x="1124" y="788"/>
                      </a:lnTo>
                      <a:lnTo>
                        <a:pt x="1124" y="788"/>
                      </a:lnTo>
                      <a:lnTo>
                        <a:pt x="1108" y="788"/>
                      </a:lnTo>
                      <a:lnTo>
                        <a:pt x="1082" y="790"/>
                      </a:lnTo>
                      <a:lnTo>
                        <a:pt x="1020" y="800"/>
                      </a:lnTo>
                      <a:lnTo>
                        <a:pt x="1148" y="718"/>
                      </a:lnTo>
                      <a:lnTo>
                        <a:pt x="1184" y="692"/>
                      </a:lnTo>
                      <a:lnTo>
                        <a:pt x="1220" y="664"/>
                      </a:lnTo>
                      <a:lnTo>
                        <a:pt x="1240" y="634"/>
                      </a:lnTo>
                      <a:lnTo>
                        <a:pt x="1254" y="592"/>
                      </a:lnTo>
                      <a:lnTo>
                        <a:pt x="1258" y="536"/>
                      </a:lnTo>
                      <a:lnTo>
                        <a:pt x="1252" y="478"/>
                      </a:lnTo>
                      <a:lnTo>
                        <a:pt x="1246" y="442"/>
                      </a:lnTo>
                      <a:lnTo>
                        <a:pt x="1214" y="344"/>
                      </a:lnTo>
                      <a:lnTo>
                        <a:pt x="1198" y="280"/>
                      </a:lnTo>
                      <a:lnTo>
                        <a:pt x="1150" y="122"/>
                      </a:lnTo>
                      <a:lnTo>
                        <a:pt x="1118" y="46"/>
                      </a:lnTo>
                      <a:lnTo>
                        <a:pt x="1102" y="20"/>
                      </a:lnTo>
                      <a:lnTo>
                        <a:pt x="1102" y="20"/>
                      </a:lnTo>
                      <a:lnTo>
                        <a:pt x="1102" y="18"/>
                      </a:lnTo>
                      <a:lnTo>
                        <a:pt x="1100" y="12"/>
                      </a:lnTo>
                      <a:lnTo>
                        <a:pt x="1094" y="6"/>
                      </a:lnTo>
                      <a:lnTo>
                        <a:pt x="1084" y="0"/>
                      </a:lnTo>
                      <a:lnTo>
                        <a:pt x="1044" y="0"/>
                      </a:lnTo>
                      <a:lnTo>
                        <a:pt x="1044" y="0"/>
                      </a:lnTo>
                      <a:lnTo>
                        <a:pt x="1028" y="6"/>
                      </a:lnTo>
                      <a:lnTo>
                        <a:pt x="1014" y="12"/>
                      </a:lnTo>
                      <a:lnTo>
                        <a:pt x="1000" y="18"/>
                      </a:lnTo>
                      <a:lnTo>
                        <a:pt x="930" y="90"/>
                      </a:lnTo>
                      <a:lnTo>
                        <a:pt x="860" y="190"/>
                      </a:lnTo>
                      <a:lnTo>
                        <a:pt x="806" y="322"/>
                      </a:lnTo>
                      <a:lnTo>
                        <a:pt x="772" y="442"/>
                      </a:lnTo>
                      <a:lnTo>
                        <a:pt x="740" y="628"/>
                      </a:lnTo>
                      <a:lnTo>
                        <a:pt x="732" y="758"/>
                      </a:lnTo>
                      <a:lnTo>
                        <a:pt x="730" y="842"/>
                      </a:lnTo>
                      <a:lnTo>
                        <a:pt x="730" y="870"/>
                      </a:lnTo>
                      <a:lnTo>
                        <a:pt x="730" y="870"/>
                      </a:lnTo>
                      <a:lnTo>
                        <a:pt x="728" y="864"/>
                      </a:lnTo>
                      <a:lnTo>
                        <a:pt x="728" y="864"/>
                      </a:lnTo>
                      <a:lnTo>
                        <a:pt x="720" y="858"/>
                      </a:lnTo>
                      <a:lnTo>
                        <a:pt x="708" y="850"/>
                      </a:lnTo>
                      <a:lnTo>
                        <a:pt x="708" y="850"/>
                      </a:lnTo>
                      <a:lnTo>
                        <a:pt x="708" y="844"/>
                      </a:lnTo>
                      <a:lnTo>
                        <a:pt x="706" y="836"/>
                      </a:lnTo>
                      <a:lnTo>
                        <a:pt x="706" y="836"/>
                      </a:lnTo>
                      <a:lnTo>
                        <a:pt x="702" y="830"/>
                      </a:lnTo>
                      <a:lnTo>
                        <a:pt x="696" y="828"/>
                      </a:lnTo>
                      <a:lnTo>
                        <a:pt x="688" y="826"/>
                      </a:lnTo>
                      <a:lnTo>
                        <a:pt x="680" y="828"/>
                      </a:lnTo>
                      <a:lnTo>
                        <a:pt x="680" y="828"/>
                      </a:lnTo>
                      <a:lnTo>
                        <a:pt x="678" y="830"/>
                      </a:lnTo>
                      <a:lnTo>
                        <a:pt x="678" y="824"/>
                      </a:lnTo>
                      <a:lnTo>
                        <a:pt x="674" y="828"/>
                      </a:lnTo>
                      <a:lnTo>
                        <a:pt x="670" y="830"/>
                      </a:lnTo>
                      <a:lnTo>
                        <a:pt x="670" y="830"/>
                      </a:lnTo>
                      <a:lnTo>
                        <a:pt x="664" y="828"/>
                      </a:lnTo>
                      <a:lnTo>
                        <a:pt x="664" y="828"/>
                      </a:lnTo>
                      <a:lnTo>
                        <a:pt x="662" y="828"/>
                      </a:lnTo>
                      <a:lnTo>
                        <a:pt x="660" y="832"/>
                      </a:lnTo>
                      <a:lnTo>
                        <a:pt x="656" y="834"/>
                      </a:lnTo>
                      <a:lnTo>
                        <a:pt x="658" y="836"/>
                      </a:lnTo>
                      <a:lnTo>
                        <a:pt x="654" y="838"/>
                      </a:lnTo>
                      <a:lnTo>
                        <a:pt x="650" y="840"/>
                      </a:lnTo>
                      <a:lnTo>
                        <a:pt x="656" y="842"/>
                      </a:lnTo>
                      <a:lnTo>
                        <a:pt x="656" y="844"/>
                      </a:lnTo>
                      <a:lnTo>
                        <a:pt x="656" y="844"/>
                      </a:lnTo>
                      <a:lnTo>
                        <a:pt x="650" y="846"/>
                      </a:lnTo>
                      <a:lnTo>
                        <a:pt x="650" y="846"/>
                      </a:lnTo>
                      <a:lnTo>
                        <a:pt x="644" y="850"/>
                      </a:lnTo>
                      <a:lnTo>
                        <a:pt x="640" y="856"/>
                      </a:lnTo>
                      <a:lnTo>
                        <a:pt x="640" y="864"/>
                      </a:lnTo>
                      <a:lnTo>
                        <a:pt x="642" y="870"/>
                      </a:lnTo>
                      <a:lnTo>
                        <a:pt x="642" y="870"/>
                      </a:lnTo>
                      <a:lnTo>
                        <a:pt x="646" y="876"/>
                      </a:lnTo>
                      <a:lnTo>
                        <a:pt x="650" y="878"/>
                      </a:lnTo>
                      <a:lnTo>
                        <a:pt x="650" y="878"/>
                      </a:lnTo>
                      <a:lnTo>
                        <a:pt x="648" y="894"/>
                      </a:lnTo>
                      <a:lnTo>
                        <a:pt x="650" y="904"/>
                      </a:lnTo>
                      <a:lnTo>
                        <a:pt x="634" y="894"/>
                      </a:lnTo>
                      <a:lnTo>
                        <a:pt x="562" y="848"/>
                      </a:lnTo>
                      <a:lnTo>
                        <a:pt x="450" y="784"/>
                      </a:lnTo>
                      <a:lnTo>
                        <a:pt x="276" y="708"/>
                      </a:lnTo>
                      <a:lnTo>
                        <a:pt x="158" y="670"/>
                      </a:lnTo>
                      <a:lnTo>
                        <a:pt x="18" y="644"/>
                      </a:lnTo>
                      <a:lnTo>
                        <a:pt x="0" y="644"/>
                      </a:lnTo>
                      <a:lnTo>
                        <a:pt x="0" y="1084"/>
                      </a:lnTo>
                      <a:lnTo>
                        <a:pt x="16" y="1104"/>
                      </a:lnTo>
                      <a:lnTo>
                        <a:pt x="44" y="1130"/>
                      </a:lnTo>
                      <a:lnTo>
                        <a:pt x="88" y="1166"/>
                      </a:lnTo>
                      <a:lnTo>
                        <a:pt x="138" y="1194"/>
                      </a:lnTo>
                      <a:lnTo>
                        <a:pt x="180" y="1206"/>
                      </a:lnTo>
                      <a:lnTo>
                        <a:pt x="216" y="1206"/>
                      </a:lnTo>
                      <a:lnTo>
                        <a:pt x="258" y="1190"/>
                      </a:lnTo>
                      <a:lnTo>
                        <a:pt x="300" y="1174"/>
                      </a:lnTo>
                      <a:lnTo>
                        <a:pt x="440" y="1114"/>
                      </a:lnTo>
                      <a:lnTo>
                        <a:pt x="440" y="1114"/>
                      </a:lnTo>
                      <a:lnTo>
                        <a:pt x="396" y="1160"/>
                      </a:lnTo>
                      <a:lnTo>
                        <a:pt x="380" y="1180"/>
                      </a:lnTo>
                      <a:lnTo>
                        <a:pt x="372" y="1192"/>
                      </a:lnTo>
                      <a:lnTo>
                        <a:pt x="372" y="1192"/>
                      </a:lnTo>
                      <a:lnTo>
                        <a:pt x="348" y="1260"/>
                      </a:lnTo>
                      <a:lnTo>
                        <a:pt x="340" y="1346"/>
                      </a:lnTo>
                      <a:lnTo>
                        <a:pt x="340" y="1346"/>
                      </a:lnTo>
                      <a:lnTo>
                        <a:pt x="344" y="1364"/>
                      </a:lnTo>
                      <a:lnTo>
                        <a:pt x="346" y="1378"/>
                      </a:lnTo>
                      <a:lnTo>
                        <a:pt x="348" y="1390"/>
                      </a:lnTo>
                      <a:lnTo>
                        <a:pt x="348" y="1390"/>
                      </a:lnTo>
                      <a:lnTo>
                        <a:pt x="354" y="1398"/>
                      </a:lnTo>
                      <a:lnTo>
                        <a:pt x="360" y="1406"/>
                      </a:lnTo>
                      <a:lnTo>
                        <a:pt x="368" y="1416"/>
                      </a:lnTo>
                      <a:lnTo>
                        <a:pt x="382" y="1444"/>
                      </a:lnTo>
                      <a:lnTo>
                        <a:pt x="412" y="1460"/>
                      </a:lnTo>
                      <a:lnTo>
                        <a:pt x="438" y="1488"/>
                      </a:lnTo>
                      <a:lnTo>
                        <a:pt x="438" y="1488"/>
                      </a:lnTo>
                      <a:lnTo>
                        <a:pt x="440" y="1492"/>
                      </a:lnTo>
                      <a:lnTo>
                        <a:pt x="446" y="1496"/>
                      </a:lnTo>
                      <a:lnTo>
                        <a:pt x="458" y="1500"/>
                      </a:lnTo>
                      <a:lnTo>
                        <a:pt x="464" y="1502"/>
                      </a:lnTo>
                      <a:lnTo>
                        <a:pt x="474" y="1500"/>
                      </a:lnTo>
                      <a:lnTo>
                        <a:pt x="474" y="1500"/>
                      </a:lnTo>
                      <a:lnTo>
                        <a:pt x="488" y="1500"/>
                      </a:lnTo>
                      <a:lnTo>
                        <a:pt x="496" y="1502"/>
                      </a:lnTo>
                      <a:lnTo>
                        <a:pt x="498" y="1504"/>
                      </a:lnTo>
                      <a:lnTo>
                        <a:pt x="500" y="1506"/>
                      </a:lnTo>
                      <a:lnTo>
                        <a:pt x="500" y="1506"/>
                      </a:lnTo>
                      <a:lnTo>
                        <a:pt x="510" y="1512"/>
                      </a:lnTo>
                      <a:lnTo>
                        <a:pt x="524" y="1520"/>
                      </a:lnTo>
                      <a:lnTo>
                        <a:pt x="524" y="1520"/>
                      </a:lnTo>
                      <a:lnTo>
                        <a:pt x="542" y="1522"/>
                      </a:lnTo>
                      <a:lnTo>
                        <a:pt x="554" y="1522"/>
                      </a:lnTo>
                      <a:lnTo>
                        <a:pt x="558" y="1522"/>
                      </a:lnTo>
                      <a:lnTo>
                        <a:pt x="562" y="1520"/>
                      </a:lnTo>
                      <a:lnTo>
                        <a:pt x="562" y="1520"/>
                      </a:lnTo>
                      <a:lnTo>
                        <a:pt x="566" y="1518"/>
                      </a:lnTo>
                      <a:lnTo>
                        <a:pt x="570" y="1518"/>
                      </a:lnTo>
                      <a:lnTo>
                        <a:pt x="582" y="1520"/>
                      </a:lnTo>
                      <a:lnTo>
                        <a:pt x="594" y="1526"/>
                      </a:lnTo>
                      <a:lnTo>
                        <a:pt x="594" y="1526"/>
                      </a:lnTo>
                      <a:lnTo>
                        <a:pt x="604" y="1530"/>
                      </a:lnTo>
                      <a:lnTo>
                        <a:pt x="612" y="1532"/>
                      </a:lnTo>
                      <a:lnTo>
                        <a:pt x="622" y="1532"/>
                      </a:lnTo>
                      <a:lnTo>
                        <a:pt x="622" y="1532"/>
                      </a:lnTo>
                      <a:lnTo>
                        <a:pt x="634" y="1530"/>
                      </a:lnTo>
                      <a:lnTo>
                        <a:pt x="648" y="1528"/>
                      </a:lnTo>
                      <a:lnTo>
                        <a:pt x="662" y="1528"/>
                      </a:lnTo>
                      <a:lnTo>
                        <a:pt x="686" y="1532"/>
                      </a:lnTo>
                      <a:lnTo>
                        <a:pt x="712" y="1536"/>
                      </a:lnTo>
                      <a:lnTo>
                        <a:pt x="712" y="1536"/>
                      </a:lnTo>
                      <a:lnTo>
                        <a:pt x="722" y="1532"/>
                      </a:lnTo>
                      <a:lnTo>
                        <a:pt x="732" y="1524"/>
                      </a:lnTo>
                      <a:lnTo>
                        <a:pt x="734" y="1520"/>
                      </a:lnTo>
                      <a:lnTo>
                        <a:pt x="738" y="1514"/>
                      </a:lnTo>
                      <a:lnTo>
                        <a:pt x="738" y="1514"/>
                      </a:lnTo>
                      <a:lnTo>
                        <a:pt x="740" y="1510"/>
                      </a:lnTo>
                      <a:lnTo>
                        <a:pt x="744" y="1506"/>
                      </a:lnTo>
                      <a:lnTo>
                        <a:pt x="750" y="1502"/>
                      </a:lnTo>
                      <a:lnTo>
                        <a:pt x="754" y="1500"/>
                      </a:lnTo>
                      <a:lnTo>
                        <a:pt x="758" y="1500"/>
                      </a:lnTo>
                      <a:lnTo>
                        <a:pt x="766" y="1494"/>
                      </a:lnTo>
                      <a:lnTo>
                        <a:pt x="776" y="1476"/>
                      </a:lnTo>
                      <a:lnTo>
                        <a:pt x="788" y="1438"/>
                      </a:lnTo>
                      <a:lnTo>
                        <a:pt x="788" y="1438"/>
                      </a:lnTo>
                      <a:lnTo>
                        <a:pt x="792" y="1420"/>
                      </a:lnTo>
                      <a:lnTo>
                        <a:pt x="794" y="1398"/>
                      </a:lnTo>
                      <a:lnTo>
                        <a:pt x="796" y="1368"/>
                      </a:lnTo>
                      <a:lnTo>
                        <a:pt x="796" y="1368"/>
                      </a:lnTo>
                      <a:lnTo>
                        <a:pt x="794" y="1330"/>
                      </a:lnTo>
                      <a:lnTo>
                        <a:pt x="790" y="1286"/>
                      </a:lnTo>
                      <a:lnTo>
                        <a:pt x="786" y="1238"/>
                      </a:lnTo>
                      <a:lnTo>
                        <a:pt x="786" y="1238"/>
                      </a:lnTo>
                      <a:lnTo>
                        <a:pt x="770" y="1172"/>
                      </a:lnTo>
                      <a:lnTo>
                        <a:pt x="756" y="1114"/>
                      </a:lnTo>
                      <a:lnTo>
                        <a:pt x="746" y="1062"/>
                      </a:lnTo>
                      <a:lnTo>
                        <a:pt x="760" y="1088"/>
                      </a:lnTo>
                      <a:lnTo>
                        <a:pt x="780" y="1138"/>
                      </a:lnTo>
                      <a:lnTo>
                        <a:pt x="790" y="1152"/>
                      </a:lnTo>
                      <a:lnTo>
                        <a:pt x="794" y="1176"/>
                      </a:lnTo>
                      <a:lnTo>
                        <a:pt x="812" y="1210"/>
                      </a:lnTo>
                      <a:lnTo>
                        <a:pt x="816" y="1218"/>
                      </a:lnTo>
                      <a:lnTo>
                        <a:pt x="840" y="1266"/>
                      </a:lnTo>
                      <a:lnTo>
                        <a:pt x="850" y="1264"/>
                      </a:lnTo>
                      <a:lnTo>
                        <a:pt x="854" y="1272"/>
                      </a:lnTo>
                      <a:lnTo>
                        <a:pt x="850" y="1282"/>
                      </a:lnTo>
                      <a:lnTo>
                        <a:pt x="864" y="1304"/>
                      </a:lnTo>
                      <a:lnTo>
                        <a:pt x="884" y="1340"/>
                      </a:lnTo>
                      <a:lnTo>
                        <a:pt x="914" y="1362"/>
                      </a:lnTo>
                      <a:lnTo>
                        <a:pt x="946" y="1370"/>
                      </a:lnTo>
                      <a:lnTo>
                        <a:pt x="938" y="1348"/>
                      </a:lnTo>
                      <a:lnTo>
                        <a:pt x="952" y="1366"/>
                      </a:lnTo>
                      <a:lnTo>
                        <a:pt x="964" y="1336"/>
                      </a:lnTo>
                      <a:lnTo>
                        <a:pt x="962" y="1298"/>
                      </a:lnTo>
                      <a:lnTo>
                        <a:pt x="942" y="1262"/>
                      </a:lnTo>
                      <a:lnTo>
                        <a:pt x="932" y="1238"/>
                      </a:lnTo>
                      <a:lnTo>
                        <a:pt x="922" y="1236"/>
                      </a:lnTo>
                      <a:lnTo>
                        <a:pt x="918" y="1228"/>
                      </a:lnTo>
                      <a:lnTo>
                        <a:pt x="922" y="1222"/>
                      </a:lnTo>
                      <a:lnTo>
                        <a:pt x="898" y="1174"/>
                      </a:lnTo>
                      <a:lnTo>
                        <a:pt x="892" y="1166"/>
                      </a:lnTo>
                      <a:lnTo>
                        <a:pt x="874" y="1132"/>
                      </a:lnTo>
                      <a:lnTo>
                        <a:pt x="856" y="1116"/>
                      </a:lnTo>
                      <a:lnTo>
                        <a:pt x="850" y="1100"/>
                      </a:lnTo>
                      <a:lnTo>
                        <a:pt x="820" y="1056"/>
                      </a:lnTo>
                      <a:lnTo>
                        <a:pt x="804" y="1030"/>
                      </a:lnTo>
                      <a:lnTo>
                        <a:pt x="804" y="1030"/>
                      </a:lnTo>
                      <a:lnTo>
                        <a:pt x="800" y="1022"/>
                      </a:lnTo>
                      <a:lnTo>
                        <a:pt x="800" y="1022"/>
                      </a:lnTo>
                      <a:lnTo>
                        <a:pt x="840" y="1058"/>
                      </a:lnTo>
                      <a:lnTo>
                        <a:pt x="884" y="1104"/>
                      </a:lnTo>
                      <a:lnTo>
                        <a:pt x="934" y="1158"/>
                      </a:lnTo>
                      <a:lnTo>
                        <a:pt x="934" y="1158"/>
                      </a:lnTo>
                      <a:lnTo>
                        <a:pt x="972" y="1190"/>
                      </a:lnTo>
                      <a:lnTo>
                        <a:pt x="1006" y="1216"/>
                      </a:lnTo>
                      <a:lnTo>
                        <a:pt x="1036" y="1238"/>
                      </a:lnTo>
                      <a:lnTo>
                        <a:pt x="1036" y="1238"/>
                      </a:lnTo>
                      <a:lnTo>
                        <a:pt x="1062" y="1254"/>
                      </a:lnTo>
                      <a:lnTo>
                        <a:pt x="1082" y="1264"/>
                      </a:lnTo>
                      <a:lnTo>
                        <a:pt x="1098" y="1270"/>
                      </a:lnTo>
                      <a:lnTo>
                        <a:pt x="1138" y="1282"/>
                      </a:lnTo>
                      <a:lnTo>
                        <a:pt x="1158" y="1282"/>
                      </a:lnTo>
                      <a:lnTo>
                        <a:pt x="1168" y="1280"/>
                      </a:lnTo>
                      <a:lnTo>
                        <a:pt x="1168" y="1280"/>
                      </a:lnTo>
                      <a:lnTo>
                        <a:pt x="1170" y="1278"/>
                      </a:lnTo>
                      <a:lnTo>
                        <a:pt x="1174" y="1274"/>
                      </a:lnTo>
                      <a:lnTo>
                        <a:pt x="1180" y="1270"/>
                      </a:lnTo>
                      <a:lnTo>
                        <a:pt x="1186" y="1270"/>
                      </a:lnTo>
                      <a:lnTo>
                        <a:pt x="1190" y="1270"/>
                      </a:lnTo>
                      <a:lnTo>
                        <a:pt x="1190" y="1270"/>
                      </a:lnTo>
                      <a:lnTo>
                        <a:pt x="1196" y="1272"/>
                      </a:lnTo>
                      <a:lnTo>
                        <a:pt x="1202" y="1270"/>
                      </a:lnTo>
                      <a:lnTo>
                        <a:pt x="1214" y="1266"/>
                      </a:lnTo>
                      <a:lnTo>
                        <a:pt x="1224" y="1260"/>
                      </a:lnTo>
                      <a:lnTo>
                        <a:pt x="1234" y="1236"/>
                      </a:lnTo>
                      <a:lnTo>
                        <a:pt x="1244" y="1216"/>
                      </a:lnTo>
                      <a:lnTo>
                        <a:pt x="1244" y="1216"/>
                      </a:lnTo>
                      <a:lnTo>
                        <a:pt x="1252" y="1202"/>
                      </a:lnTo>
                      <a:lnTo>
                        <a:pt x="1260" y="1192"/>
                      </a:lnTo>
                      <a:lnTo>
                        <a:pt x="1268" y="1184"/>
                      </a:lnTo>
                      <a:lnTo>
                        <a:pt x="1268" y="1184"/>
                      </a:lnTo>
                      <a:lnTo>
                        <a:pt x="1274" y="1176"/>
                      </a:lnTo>
                      <a:lnTo>
                        <a:pt x="1278" y="1168"/>
                      </a:lnTo>
                      <a:lnTo>
                        <a:pt x="1278" y="1156"/>
                      </a:lnTo>
                      <a:lnTo>
                        <a:pt x="1278" y="1156"/>
                      </a:lnTo>
                      <a:lnTo>
                        <a:pt x="1282" y="1144"/>
                      </a:lnTo>
                      <a:lnTo>
                        <a:pt x="1286" y="1132"/>
                      </a:lnTo>
                      <a:lnTo>
                        <a:pt x="1288" y="1128"/>
                      </a:lnTo>
                      <a:lnTo>
                        <a:pt x="1292" y="1126"/>
                      </a:lnTo>
                      <a:lnTo>
                        <a:pt x="1292" y="1126"/>
                      </a:lnTo>
                      <a:lnTo>
                        <a:pt x="1296" y="1124"/>
                      </a:lnTo>
                      <a:lnTo>
                        <a:pt x="1298" y="1120"/>
                      </a:lnTo>
                      <a:lnTo>
                        <a:pt x="1306" y="1112"/>
                      </a:lnTo>
                      <a:lnTo>
                        <a:pt x="1312" y="1096"/>
                      </a:lnTo>
                      <a:lnTo>
                        <a:pt x="1312" y="1096"/>
                      </a:lnTo>
                      <a:lnTo>
                        <a:pt x="1314" y="1078"/>
                      </a:lnTo>
                      <a:lnTo>
                        <a:pt x="1316" y="1068"/>
                      </a:lnTo>
                      <a:lnTo>
                        <a:pt x="1316" y="1068"/>
                      </a:lnTo>
                      <a:lnTo>
                        <a:pt x="1314" y="1066"/>
                      </a:lnTo>
                      <a:lnTo>
                        <a:pt x="1314" y="1062"/>
                      </a:lnTo>
                      <a:lnTo>
                        <a:pt x="1316" y="1054"/>
                      </a:lnTo>
                      <a:lnTo>
                        <a:pt x="1324" y="1042"/>
                      </a:lnTo>
                      <a:lnTo>
                        <a:pt x="1324" y="1042"/>
                      </a:lnTo>
                      <a:lnTo>
                        <a:pt x="1330" y="1036"/>
                      </a:lnTo>
                      <a:lnTo>
                        <a:pt x="1334" y="1030"/>
                      </a:lnTo>
                      <a:lnTo>
                        <a:pt x="1336" y="1020"/>
                      </a:lnTo>
                      <a:lnTo>
                        <a:pt x="1336" y="1020"/>
                      </a:lnTo>
                      <a:close/>
                      <a:moveTo>
                        <a:pt x="662" y="842"/>
                      </a:move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lnTo>
                        <a:pt x="662" y="842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53"/>
              <p:cNvGrpSpPr/>
              <p:nvPr/>
            </p:nvGrpSpPr>
            <p:grpSpPr>
              <a:xfrm>
                <a:off x="0" y="4273560"/>
                <a:ext cx="1192320" cy="1365120"/>
                <a:chOff x="0" y="4273560"/>
                <a:chExt cx="1192320" cy="1365120"/>
              </a:xfrm>
            </p:grpSpPr>
            <p:sp>
              <p:nvSpPr>
                <p:cNvPr id="255" name="Freeform 56"/>
                <p:cNvSpPr/>
                <p:nvPr/>
              </p:nvSpPr>
              <p:spPr>
                <a:xfrm>
                  <a:off x="399960" y="4638600"/>
                  <a:ext cx="14040" cy="3618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12" h="314">
                      <a:moveTo>
                        <a:pt x="2" y="314"/>
                      </a:moveTo>
                      <a:lnTo>
                        <a:pt x="2" y="314"/>
                      </a:lnTo>
                      <a:lnTo>
                        <a:pt x="4" y="314"/>
                      </a:lnTo>
                      <a:lnTo>
                        <a:pt x="4" y="314"/>
                      </a:lnTo>
                      <a:lnTo>
                        <a:pt x="4" y="296"/>
                      </a:lnTo>
                      <a:lnTo>
                        <a:pt x="12" y="56"/>
                      </a:lnTo>
                      <a:lnTo>
                        <a:pt x="12" y="56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1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2" y="28"/>
                      </a:lnTo>
                      <a:lnTo>
                        <a:pt x="2" y="42"/>
                      </a:lnTo>
                      <a:lnTo>
                        <a:pt x="0" y="298"/>
                      </a:lnTo>
                      <a:lnTo>
                        <a:pt x="0" y="298"/>
                      </a:lnTo>
                      <a:lnTo>
                        <a:pt x="0" y="310"/>
                      </a:lnTo>
                      <a:lnTo>
                        <a:pt x="2" y="314"/>
                      </a:lnTo>
                      <a:lnTo>
                        <a:pt x="2" y="31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57"/>
                <p:cNvSpPr/>
                <p:nvPr/>
              </p:nvSpPr>
              <p:spPr>
                <a:xfrm>
                  <a:off x="439560" y="4930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58"/>
                <p:cNvSpPr/>
                <p:nvPr/>
              </p:nvSpPr>
              <p:spPr>
                <a:xfrm>
                  <a:off x="415800" y="4870440"/>
                  <a:ext cx="334800" cy="141120"/>
                </a:xfrm>
                <a:custGeom>
                  <a:avLst/>
                  <a:gdLst>
                    <a:gd name="textAreaLeft" fmla="*/ 0 w 334800"/>
                    <a:gd name="textAreaRight" fmla="*/ 335160 w 334800"/>
                    <a:gd name="textAreaTop" fmla="*/ 0 h 141120"/>
                    <a:gd name="textAreaBottom" fmla="*/ 141480 h 141120"/>
                  </a:gdLst>
                  <a:ahLst/>
                  <a:rect l="textAreaLeft" t="textAreaTop" r="textAreaRight" b="textAreaBottom"/>
                  <a:pathLst>
                    <a:path w="292" h="122">
                      <a:moveTo>
                        <a:pt x="0" y="122"/>
                      </a:moveTo>
                      <a:lnTo>
                        <a:pt x="0" y="122"/>
                      </a:lnTo>
                      <a:lnTo>
                        <a:pt x="18" y="116"/>
                      </a:lnTo>
                      <a:lnTo>
                        <a:pt x="254" y="20"/>
                      </a:lnTo>
                      <a:lnTo>
                        <a:pt x="254" y="20"/>
                      </a:lnTo>
                      <a:lnTo>
                        <a:pt x="268" y="14"/>
                      </a:lnTo>
                      <a:lnTo>
                        <a:pt x="278" y="12"/>
                      </a:lnTo>
                      <a:lnTo>
                        <a:pt x="278" y="12"/>
                      </a:lnTo>
                      <a:lnTo>
                        <a:pt x="284" y="10"/>
                      </a:lnTo>
                      <a:lnTo>
                        <a:pt x="292" y="6"/>
                      </a:lnTo>
                      <a:lnTo>
                        <a:pt x="292" y="6"/>
                      </a:lnTo>
                      <a:lnTo>
                        <a:pt x="292" y="4"/>
                      </a:lnTo>
                      <a:lnTo>
                        <a:pt x="292" y="2"/>
                      </a:lnTo>
                      <a:lnTo>
                        <a:pt x="286" y="0"/>
                      </a:lnTo>
                      <a:lnTo>
                        <a:pt x="286" y="0"/>
                      </a:lnTo>
                      <a:lnTo>
                        <a:pt x="274" y="2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38" y="16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59"/>
                <p:cNvSpPr/>
                <p:nvPr/>
              </p:nvSpPr>
              <p:spPr>
                <a:xfrm>
                  <a:off x="0" y="4273560"/>
                  <a:ext cx="1192320" cy="1365120"/>
                </a:xfrm>
                <a:custGeom>
                  <a:avLst/>
                  <a:gdLst>
                    <a:gd name="textAreaLeft" fmla="*/ 0 w 1192320"/>
                    <a:gd name="textAreaRight" fmla="*/ 1192680 w 1192320"/>
                    <a:gd name="textAreaTop" fmla="*/ 0 h 1365120"/>
                    <a:gd name="textAreaBottom" fmla="*/ 1365480 h 1365120"/>
                  </a:gdLst>
                  <a:ahLst/>
                  <a:rect l="textAreaLeft" t="textAreaTop" r="textAreaRight" b="textAreaBottom"/>
                  <a:pathLst>
                    <a:path w="1216" h="1392">
                      <a:moveTo>
                        <a:pt x="1216" y="756"/>
                      </a:moveTo>
                      <a:lnTo>
                        <a:pt x="1216" y="756"/>
                      </a:lnTo>
                      <a:lnTo>
                        <a:pt x="1212" y="748"/>
                      </a:lnTo>
                      <a:lnTo>
                        <a:pt x="1212" y="748"/>
                      </a:lnTo>
                      <a:lnTo>
                        <a:pt x="1206" y="738"/>
                      </a:lnTo>
                      <a:lnTo>
                        <a:pt x="1200" y="730"/>
                      </a:lnTo>
                      <a:lnTo>
                        <a:pt x="1186" y="716"/>
                      </a:lnTo>
                      <a:lnTo>
                        <a:pt x="1174" y="708"/>
                      </a:lnTo>
                      <a:lnTo>
                        <a:pt x="1168" y="704"/>
                      </a:lnTo>
                      <a:lnTo>
                        <a:pt x="1084" y="676"/>
                      </a:lnTo>
                      <a:lnTo>
                        <a:pt x="976" y="664"/>
                      </a:lnTo>
                      <a:lnTo>
                        <a:pt x="850" y="674"/>
                      </a:lnTo>
                      <a:lnTo>
                        <a:pt x="742" y="698"/>
                      </a:lnTo>
                      <a:lnTo>
                        <a:pt x="582" y="748"/>
                      </a:lnTo>
                      <a:lnTo>
                        <a:pt x="476" y="796"/>
                      </a:lnTo>
                      <a:lnTo>
                        <a:pt x="410" y="830"/>
                      </a:lnTo>
                      <a:lnTo>
                        <a:pt x="388" y="842"/>
                      </a:lnTo>
                      <a:lnTo>
                        <a:pt x="388" y="842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4" y="828"/>
                      </a:lnTo>
                      <a:lnTo>
                        <a:pt x="394" y="814"/>
                      </a:lnTo>
                      <a:lnTo>
                        <a:pt x="394" y="814"/>
                      </a:lnTo>
                      <a:lnTo>
                        <a:pt x="400" y="812"/>
                      </a:lnTo>
                      <a:lnTo>
                        <a:pt x="404" y="808"/>
                      </a:lnTo>
                      <a:lnTo>
                        <a:pt x="404" y="808"/>
                      </a:lnTo>
                      <a:lnTo>
                        <a:pt x="408" y="802"/>
                      </a:lnTo>
                      <a:lnTo>
                        <a:pt x="408" y="796"/>
                      </a:lnTo>
                      <a:lnTo>
                        <a:pt x="404" y="790"/>
                      </a:lnTo>
                      <a:lnTo>
                        <a:pt x="400" y="784"/>
                      </a:lnTo>
                      <a:lnTo>
                        <a:pt x="400" y="784"/>
                      </a:lnTo>
                      <a:lnTo>
                        <a:pt x="398" y="784"/>
                      </a:lnTo>
                      <a:lnTo>
                        <a:pt x="402" y="782"/>
                      </a:lnTo>
                      <a:lnTo>
                        <a:pt x="398" y="780"/>
                      </a:lnTo>
                      <a:lnTo>
                        <a:pt x="396" y="778"/>
                      </a:lnTo>
                      <a:lnTo>
                        <a:pt x="396" y="776"/>
                      </a:lnTo>
                      <a:lnTo>
                        <a:pt x="394" y="770"/>
                      </a:lnTo>
                      <a:lnTo>
                        <a:pt x="392" y="772"/>
                      </a:lnTo>
                      <a:lnTo>
                        <a:pt x="392" y="770"/>
                      </a:lnTo>
                      <a:lnTo>
                        <a:pt x="390" y="770"/>
                      </a:lnTo>
                      <a:lnTo>
                        <a:pt x="386" y="766"/>
                      </a:lnTo>
                      <a:lnTo>
                        <a:pt x="384" y="770"/>
                      </a:lnTo>
                      <a:lnTo>
                        <a:pt x="382" y="768"/>
                      </a:lnTo>
                      <a:lnTo>
                        <a:pt x="380" y="766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8" y="772"/>
                      </a:lnTo>
                      <a:lnTo>
                        <a:pt x="374" y="768"/>
                      </a:lnTo>
                      <a:lnTo>
                        <a:pt x="374" y="768"/>
                      </a:lnTo>
                      <a:lnTo>
                        <a:pt x="368" y="764"/>
                      </a:lnTo>
                      <a:lnTo>
                        <a:pt x="362" y="764"/>
                      </a:lnTo>
                      <a:lnTo>
                        <a:pt x="356" y="768"/>
                      </a:lnTo>
                      <a:lnTo>
                        <a:pt x="352" y="772"/>
                      </a:lnTo>
                      <a:lnTo>
                        <a:pt x="352" y="772"/>
                      </a:lnTo>
                      <a:lnTo>
                        <a:pt x="348" y="776"/>
                      </a:lnTo>
                      <a:lnTo>
                        <a:pt x="348" y="782"/>
                      </a:lnTo>
                      <a:lnTo>
                        <a:pt x="348" y="782"/>
                      </a:lnTo>
                      <a:lnTo>
                        <a:pt x="336" y="786"/>
                      </a:lnTo>
                      <a:lnTo>
                        <a:pt x="328" y="792"/>
                      </a:lnTo>
                      <a:lnTo>
                        <a:pt x="330" y="774"/>
                      </a:lnTo>
                      <a:lnTo>
                        <a:pt x="336" y="700"/>
                      </a:lnTo>
                      <a:lnTo>
                        <a:pt x="340" y="586"/>
                      </a:lnTo>
                      <a:lnTo>
                        <a:pt x="328" y="418"/>
                      </a:lnTo>
                      <a:lnTo>
                        <a:pt x="310" y="308"/>
                      </a:lnTo>
                      <a:lnTo>
                        <a:pt x="274" y="186"/>
                      </a:lnTo>
                      <a:lnTo>
                        <a:pt x="222" y="92"/>
                      </a:lnTo>
                      <a:lnTo>
                        <a:pt x="164" y="22"/>
                      </a:lnTo>
                      <a:lnTo>
                        <a:pt x="164" y="22"/>
                      </a:lnTo>
                      <a:lnTo>
                        <a:pt x="152" y="14"/>
                      </a:lnTo>
                      <a:lnTo>
                        <a:pt x="136" y="6"/>
                      </a:lnTo>
                      <a:lnTo>
                        <a:pt x="118" y="0"/>
                      </a:lnTo>
                      <a:lnTo>
                        <a:pt x="90" y="0"/>
                      </a:lnTo>
                      <a:lnTo>
                        <a:pt x="90" y="0"/>
                      </a:lnTo>
                      <a:lnTo>
                        <a:pt x="82" y="4"/>
                      </a:lnTo>
                      <a:lnTo>
                        <a:pt x="78" y="10"/>
                      </a:lnTo>
                      <a:lnTo>
                        <a:pt x="76" y="14"/>
                      </a:lnTo>
                      <a:lnTo>
                        <a:pt x="58" y="38"/>
                      </a:lnTo>
                      <a:lnTo>
                        <a:pt x="24" y="100"/>
                      </a:lnTo>
                      <a:lnTo>
                        <a:pt x="0" y="158"/>
                      </a:lnTo>
                      <a:lnTo>
                        <a:pt x="0" y="650"/>
                      </a:lnTo>
                      <a:lnTo>
                        <a:pt x="76" y="712"/>
                      </a:lnTo>
                      <a:lnTo>
                        <a:pt x="76" y="712"/>
                      </a:lnTo>
                      <a:lnTo>
                        <a:pt x="36" y="700"/>
                      </a:lnTo>
                      <a:lnTo>
                        <a:pt x="0" y="692"/>
                      </a:lnTo>
                      <a:lnTo>
                        <a:pt x="0" y="1108"/>
                      </a:lnTo>
                      <a:lnTo>
                        <a:pt x="0" y="1108"/>
                      </a:lnTo>
                      <a:lnTo>
                        <a:pt x="22" y="1096"/>
                      </a:lnTo>
                      <a:lnTo>
                        <a:pt x="22" y="1096"/>
                      </a:lnTo>
                      <a:lnTo>
                        <a:pt x="52" y="1080"/>
                      </a:lnTo>
                      <a:lnTo>
                        <a:pt x="84" y="1060"/>
                      </a:lnTo>
                      <a:lnTo>
                        <a:pt x="120" y="1036"/>
                      </a:lnTo>
                      <a:lnTo>
                        <a:pt x="120" y="1036"/>
                      </a:lnTo>
                      <a:lnTo>
                        <a:pt x="166" y="996"/>
                      </a:lnTo>
                      <a:lnTo>
                        <a:pt x="206" y="962"/>
                      </a:lnTo>
                      <a:lnTo>
                        <a:pt x="244" y="932"/>
                      </a:lnTo>
                      <a:lnTo>
                        <a:pt x="228" y="952"/>
                      </a:lnTo>
                      <a:lnTo>
                        <a:pt x="198" y="990"/>
                      </a:lnTo>
                      <a:lnTo>
                        <a:pt x="190" y="1004"/>
                      </a:lnTo>
                      <a:lnTo>
                        <a:pt x="172" y="1016"/>
                      </a:lnTo>
                      <a:lnTo>
                        <a:pt x="154" y="1044"/>
                      </a:lnTo>
                      <a:lnTo>
                        <a:pt x="148" y="1052"/>
                      </a:lnTo>
                      <a:lnTo>
                        <a:pt x="122" y="1090"/>
                      </a:lnTo>
                      <a:lnTo>
                        <a:pt x="126" y="1096"/>
                      </a:lnTo>
                      <a:lnTo>
                        <a:pt x="122" y="1102"/>
                      </a:lnTo>
                      <a:lnTo>
                        <a:pt x="112" y="1104"/>
                      </a:lnTo>
                      <a:lnTo>
                        <a:pt x="102" y="1124"/>
                      </a:lnTo>
                      <a:lnTo>
                        <a:pt x="80" y="1154"/>
                      </a:lnTo>
                      <a:lnTo>
                        <a:pt x="76" y="1188"/>
                      </a:lnTo>
                      <a:lnTo>
                        <a:pt x="84" y="1216"/>
                      </a:lnTo>
                      <a:lnTo>
                        <a:pt x="98" y="1200"/>
                      </a:lnTo>
                      <a:lnTo>
                        <a:pt x="88" y="1218"/>
                      </a:lnTo>
                      <a:lnTo>
                        <a:pt x="118" y="1216"/>
                      </a:lnTo>
                      <a:lnTo>
                        <a:pt x="146" y="1198"/>
                      </a:lnTo>
                      <a:lnTo>
                        <a:pt x="166" y="1168"/>
                      </a:lnTo>
                      <a:lnTo>
                        <a:pt x="180" y="1150"/>
                      </a:lnTo>
                      <a:lnTo>
                        <a:pt x="178" y="1142"/>
                      </a:lnTo>
                      <a:lnTo>
                        <a:pt x="182" y="1136"/>
                      </a:lnTo>
                      <a:lnTo>
                        <a:pt x="190" y="1136"/>
                      </a:lnTo>
                      <a:lnTo>
                        <a:pt x="216" y="1098"/>
                      </a:lnTo>
                      <a:lnTo>
                        <a:pt x="222" y="1090"/>
                      </a:lnTo>
                      <a:lnTo>
                        <a:pt x="240" y="1062"/>
                      </a:lnTo>
                      <a:lnTo>
                        <a:pt x="246" y="1042"/>
                      </a:lnTo>
                      <a:lnTo>
                        <a:pt x="256" y="1030"/>
                      </a:lnTo>
                      <a:lnTo>
                        <a:pt x="278" y="988"/>
                      </a:lnTo>
                      <a:lnTo>
                        <a:pt x="292" y="964"/>
                      </a:lnTo>
                      <a:lnTo>
                        <a:pt x="292" y="964"/>
                      </a:lnTo>
                      <a:lnTo>
                        <a:pt x="296" y="960"/>
                      </a:lnTo>
                      <a:lnTo>
                        <a:pt x="296" y="960"/>
                      </a:lnTo>
                      <a:lnTo>
                        <a:pt x="284" y="1004"/>
                      </a:lnTo>
                      <a:lnTo>
                        <a:pt x="266" y="1058"/>
                      </a:lnTo>
                      <a:lnTo>
                        <a:pt x="244" y="1120"/>
                      </a:lnTo>
                      <a:lnTo>
                        <a:pt x="244" y="1120"/>
                      </a:lnTo>
                      <a:lnTo>
                        <a:pt x="236" y="1162"/>
                      </a:lnTo>
                      <a:lnTo>
                        <a:pt x="228" y="1200"/>
                      </a:lnTo>
                      <a:lnTo>
                        <a:pt x="224" y="1234"/>
                      </a:lnTo>
                      <a:lnTo>
                        <a:pt x="224" y="1234"/>
                      </a:lnTo>
                      <a:lnTo>
                        <a:pt x="222" y="1260"/>
                      </a:lnTo>
                      <a:lnTo>
                        <a:pt x="222" y="1278"/>
                      </a:lnTo>
                      <a:lnTo>
                        <a:pt x="224" y="1294"/>
                      </a:lnTo>
                      <a:lnTo>
                        <a:pt x="232" y="1330"/>
                      </a:lnTo>
                      <a:lnTo>
                        <a:pt x="238" y="1346"/>
                      </a:lnTo>
                      <a:lnTo>
                        <a:pt x="246" y="1354"/>
                      </a:lnTo>
                      <a:lnTo>
                        <a:pt x="246" y="1354"/>
                      </a:lnTo>
                      <a:lnTo>
                        <a:pt x="248" y="1354"/>
                      </a:lnTo>
                      <a:lnTo>
                        <a:pt x="252" y="1356"/>
                      </a:lnTo>
                      <a:lnTo>
                        <a:pt x="258" y="1360"/>
                      </a:lnTo>
                      <a:lnTo>
                        <a:pt x="262" y="1368"/>
                      </a:lnTo>
                      <a:lnTo>
                        <a:pt x="262" y="1368"/>
                      </a:lnTo>
                      <a:lnTo>
                        <a:pt x="264" y="1372"/>
                      </a:lnTo>
                      <a:lnTo>
                        <a:pt x="266" y="1378"/>
                      </a:lnTo>
                      <a:lnTo>
                        <a:pt x="274" y="1384"/>
                      </a:lnTo>
                      <a:lnTo>
                        <a:pt x="282" y="1390"/>
                      </a:lnTo>
                      <a:lnTo>
                        <a:pt x="306" y="1388"/>
                      </a:lnTo>
                      <a:lnTo>
                        <a:pt x="326" y="1386"/>
                      </a:lnTo>
                      <a:lnTo>
                        <a:pt x="326" y="1386"/>
                      </a:lnTo>
                      <a:lnTo>
                        <a:pt x="338" y="1388"/>
                      </a:lnTo>
                      <a:lnTo>
                        <a:pt x="358" y="1392"/>
                      </a:lnTo>
                      <a:lnTo>
                        <a:pt x="382" y="1392"/>
                      </a:lnTo>
                      <a:lnTo>
                        <a:pt x="382" y="1392"/>
                      </a:lnTo>
                      <a:lnTo>
                        <a:pt x="388" y="1390"/>
                      </a:lnTo>
                      <a:lnTo>
                        <a:pt x="388" y="1390"/>
                      </a:lnTo>
                      <a:lnTo>
                        <a:pt x="400" y="1386"/>
                      </a:lnTo>
                      <a:lnTo>
                        <a:pt x="408" y="1386"/>
                      </a:lnTo>
                      <a:lnTo>
                        <a:pt x="412" y="1386"/>
                      </a:lnTo>
                      <a:lnTo>
                        <a:pt x="416" y="1388"/>
                      </a:lnTo>
                      <a:lnTo>
                        <a:pt x="416" y="1388"/>
                      </a:lnTo>
                      <a:lnTo>
                        <a:pt x="422" y="1390"/>
                      </a:lnTo>
                      <a:lnTo>
                        <a:pt x="428" y="1392"/>
                      </a:lnTo>
                      <a:lnTo>
                        <a:pt x="446" y="1392"/>
                      </a:lnTo>
                      <a:lnTo>
                        <a:pt x="446" y="1392"/>
                      </a:lnTo>
                      <a:lnTo>
                        <a:pt x="450" y="1392"/>
                      </a:lnTo>
                      <a:lnTo>
                        <a:pt x="450" y="1392"/>
                      </a:lnTo>
                      <a:lnTo>
                        <a:pt x="464" y="1386"/>
                      </a:lnTo>
                      <a:lnTo>
                        <a:pt x="472" y="1382"/>
                      </a:lnTo>
                      <a:lnTo>
                        <a:pt x="472" y="1382"/>
                      </a:lnTo>
                      <a:lnTo>
                        <a:pt x="474" y="1380"/>
                      </a:lnTo>
                      <a:lnTo>
                        <a:pt x="476" y="1378"/>
                      </a:lnTo>
                      <a:lnTo>
                        <a:pt x="484" y="1378"/>
                      </a:lnTo>
                      <a:lnTo>
                        <a:pt x="496" y="1380"/>
                      </a:lnTo>
                      <a:lnTo>
                        <a:pt x="496" y="1380"/>
                      </a:lnTo>
                      <a:lnTo>
                        <a:pt x="504" y="1380"/>
                      </a:lnTo>
                      <a:lnTo>
                        <a:pt x="510" y="1380"/>
                      </a:lnTo>
                      <a:lnTo>
                        <a:pt x="520" y="1378"/>
                      </a:lnTo>
                      <a:lnTo>
                        <a:pt x="526" y="1374"/>
                      </a:lnTo>
                      <a:lnTo>
                        <a:pt x="528" y="1372"/>
                      </a:lnTo>
                      <a:lnTo>
                        <a:pt x="554" y="1350"/>
                      </a:lnTo>
                      <a:lnTo>
                        <a:pt x="582" y="1336"/>
                      </a:lnTo>
                      <a:lnTo>
                        <a:pt x="598" y="1314"/>
                      </a:lnTo>
                      <a:lnTo>
                        <a:pt x="598" y="1314"/>
                      </a:lnTo>
                      <a:lnTo>
                        <a:pt x="606" y="1306"/>
                      </a:lnTo>
                      <a:lnTo>
                        <a:pt x="612" y="1300"/>
                      </a:lnTo>
                      <a:lnTo>
                        <a:pt x="616" y="1292"/>
                      </a:lnTo>
                      <a:lnTo>
                        <a:pt x="616" y="1292"/>
                      </a:lnTo>
                      <a:lnTo>
                        <a:pt x="624" y="1270"/>
                      </a:lnTo>
                      <a:lnTo>
                        <a:pt x="628" y="1254"/>
                      </a:lnTo>
                      <a:lnTo>
                        <a:pt x="630" y="1178"/>
                      </a:lnTo>
                      <a:lnTo>
                        <a:pt x="630" y="1178"/>
                      </a:lnTo>
                      <a:lnTo>
                        <a:pt x="614" y="1116"/>
                      </a:lnTo>
                      <a:lnTo>
                        <a:pt x="614" y="1116"/>
                      </a:lnTo>
                      <a:lnTo>
                        <a:pt x="608" y="1104"/>
                      </a:lnTo>
                      <a:lnTo>
                        <a:pt x="594" y="1086"/>
                      </a:lnTo>
                      <a:lnTo>
                        <a:pt x="562" y="1042"/>
                      </a:lnTo>
                      <a:lnTo>
                        <a:pt x="678" y="1106"/>
                      </a:lnTo>
                      <a:lnTo>
                        <a:pt x="714" y="1124"/>
                      </a:lnTo>
                      <a:lnTo>
                        <a:pt x="750" y="1142"/>
                      </a:lnTo>
                      <a:lnTo>
                        <a:pt x="782" y="1146"/>
                      </a:lnTo>
                      <a:lnTo>
                        <a:pt x="822" y="1140"/>
                      </a:lnTo>
                      <a:lnTo>
                        <a:pt x="866" y="1120"/>
                      </a:lnTo>
                      <a:lnTo>
                        <a:pt x="910" y="1090"/>
                      </a:lnTo>
                      <a:lnTo>
                        <a:pt x="936" y="1070"/>
                      </a:lnTo>
                      <a:lnTo>
                        <a:pt x="1000" y="1006"/>
                      </a:lnTo>
                      <a:lnTo>
                        <a:pt x="1044" y="966"/>
                      </a:lnTo>
                      <a:lnTo>
                        <a:pt x="1148" y="864"/>
                      </a:lnTo>
                      <a:lnTo>
                        <a:pt x="1194" y="808"/>
                      </a:lnTo>
                      <a:lnTo>
                        <a:pt x="1210" y="784"/>
                      </a:lnTo>
                      <a:lnTo>
                        <a:pt x="1210" y="784"/>
                      </a:lnTo>
                      <a:lnTo>
                        <a:pt x="1212" y="782"/>
                      </a:lnTo>
                      <a:lnTo>
                        <a:pt x="1216" y="776"/>
                      </a:lnTo>
                      <a:lnTo>
                        <a:pt x="1216" y="756"/>
                      </a:lnTo>
                      <a:close/>
                      <a:moveTo>
                        <a:pt x="382" y="776"/>
                      </a:move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lnTo>
                        <a:pt x="382" y="776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58"/>
              <p:cNvGrpSpPr/>
              <p:nvPr/>
            </p:nvGrpSpPr>
            <p:grpSpPr>
              <a:xfrm>
                <a:off x="7366680" y="0"/>
                <a:ext cx="1266480" cy="990360"/>
                <a:chOff x="7366680" y="0"/>
                <a:chExt cx="1266480" cy="990360"/>
              </a:xfrm>
            </p:grpSpPr>
            <p:sp>
              <p:nvSpPr>
                <p:cNvPr id="260" name="Freeform 63"/>
                <p:cNvSpPr/>
                <p:nvPr/>
              </p:nvSpPr>
              <p:spPr>
                <a:xfrm>
                  <a:off x="7700040" y="0"/>
                  <a:ext cx="185400" cy="18864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144" h="146">
                      <a:moveTo>
                        <a:pt x="144" y="146"/>
                      </a:move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lnTo>
                        <a:pt x="132" y="132"/>
                      </a:lnTo>
                      <a:lnTo>
                        <a:pt x="32" y="22"/>
                      </a:lnTo>
                      <a:lnTo>
                        <a:pt x="32" y="22"/>
                      </a:lnTo>
                      <a:lnTo>
                        <a:pt x="18" y="4"/>
                      </a:lnTo>
                      <a:lnTo>
                        <a:pt x="18" y="4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2" y="18"/>
                      </a:lnTo>
                      <a:lnTo>
                        <a:pt x="130" y="136"/>
                      </a:lnTo>
                      <a:lnTo>
                        <a:pt x="130" y="136"/>
                      </a:lnTo>
                      <a:lnTo>
                        <a:pt x="144" y="146"/>
                      </a:lnTo>
                      <a:lnTo>
                        <a:pt x="144" y="146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7887240" y="193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7895160" y="0"/>
                  <a:ext cx="85680" cy="18576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66" h="144">
                      <a:moveTo>
                        <a:pt x="2" y="144"/>
                      </a:moveTo>
                      <a:lnTo>
                        <a:pt x="2" y="144"/>
                      </a:lnTo>
                      <a:lnTo>
                        <a:pt x="10" y="130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2" y="4"/>
                      </a:lnTo>
                      <a:lnTo>
                        <a:pt x="56" y="14"/>
                      </a:lnTo>
                      <a:lnTo>
                        <a:pt x="6" y="128"/>
                      </a:lnTo>
                      <a:lnTo>
                        <a:pt x="6" y="128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7366680" y="0"/>
                  <a:ext cx="1266480" cy="990360"/>
                </a:xfrm>
                <a:custGeom>
                  <a:avLst/>
                  <a:gdLst>
                    <a:gd name="textAreaLeft" fmla="*/ 0 w 1266480"/>
                    <a:gd name="textAreaRight" fmla="*/ 1266840 w 126648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982" h="768">
                      <a:moveTo>
                        <a:pt x="676" y="0"/>
                      </a:moveTo>
                      <a:lnTo>
                        <a:pt x="676" y="0"/>
                      </a:lnTo>
                      <a:lnTo>
                        <a:pt x="666" y="14"/>
                      </a:lnTo>
                      <a:lnTo>
                        <a:pt x="666" y="14"/>
                      </a:lnTo>
                      <a:lnTo>
                        <a:pt x="654" y="36"/>
                      </a:lnTo>
                      <a:lnTo>
                        <a:pt x="642" y="58"/>
                      </a:lnTo>
                      <a:lnTo>
                        <a:pt x="620" y="104"/>
                      </a:lnTo>
                      <a:lnTo>
                        <a:pt x="604" y="146"/>
                      </a:lnTo>
                      <a:lnTo>
                        <a:pt x="594" y="174"/>
                      </a:lnTo>
                      <a:lnTo>
                        <a:pt x="594" y="174"/>
                      </a:lnTo>
                      <a:lnTo>
                        <a:pt x="592" y="170"/>
                      </a:lnTo>
                      <a:lnTo>
                        <a:pt x="586" y="164"/>
                      </a:lnTo>
                      <a:lnTo>
                        <a:pt x="586" y="164"/>
                      </a:lnTo>
                      <a:lnTo>
                        <a:pt x="588" y="160"/>
                      </a:lnTo>
                      <a:lnTo>
                        <a:pt x="588" y="156"/>
                      </a:lnTo>
                      <a:lnTo>
                        <a:pt x="588" y="156"/>
                      </a:lnTo>
                      <a:lnTo>
                        <a:pt x="586" y="152"/>
                      </a:lnTo>
                      <a:lnTo>
                        <a:pt x="582" y="148"/>
                      </a:lnTo>
                      <a:lnTo>
                        <a:pt x="580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6"/>
                      </a:lnTo>
                      <a:lnTo>
                        <a:pt x="574" y="144"/>
                      </a:lnTo>
                      <a:lnTo>
                        <a:pt x="572" y="144"/>
                      </a:lnTo>
                      <a:lnTo>
                        <a:pt x="568" y="144"/>
                      </a:lnTo>
                      <a:lnTo>
                        <a:pt x="568" y="144"/>
                      </a:lnTo>
                      <a:lnTo>
                        <a:pt x="564" y="142"/>
                      </a:lnTo>
                      <a:lnTo>
                        <a:pt x="564" y="144"/>
                      </a:lnTo>
                      <a:lnTo>
                        <a:pt x="564" y="142"/>
                      </a:lnTo>
                      <a:lnTo>
                        <a:pt x="562" y="144"/>
                      </a:lnTo>
                      <a:lnTo>
                        <a:pt x="560" y="144"/>
                      </a:lnTo>
                      <a:lnTo>
                        <a:pt x="560" y="146"/>
                      </a:lnTo>
                      <a:lnTo>
                        <a:pt x="558" y="146"/>
                      </a:lnTo>
                      <a:lnTo>
                        <a:pt x="556" y="148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8" y="150"/>
                      </a:lnTo>
                      <a:lnTo>
                        <a:pt x="554" y="150"/>
                      </a:lnTo>
                      <a:lnTo>
                        <a:pt x="554" y="150"/>
                      </a:lnTo>
                      <a:lnTo>
                        <a:pt x="550" y="152"/>
                      </a:lnTo>
                      <a:lnTo>
                        <a:pt x="546" y="154"/>
                      </a:lnTo>
                      <a:lnTo>
                        <a:pt x="544" y="158"/>
                      </a:lnTo>
                      <a:lnTo>
                        <a:pt x="544" y="162"/>
                      </a:lnTo>
                      <a:lnTo>
                        <a:pt x="544" y="162"/>
                      </a:lnTo>
                      <a:lnTo>
                        <a:pt x="548" y="168"/>
                      </a:lnTo>
                      <a:lnTo>
                        <a:pt x="548" y="168"/>
                      </a:lnTo>
                      <a:lnTo>
                        <a:pt x="542" y="182"/>
                      </a:lnTo>
                      <a:lnTo>
                        <a:pt x="542" y="182"/>
                      </a:lnTo>
                      <a:lnTo>
                        <a:pt x="522" y="158"/>
                      </a:lnTo>
                      <a:lnTo>
                        <a:pt x="494" y="124"/>
                      </a:lnTo>
                      <a:lnTo>
                        <a:pt x="460" y="88"/>
                      </a:lnTo>
                      <a:lnTo>
                        <a:pt x="442" y="70"/>
                      </a:lnTo>
                      <a:lnTo>
                        <a:pt x="424" y="54"/>
                      </a:lnTo>
                      <a:lnTo>
                        <a:pt x="424" y="54"/>
                      </a:lnTo>
                      <a:lnTo>
                        <a:pt x="384" y="26"/>
                      </a:lnTo>
                      <a:lnTo>
                        <a:pt x="346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28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32" y="54"/>
                      </a:lnTo>
                      <a:lnTo>
                        <a:pt x="38" y="60"/>
                      </a:lnTo>
                      <a:lnTo>
                        <a:pt x="44" y="62"/>
                      </a:lnTo>
                      <a:lnTo>
                        <a:pt x="44" y="62"/>
                      </a:lnTo>
                      <a:lnTo>
                        <a:pt x="48" y="66"/>
                      </a:lnTo>
                      <a:lnTo>
                        <a:pt x="52" y="70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62" y="82"/>
                      </a:lnTo>
                      <a:lnTo>
                        <a:pt x="68" y="88"/>
                      </a:lnTo>
                      <a:lnTo>
                        <a:pt x="76" y="92"/>
                      </a:lnTo>
                      <a:lnTo>
                        <a:pt x="76" y="92"/>
                      </a:lnTo>
                      <a:lnTo>
                        <a:pt x="84" y="96"/>
                      </a:lnTo>
                      <a:lnTo>
                        <a:pt x="92" y="102"/>
                      </a:lnTo>
                      <a:lnTo>
                        <a:pt x="98" y="108"/>
                      </a:lnTo>
                      <a:lnTo>
                        <a:pt x="100" y="112"/>
                      </a:lnTo>
                      <a:lnTo>
                        <a:pt x="100" y="112"/>
                      </a:lnTo>
                      <a:lnTo>
                        <a:pt x="104" y="118"/>
                      </a:lnTo>
                      <a:lnTo>
                        <a:pt x="110" y="124"/>
                      </a:lnTo>
                      <a:lnTo>
                        <a:pt x="120" y="132"/>
                      </a:lnTo>
                      <a:lnTo>
                        <a:pt x="120" y="132"/>
                      </a:lnTo>
                      <a:lnTo>
                        <a:pt x="126" y="142"/>
                      </a:lnTo>
                      <a:lnTo>
                        <a:pt x="128" y="152"/>
                      </a:lnTo>
                      <a:lnTo>
                        <a:pt x="128" y="154"/>
                      </a:lnTo>
                      <a:lnTo>
                        <a:pt x="128" y="158"/>
                      </a:lnTo>
                      <a:lnTo>
                        <a:pt x="128" y="158"/>
                      </a:lnTo>
                      <a:lnTo>
                        <a:pt x="126" y="160"/>
                      </a:lnTo>
                      <a:lnTo>
                        <a:pt x="128" y="162"/>
                      </a:lnTo>
                      <a:lnTo>
                        <a:pt x="132" y="166"/>
                      </a:lnTo>
                      <a:lnTo>
                        <a:pt x="138" y="170"/>
                      </a:lnTo>
                      <a:lnTo>
                        <a:pt x="138" y="170"/>
                      </a:lnTo>
                      <a:lnTo>
                        <a:pt x="144" y="176"/>
                      </a:lnTo>
                      <a:lnTo>
                        <a:pt x="146" y="182"/>
                      </a:lnTo>
                      <a:lnTo>
                        <a:pt x="146" y="184"/>
                      </a:lnTo>
                      <a:lnTo>
                        <a:pt x="146" y="188"/>
                      </a:lnTo>
                      <a:lnTo>
                        <a:pt x="146" y="188"/>
                      </a:lnTo>
                      <a:lnTo>
                        <a:pt x="146" y="192"/>
                      </a:lnTo>
                      <a:lnTo>
                        <a:pt x="146" y="196"/>
                      </a:lnTo>
                      <a:lnTo>
                        <a:pt x="150" y="206"/>
                      </a:lnTo>
                      <a:lnTo>
                        <a:pt x="156" y="214"/>
                      </a:lnTo>
                      <a:lnTo>
                        <a:pt x="162" y="218"/>
                      </a:lnTo>
                      <a:lnTo>
                        <a:pt x="162" y="218"/>
                      </a:lnTo>
                      <a:lnTo>
                        <a:pt x="166" y="220"/>
                      </a:lnTo>
                      <a:lnTo>
                        <a:pt x="170" y="226"/>
                      </a:lnTo>
                      <a:lnTo>
                        <a:pt x="172" y="234"/>
                      </a:lnTo>
                      <a:lnTo>
                        <a:pt x="172" y="234"/>
                      </a:lnTo>
                      <a:lnTo>
                        <a:pt x="176" y="240"/>
                      </a:lnTo>
                      <a:lnTo>
                        <a:pt x="182" y="248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206" y="270"/>
                      </a:lnTo>
                      <a:lnTo>
                        <a:pt x="216" y="280"/>
                      </a:lnTo>
                      <a:lnTo>
                        <a:pt x="216" y="280"/>
                      </a:lnTo>
                      <a:lnTo>
                        <a:pt x="222" y="284"/>
                      </a:lnTo>
                      <a:lnTo>
                        <a:pt x="232" y="286"/>
                      </a:lnTo>
                      <a:lnTo>
                        <a:pt x="242" y="290"/>
                      </a:lnTo>
                      <a:lnTo>
                        <a:pt x="270" y="288"/>
                      </a:lnTo>
                      <a:lnTo>
                        <a:pt x="296" y="284"/>
                      </a:lnTo>
                      <a:lnTo>
                        <a:pt x="322" y="280"/>
                      </a:lnTo>
                      <a:lnTo>
                        <a:pt x="358" y="276"/>
                      </a:lnTo>
                      <a:lnTo>
                        <a:pt x="368" y="276"/>
                      </a:lnTo>
                      <a:lnTo>
                        <a:pt x="368" y="276"/>
                      </a:lnTo>
                      <a:lnTo>
                        <a:pt x="320" y="316"/>
                      </a:lnTo>
                      <a:lnTo>
                        <a:pt x="308" y="330"/>
                      </a:lnTo>
                      <a:lnTo>
                        <a:pt x="300" y="340"/>
                      </a:lnTo>
                      <a:lnTo>
                        <a:pt x="296" y="346"/>
                      </a:lnTo>
                      <a:lnTo>
                        <a:pt x="294" y="348"/>
                      </a:lnTo>
                      <a:lnTo>
                        <a:pt x="294" y="350"/>
                      </a:lnTo>
                      <a:lnTo>
                        <a:pt x="266" y="412"/>
                      </a:lnTo>
                      <a:lnTo>
                        <a:pt x="270" y="420"/>
                      </a:lnTo>
                      <a:lnTo>
                        <a:pt x="270" y="428"/>
                      </a:lnTo>
                      <a:lnTo>
                        <a:pt x="264" y="446"/>
                      </a:lnTo>
                      <a:lnTo>
                        <a:pt x="258" y="460"/>
                      </a:lnTo>
                      <a:lnTo>
                        <a:pt x="256" y="484"/>
                      </a:lnTo>
                      <a:lnTo>
                        <a:pt x="256" y="484"/>
                      </a:lnTo>
                      <a:lnTo>
                        <a:pt x="260" y="492"/>
                      </a:lnTo>
                      <a:lnTo>
                        <a:pt x="264" y="498"/>
                      </a:lnTo>
                      <a:lnTo>
                        <a:pt x="268" y="500"/>
                      </a:lnTo>
                      <a:lnTo>
                        <a:pt x="272" y="502"/>
                      </a:lnTo>
                      <a:lnTo>
                        <a:pt x="272" y="502"/>
                      </a:lnTo>
                      <a:lnTo>
                        <a:pt x="276" y="504"/>
                      </a:lnTo>
                      <a:lnTo>
                        <a:pt x="278" y="506"/>
                      </a:lnTo>
                      <a:lnTo>
                        <a:pt x="282" y="514"/>
                      </a:lnTo>
                      <a:lnTo>
                        <a:pt x="282" y="524"/>
                      </a:lnTo>
                      <a:lnTo>
                        <a:pt x="286" y="540"/>
                      </a:lnTo>
                      <a:lnTo>
                        <a:pt x="286" y="540"/>
                      </a:lnTo>
                      <a:lnTo>
                        <a:pt x="288" y="542"/>
                      </a:lnTo>
                      <a:lnTo>
                        <a:pt x="292" y="546"/>
                      </a:lnTo>
                      <a:lnTo>
                        <a:pt x="300" y="550"/>
                      </a:lnTo>
                      <a:lnTo>
                        <a:pt x="306" y="550"/>
                      </a:lnTo>
                      <a:lnTo>
                        <a:pt x="312" y="550"/>
                      </a:lnTo>
                      <a:lnTo>
                        <a:pt x="312" y="550"/>
                      </a:lnTo>
                      <a:lnTo>
                        <a:pt x="318" y="550"/>
                      </a:lnTo>
                      <a:lnTo>
                        <a:pt x="322" y="552"/>
                      </a:lnTo>
                      <a:lnTo>
                        <a:pt x="326" y="554"/>
                      </a:lnTo>
                      <a:lnTo>
                        <a:pt x="328" y="558"/>
                      </a:lnTo>
                      <a:lnTo>
                        <a:pt x="330" y="566"/>
                      </a:lnTo>
                      <a:lnTo>
                        <a:pt x="330" y="570"/>
                      </a:lnTo>
                      <a:lnTo>
                        <a:pt x="330" y="570"/>
                      </a:lnTo>
                      <a:lnTo>
                        <a:pt x="332" y="580"/>
                      </a:lnTo>
                      <a:lnTo>
                        <a:pt x="334" y="588"/>
                      </a:lnTo>
                      <a:lnTo>
                        <a:pt x="336" y="594"/>
                      </a:lnTo>
                      <a:lnTo>
                        <a:pt x="336" y="594"/>
                      </a:lnTo>
                      <a:lnTo>
                        <a:pt x="340" y="598"/>
                      </a:lnTo>
                      <a:lnTo>
                        <a:pt x="344" y="598"/>
                      </a:lnTo>
                      <a:lnTo>
                        <a:pt x="350" y="598"/>
                      </a:lnTo>
                      <a:lnTo>
                        <a:pt x="350" y="598"/>
                      </a:lnTo>
                      <a:lnTo>
                        <a:pt x="358" y="598"/>
                      </a:lnTo>
                      <a:lnTo>
                        <a:pt x="364" y="598"/>
                      </a:lnTo>
                      <a:lnTo>
                        <a:pt x="370" y="600"/>
                      </a:lnTo>
                      <a:lnTo>
                        <a:pt x="372" y="604"/>
                      </a:lnTo>
                      <a:lnTo>
                        <a:pt x="372" y="604"/>
                      </a:lnTo>
                      <a:lnTo>
                        <a:pt x="374" y="608"/>
                      </a:lnTo>
                      <a:lnTo>
                        <a:pt x="378" y="612"/>
                      </a:lnTo>
                      <a:lnTo>
                        <a:pt x="378" y="616"/>
                      </a:lnTo>
                      <a:lnTo>
                        <a:pt x="380" y="622"/>
                      </a:lnTo>
                      <a:lnTo>
                        <a:pt x="378" y="628"/>
                      </a:lnTo>
                      <a:lnTo>
                        <a:pt x="376" y="636"/>
                      </a:lnTo>
                      <a:lnTo>
                        <a:pt x="376" y="636"/>
                      </a:lnTo>
                      <a:lnTo>
                        <a:pt x="364" y="668"/>
                      </a:lnTo>
                      <a:lnTo>
                        <a:pt x="360" y="680"/>
                      </a:lnTo>
                      <a:lnTo>
                        <a:pt x="354" y="684"/>
                      </a:lnTo>
                      <a:lnTo>
                        <a:pt x="354" y="684"/>
                      </a:lnTo>
                      <a:lnTo>
                        <a:pt x="348" y="692"/>
                      </a:lnTo>
                      <a:lnTo>
                        <a:pt x="344" y="702"/>
                      </a:lnTo>
                      <a:lnTo>
                        <a:pt x="338" y="716"/>
                      </a:lnTo>
                      <a:lnTo>
                        <a:pt x="338" y="716"/>
                      </a:lnTo>
                      <a:lnTo>
                        <a:pt x="336" y="720"/>
                      </a:lnTo>
                      <a:lnTo>
                        <a:pt x="334" y="734"/>
                      </a:lnTo>
                      <a:lnTo>
                        <a:pt x="336" y="748"/>
                      </a:lnTo>
                      <a:lnTo>
                        <a:pt x="338" y="754"/>
                      </a:lnTo>
                      <a:lnTo>
                        <a:pt x="342" y="760"/>
                      </a:lnTo>
                      <a:lnTo>
                        <a:pt x="342" y="760"/>
                      </a:lnTo>
                      <a:lnTo>
                        <a:pt x="348" y="764"/>
                      </a:lnTo>
                      <a:lnTo>
                        <a:pt x="356" y="768"/>
                      </a:lnTo>
                      <a:lnTo>
                        <a:pt x="364" y="768"/>
                      </a:lnTo>
                      <a:lnTo>
                        <a:pt x="364" y="768"/>
                      </a:lnTo>
                      <a:lnTo>
                        <a:pt x="372" y="764"/>
                      </a:lnTo>
                      <a:lnTo>
                        <a:pt x="378" y="758"/>
                      </a:lnTo>
                      <a:lnTo>
                        <a:pt x="386" y="746"/>
                      </a:lnTo>
                      <a:lnTo>
                        <a:pt x="390" y="730"/>
                      </a:lnTo>
                      <a:lnTo>
                        <a:pt x="390" y="730"/>
                      </a:lnTo>
                      <a:lnTo>
                        <a:pt x="398" y="700"/>
                      </a:lnTo>
                      <a:lnTo>
                        <a:pt x="406" y="678"/>
                      </a:lnTo>
                      <a:lnTo>
                        <a:pt x="412" y="662"/>
                      </a:lnTo>
                      <a:lnTo>
                        <a:pt x="412" y="662"/>
                      </a:lnTo>
                      <a:lnTo>
                        <a:pt x="414" y="660"/>
                      </a:lnTo>
                      <a:lnTo>
                        <a:pt x="418" y="658"/>
                      </a:lnTo>
                      <a:lnTo>
                        <a:pt x="428" y="654"/>
                      </a:lnTo>
                      <a:lnTo>
                        <a:pt x="434" y="654"/>
                      </a:lnTo>
                      <a:lnTo>
                        <a:pt x="444" y="656"/>
                      </a:lnTo>
                      <a:lnTo>
                        <a:pt x="444" y="656"/>
                      </a:lnTo>
                      <a:lnTo>
                        <a:pt x="454" y="660"/>
                      </a:lnTo>
                      <a:lnTo>
                        <a:pt x="456" y="660"/>
                      </a:lnTo>
                      <a:lnTo>
                        <a:pt x="456" y="662"/>
                      </a:lnTo>
                      <a:lnTo>
                        <a:pt x="454" y="662"/>
                      </a:lnTo>
                      <a:lnTo>
                        <a:pt x="456" y="662"/>
                      </a:lnTo>
                      <a:lnTo>
                        <a:pt x="456" y="662"/>
                      </a:lnTo>
                      <a:lnTo>
                        <a:pt x="462" y="660"/>
                      </a:lnTo>
                      <a:lnTo>
                        <a:pt x="466" y="658"/>
                      </a:lnTo>
                      <a:lnTo>
                        <a:pt x="470" y="654"/>
                      </a:lnTo>
                      <a:lnTo>
                        <a:pt x="470" y="654"/>
                      </a:lnTo>
                      <a:lnTo>
                        <a:pt x="474" y="652"/>
                      </a:lnTo>
                      <a:lnTo>
                        <a:pt x="478" y="648"/>
                      </a:lnTo>
                      <a:lnTo>
                        <a:pt x="482" y="648"/>
                      </a:lnTo>
                      <a:lnTo>
                        <a:pt x="482" y="648"/>
                      </a:lnTo>
                      <a:lnTo>
                        <a:pt x="492" y="648"/>
                      </a:lnTo>
                      <a:lnTo>
                        <a:pt x="498" y="650"/>
                      </a:lnTo>
                      <a:lnTo>
                        <a:pt x="498" y="650"/>
                      </a:lnTo>
                      <a:lnTo>
                        <a:pt x="500" y="650"/>
                      </a:lnTo>
                      <a:lnTo>
                        <a:pt x="504" y="652"/>
                      </a:lnTo>
                      <a:lnTo>
                        <a:pt x="510" y="650"/>
                      </a:lnTo>
                      <a:lnTo>
                        <a:pt x="514" y="648"/>
                      </a:lnTo>
                      <a:lnTo>
                        <a:pt x="516" y="644"/>
                      </a:lnTo>
                      <a:lnTo>
                        <a:pt x="516" y="644"/>
                      </a:lnTo>
                      <a:lnTo>
                        <a:pt x="520" y="632"/>
                      </a:lnTo>
                      <a:lnTo>
                        <a:pt x="522" y="620"/>
                      </a:lnTo>
                      <a:lnTo>
                        <a:pt x="522" y="606"/>
                      </a:lnTo>
                      <a:lnTo>
                        <a:pt x="530" y="582"/>
                      </a:lnTo>
                      <a:lnTo>
                        <a:pt x="530" y="572"/>
                      </a:lnTo>
                      <a:lnTo>
                        <a:pt x="544" y="570"/>
                      </a:lnTo>
                      <a:lnTo>
                        <a:pt x="550" y="534"/>
                      </a:lnTo>
                      <a:lnTo>
                        <a:pt x="556" y="474"/>
                      </a:lnTo>
                      <a:lnTo>
                        <a:pt x="558" y="398"/>
                      </a:lnTo>
                      <a:lnTo>
                        <a:pt x="558" y="340"/>
                      </a:lnTo>
                      <a:lnTo>
                        <a:pt x="558" y="340"/>
                      </a:lnTo>
                      <a:lnTo>
                        <a:pt x="560" y="332"/>
                      </a:lnTo>
                      <a:lnTo>
                        <a:pt x="562" y="322"/>
                      </a:lnTo>
                      <a:lnTo>
                        <a:pt x="562" y="308"/>
                      </a:lnTo>
                      <a:lnTo>
                        <a:pt x="562" y="308"/>
                      </a:lnTo>
                      <a:lnTo>
                        <a:pt x="560" y="300"/>
                      </a:lnTo>
                      <a:lnTo>
                        <a:pt x="562" y="296"/>
                      </a:lnTo>
                      <a:lnTo>
                        <a:pt x="564" y="294"/>
                      </a:lnTo>
                      <a:lnTo>
                        <a:pt x="568" y="294"/>
                      </a:lnTo>
                      <a:lnTo>
                        <a:pt x="568" y="306"/>
                      </a:lnTo>
                      <a:lnTo>
                        <a:pt x="570" y="338"/>
                      </a:lnTo>
                      <a:lnTo>
                        <a:pt x="574" y="348"/>
                      </a:lnTo>
                      <a:lnTo>
                        <a:pt x="570" y="362"/>
                      </a:lnTo>
                      <a:lnTo>
                        <a:pt x="574" y="384"/>
                      </a:lnTo>
                      <a:lnTo>
                        <a:pt x="576" y="390"/>
                      </a:lnTo>
                      <a:lnTo>
                        <a:pt x="580" y="422"/>
                      </a:lnTo>
                      <a:lnTo>
                        <a:pt x="586" y="422"/>
                      </a:lnTo>
                      <a:lnTo>
                        <a:pt x="586" y="428"/>
                      </a:lnTo>
                      <a:lnTo>
                        <a:pt x="582" y="432"/>
                      </a:lnTo>
                      <a:lnTo>
                        <a:pt x="586" y="448"/>
                      </a:lnTo>
                      <a:lnTo>
                        <a:pt x="590" y="472"/>
                      </a:lnTo>
                      <a:lnTo>
                        <a:pt x="602" y="490"/>
                      </a:lnTo>
                      <a:lnTo>
                        <a:pt x="620" y="500"/>
                      </a:lnTo>
                      <a:lnTo>
                        <a:pt x="620" y="486"/>
                      </a:lnTo>
                      <a:lnTo>
                        <a:pt x="624" y="498"/>
                      </a:lnTo>
                      <a:lnTo>
                        <a:pt x="636" y="484"/>
                      </a:lnTo>
                      <a:lnTo>
                        <a:pt x="642" y="462"/>
                      </a:lnTo>
                      <a:lnTo>
                        <a:pt x="638" y="438"/>
                      </a:lnTo>
                      <a:lnTo>
                        <a:pt x="636" y="424"/>
                      </a:lnTo>
                      <a:lnTo>
                        <a:pt x="632" y="420"/>
                      </a:lnTo>
                      <a:lnTo>
                        <a:pt x="630" y="416"/>
                      </a:lnTo>
                      <a:lnTo>
                        <a:pt x="636" y="412"/>
                      </a:lnTo>
                      <a:lnTo>
                        <a:pt x="630" y="382"/>
                      </a:lnTo>
                      <a:lnTo>
                        <a:pt x="628" y="376"/>
                      </a:lnTo>
                      <a:lnTo>
                        <a:pt x="626" y="354"/>
                      </a:lnTo>
                      <a:lnTo>
                        <a:pt x="618" y="340"/>
                      </a:lnTo>
                      <a:lnTo>
                        <a:pt x="618" y="330"/>
                      </a:lnTo>
                      <a:lnTo>
                        <a:pt x="610" y="300"/>
                      </a:lnTo>
                      <a:lnTo>
                        <a:pt x="606" y="288"/>
                      </a:lnTo>
                      <a:lnTo>
                        <a:pt x="606" y="288"/>
                      </a:lnTo>
                      <a:lnTo>
                        <a:pt x="610" y="286"/>
                      </a:lnTo>
                      <a:lnTo>
                        <a:pt x="612" y="288"/>
                      </a:lnTo>
                      <a:lnTo>
                        <a:pt x="616" y="292"/>
                      </a:lnTo>
                      <a:lnTo>
                        <a:pt x="618" y="298"/>
                      </a:lnTo>
                      <a:lnTo>
                        <a:pt x="618" y="298"/>
                      </a:lnTo>
                      <a:lnTo>
                        <a:pt x="622" y="312"/>
                      </a:lnTo>
                      <a:lnTo>
                        <a:pt x="626" y="322"/>
                      </a:lnTo>
                      <a:lnTo>
                        <a:pt x="632" y="328"/>
                      </a:lnTo>
                      <a:lnTo>
                        <a:pt x="652" y="384"/>
                      </a:lnTo>
                      <a:lnTo>
                        <a:pt x="678" y="454"/>
                      </a:lnTo>
                      <a:lnTo>
                        <a:pt x="702" y="508"/>
                      </a:lnTo>
                      <a:lnTo>
                        <a:pt x="720" y="540"/>
                      </a:lnTo>
                      <a:lnTo>
                        <a:pt x="732" y="540"/>
                      </a:lnTo>
                      <a:lnTo>
                        <a:pt x="736" y="548"/>
                      </a:lnTo>
                      <a:lnTo>
                        <a:pt x="752" y="568"/>
                      </a:lnTo>
                      <a:lnTo>
                        <a:pt x="752" y="568"/>
                      </a:lnTo>
                      <a:lnTo>
                        <a:pt x="756" y="582"/>
                      </a:lnTo>
                      <a:lnTo>
                        <a:pt x="762" y="592"/>
                      </a:lnTo>
                      <a:lnTo>
                        <a:pt x="768" y="602"/>
                      </a:lnTo>
                      <a:lnTo>
                        <a:pt x="768" y="602"/>
                      </a:lnTo>
                      <a:lnTo>
                        <a:pt x="774" y="604"/>
                      </a:lnTo>
                      <a:lnTo>
                        <a:pt x="776" y="606"/>
                      </a:lnTo>
                      <a:lnTo>
                        <a:pt x="784" y="604"/>
                      </a:lnTo>
                      <a:lnTo>
                        <a:pt x="788" y="602"/>
                      </a:lnTo>
                      <a:lnTo>
                        <a:pt x="790" y="602"/>
                      </a:lnTo>
                      <a:lnTo>
                        <a:pt x="790" y="602"/>
                      </a:lnTo>
                      <a:lnTo>
                        <a:pt x="794" y="598"/>
                      </a:lnTo>
                      <a:lnTo>
                        <a:pt x="804" y="594"/>
                      </a:lnTo>
                      <a:lnTo>
                        <a:pt x="804" y="594"/>
                      </a:lnTo>
                      <a:lnTo>
                        <a:pt x="808" y="594"/>
                      </a:lnTo>
                      <a:lnTo>
                        <a:pt x="812" y="594"/>
                      </a:lnTo>
                      <a:lnTo>
                        <a:pt x="816" y="596"/>
                      </a:lnTo>
                      <a:lnTo>
                        <a:pt x="816" y="596"/>
                      </a:lnTo>
                      <a:lnTo>
                        <a:pt x="820" y="598"/>
                      </a:lnTo>
                      <a:lnTo>
                        <a:pt x="826" y="600"/>
                      </a:lnTo>
                      <a:lnTo>
                        <a:pt x="832" y="600"/>
                      </a:lnTo>
                      <a:lnTo>
                        <a:pt x="832" y="600"/>
                      </a:lnTo>
                      <a:lnTo>
                        <a:pt x="836" y="600"/>
                      </a:lnTo>
                      <a:lnTo>
                        <a:pt x="834" y="598"/>
                      </a:lnTo>
                      <a:lnTo>
                        <a:pt x="832" y="598"/>
                      </a:lnTo>
                      <a:lnTo>
                        <a:pt x="834" y="596"/>
                      </a:lnTo>
                      <a:lnTo>
                        <a:pt x="842" y="590"/>
                      </a:lnTo>
                      <a:lnTo>
                        <a:pt x="842" y="590"/>
                      </a:lnTo>
                      <a:lnTo>
                        <a:pt x="850" y="586"/>
                      </a:lnTo>
                      <a:lnTo>
                        <a:pt x="856" y="582"/>
                      </a:lnTo>
                      <a:lnTo>
                        <a:pt x="866" y="582"/>
                      </a:lnTo>
                      <a:lnTo>
                        <a:pt x="872" y="584"/>
                      </a:lnTo>
                      <a:lnTo>
                        <a:pt x="874" y="586"/>
                      </a:lnTo>
                      <a:lnTo>
                        <a:pt x="874" y="586"/>
                      </a:lnTo>
                      <a:lnTo>
                        <a:pt x="886" y="598"/>
                      </a:lnTo>
                      <a:lnTo>
                        <a:pt x="898" y="616"/>
                      </a:lnTo>
                      <a:lnTo>
                        <a:pt x="916" y="642"/>
                      </a:lnTo>
                      <a:lnTo>
                        <a:pt x="916" y="642"/>
                      </a:lnTo>
                      <a:lnTo>
                        <a:pt x="926" y="656"/>
                      </a:lnTo>
                      <a:lnTo>
                        <a:pt x="934" y="664"/>
                      </a:lnTo>
                      <a:lnTo>
                        <a:pt x="944" y="668"/>
                      </a:lnTo>
                      <a:lnTo>
                        <a:pt x="952" y="670"/>
                      </a:lnTo>
                      <a:lnTo>
                        <a:pt x="958" y="668"/>
                      </a:lnTo>
                      <a:lnTo>
                        <a:pt x="964" y="666"/>
                      </a:lnTo>
                      <a:lnTo>
                        <a:pt x="968" y="660"/>
                      </a:lnTo>
                      <a:lnTo>
                        <a:pt x="972" y="654"/>
                      </a:lnTo>
                      <a:lnTo>
                        <a:pt x="972" y="654"/>
                      </a:lnTo>
                      <a:lnTo>
                        <a:pt x="974" y="648"/>
                      </a:lnTo>
                      <a:lnTo>
                        <a:pt x="974" y="642"/>
                      </a:lnTo>
                      <a:lnTo>
                        <a:pt x="970" y="628"/>
                      </a:lnTo>
                      <a:lnTo>
                        <a:pt x="964" y="616"/>
                      </a:lnTo>
                      <a:lnTo>
                        <a:pt x="962" y="612"/>
                      </a:lnTo>
                      <a:lnTo>
                        <a:pt x="962" y="612"/>
                      </a:lnTo>
                      <a:lnTo>
                        <a:pt x="952" y="600"/>
                      </a:lnTo>
                      <a:lnTo>
                        <a:pt x="944" y="592"/>
                      </a:lnTo>
                      <a:lnTo>
                        <a:pt x="936" y="588"/>
                      </a:lnTo>
                      <a:lnTo>
                        <a:pt x="936" y="588"/>
                      </a:lnTo>
                      <a:lnTo>
                        <a:pt x="928" y="584"/>
                      </a:lnTo>
                      <a:lnTo>
                        <a:pt x="920" y="576"/>
                      </a:lnTo>
                      <a:lnTo>
                        <a:pt x="900" y="550"/>
                      </a:lnTo>
                      <a:lnTo>
                        <a:pt x="900" y="550"/>
                      </a:lnTo>
                      <a:lnTo>
                        <a:pt x="894" y="542"/>
                      </a:lnTo>
                      <a:lnTo>
                        <a:pt x="892" y="536"/>
                      </a:lnTo>
                      <a:lnTo>
                        <a:pt x="890" y="530"/>
                      </a:lnTo>
                      <a:lnTo>
                        <a:pt x="890" y="526"/>
                      </a:lnTo>
                      <a:lnTo>
                        <a:pt x="892" y="520"/>
                      </a:lnTo>
                      <a:lnTo>
                        <a:pt x="894" y="516"/>
                      </a:lnTo>
                      <a:lnTo>
                        <a:pt x="894" y="516"/>
                      </a:lnTo>
                      <a:lnTo>
                        <a:pt x="894" y="514"/>
                      </a:lnTo>
                      <a:lnTo>
                        <a:pt x="898" y="510"/>
                      </a:lnTo>
                      <a:lnTo>
                        <a:pt x="904" y="508"/>
                      </a:lnTo>
                      <a:lnTo>
                        <a:pt x="912" y="506"/>
                      </a:lnTo>
                      <a:lnTo>
                        <a:pt x="912" y="506"/>
                      </a:lnTo>
                      <a:lnTo>
                        <a:pt x="918" y="504"/>
                      </a:lnTo>
                      <a:lnTo>
                        <a:pt x="920" y="500"/>
                      </a:lnTo>
                      <a:lnTo>
                        <a:pt x="924" y="496"/>
                      </a:lnTo>
                      <a:lnTo>
                        <a:pt x="924" y="496"/>
                      </a:lnTo>
                      <a:lnTo>
                        <a:pt x="924" y="490"/>
                      </a:lnTo>
                      <a:lnTo>
                        <a:pt x="924" y="482"/>
                      </a:lnTo>
                      <a:lnTo>
                        <a:pt x="920" y="472"/>
                      </a:lnTo>
                      <a:lnTo>
                        <a:pt x="920" y="472"/>
                      </a:lnTo>
                      <a:lnTo>
                        <a:pt x="920" y="468"/>
                      </a:lnTo>
                      <a:lnTo>
                        <a:pt x="920" y="460"/>
                      </a:lnTo>
                      <a:lnTo>
                        <a:pt x="920" y="456"/>
                      </a:lnTo>
                      <a:lnTo>
                        <a:pt x="924" y="452"/>
                      </a:lnTo>
                      <a:lnTo>
                        <a:pt x="926" y="448"/>
                      </a:lnTo>
                      <a:lnTo>
                        <a:pt x="932" y="446"/>
                      </a:lnTo>
                      <a:lnTo>
                        <a:pt x="932" y="446"/>
                      </a:lnTo>
                      <a:lnTo>
                        <a:pt x="938" y="446"/>
                      </a:lnTo>
                      <a:lnTo>
                        <a:pt x="942" y="442"/>
                      </a:lnTo>
                      <a:lnTo>
                        <a:pt x="950" y="436"/>
                      </a:lnTo>
                      <a:lnTo>
                        <a:pt x="952" y="432"/>
                      </a:lnTo>
                      <a:lnTo>
                        <a:pt x="952" y="428"/>
                      </a:lnTo>
                      <a:lnTo>
                        <a:pt x="952" y="412"/>
                      </a:lnTo>
                      <a:lnTo>
                        <a:pt x="952" y="412"/>
                      </a:lnTo>
                      <a:lnTo>
                        <a:pt x="948" y="402"/>
                      </a:lnTo>
                      <a:lnTo>
                        <a:pt x="950" y="394"/>
                      </a:lnTo>
                      <a:lnTo>
                        <a:pt x="952" y="392"/>
                      </a:lnTo>
                      <a:lnTo>
                        <a:pt x="956" y="388"/>
                      </a:lnTo>
                      <a:lnTo>
                        <a:pt x="956" y="388"/>
                      </a:lnTo>
                      <a:lnTo>
                        <a:pt x="958" y="386"/>
                      </a:lnTo>
                      <a:lnTo>
                        <a:pt x="962" y="382"/>
                      </a:lnTo>
                      <a:lnTo>
                        <a:pt x="964" y="374"/>
                      </a:lnTo>
                      <a:lnTo>
                        <a:pt x="962" y="366"/>
                      </a:lnTo>
                      <a:lnTo>
                        <a:pt x="954" y="344"/>
                      </a:lnTo>
                      <a:lnTo>
                        <a:pt x="944" y="332"/>
                      </a:lnTo>
                      <a:lnTo>
                        <a:pt x="934" y="318"/>
                      </a:lnTo>
                      <a:lnTo>
                        <a:pt x="930" y="310"/>
                      </a:lnTo>
                      <a:lnTo>
                        <a:pt x="930" y="302"/>
                      </a:lnTo>
                      <a:lnTo>
                        <a:pt x="884" y="252"/>
                      </a:lnTo>
                      <a:lnTo>
                        <a:pt x="884" y="252"/>
                      </a:lnTo>
                      <a:lnTo>
                        <a:pt x="884" y="250"/>
                      </a:lnTo>
                      <a:lnTo>
                        <a:pt x="882" y="248"/>
                      </a:lnTo>
                      <a:lnTo>
                        <a:pt x="876" y="244"/>
                      </a:lnTo>
                      <a:lnTo>
                        <a:pt x="866" y="238"/>
                      </a:lnTo>
                      <a:lnTo>
                        <a:pt x="850" y="228"/>
                      </a:lnTo>
                      <a:lnTo>
                        <a:pt x="792" y="204"/>
                      </a:lnTo>
                      <a:lnTo>
                        <a:pt x="800" y="202"/>
                      </a:lnTo>
                      <a:lnTo>
                        <a:pt x="834" y="194"/>
                      </a:lnTo>
                      <a:lnTo>
                        <a:pt x="860" y="190"/>
                      </a:lnTo>
                      <a:lnTo>
                        <a:pt x="888" y="186"/>
                      </a:lnTo>
                      <a:lnTo>
                        <a:pt x="914" y="178"/>
                      </a:lnTo>
                      <a:lnTo>
                        <a:pt x="914" y="178"/>
                      </a:lnTo>
                      <a:lnTo>
                        <a:pt x="924" y="172"/>
                      </a:lnTo>
                      <a:lnTo>
                        <a:pt x="932" y="166"/>
                      </a:lnTo>
                      <a:lnTo>
                        <a:pt x="936" y="160"/>
                      </a:lnTo>
                      <a:lnTo>
                        <a:pt x="936" y="160"/>
                      </a:lnTo>
                      <a:lnTo>
                        <a:pt x="942" y="148"/>
                      </a:lnTo>
                      <a:lnTo>
                        <a:pt x="952" y="130"/>
                      </a:lnTo>
                      <a:lnTo>
                        <a:pt x="952" y="130"/>
                      </a:lnTo>
                      <a:lnTo>
                        <a:pt x="958" y="118"/>
                      </a:lnTo>
                      <a:lnTo>
                        <a:pt x="960" y="110"/>
                      </a:lnTo>
                      <a:lnTo>
                        <a:pt x="962" y="104"/>
                      </a:lnTo>
                      <a:lnTo>
                        <a:pt x="962" y="104"/>
                      </a:lnTo>
                      <a:lnTo>
                        <a:pt x="962" y="94"/>
                      </a:lnTo>
                      <a:lnTo>
                        <a:pt x="964" y="88"/>
                      </a:lnTo>
                      <a:lnTo>
                        <a:pt x="966" y="84"/>
                      </a:lnTo>
                      <a:lnTo>
                        <a:pt x="966" y="84"/>
                      </a:lnTo>
                      <a:lnTo>
                        <a:pt x="970" y="78"/>
                      </a:lnTo>
                      <a:lnTo>
                        <a:pt x="974" y="68"/>
                      </a:lnTo>
                      <a:lnTo>
                        <a:pt x="974" y="58"/>
                      </a:lnTo>
                      <a:lnTo>
                        <a:pt x="974" y="54"/>
                      </a:lnTo>
                      <a:lnTo>
                        <a:pt x="972" y="50"/>
                      </a:lnTo>
                      <a:lnTo>
                        <a:pt x="972" y="50"/>
                      </a:lnTo>
                      <a:lnTo>
                        <a:pt x="970" y="48"/>
                      </a:lnTo>
                      <a:lnTo>
                        <a:pt x="970" y="44"/>
                      </a:lnTo>
                      <a:lnTo>
                        <a:pt x="970" y="38"/>
                      </a:lnTo>
                      <a:lnTo>
                        <a:pt x="974" y="30"/>
                      </a:lnTo>
                      <a:lnTo>
                        <a:pt x="974" y="30"/>
                      </a:lnTo>
                      <a:lnTo>
                        <a:pt x="978" y="24"/>
                      </a:lnTo>
                      <a:lnTo>
                        <a:pt x="980" y="20"/>
                      </a:lnTo>
                      <a:lnTo>
                        <a:pt x="982" y="18"/>
                      </a:lnTo>
                      <a:lnTo>
                        <a:pt x="980" y="16"/>
                      </a:lnTo>
                      <a:lnTo>
                        <a:pt x="980" y="16"/>
                      </a:lnTo>
                      <a:lnTo>
                        <a:pt x="978" y="14"/>
                      </a:lnTo>
                      <a:lnTo>
                        <a:pt x="978" y="10"/>
                      </a:lnTo>
                      <a:lnTo>
                        <a:pt x="976" y="0"/>
                      </a:lnTo>
                      <a:lnTo>
                        <a:pt x="676" y="0"/>
                      </a:lnTo>
                      <a:close/>
                      <a:moveTo>
                        <a:pt x="562" y="150"/>
                      </a:move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lnTo>
                        <a:pt x="562" y="150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63"/>
              <p:cNvGrpSpPr/>
              <p:nvPr/>
            </p:nvGrpSpPr>
            <p:grpSpPr>
              <a:xfrm>
                <a:off x="8323920" y="990360"/>
                <a:ext cx="819720" cy="1066680"/>
                <a:chOff x="8323920" y="990360"/>
                <a:chExt cx="819720" cy="1066680"/>
              </a:xfrm>
            </p:grpSpPr>
            <p:sp>
              <p:nvSpPr>
                <p:cNvPr id="265" name="Freeform 70"/>
                <p:cNvSpPr/>
                <p:nvPr/>
              </p:nvSpPr>
              <p:spPr>
                <a:xfrm>
                  <a:off x="8709120" y="1287000"/>
                  <a:ext cx="186840" cy="122040"/>
                </a:xfrm>
                <a:custGeom>
                  <a:avLst/>
                  <a:gdLst>
                    <a:gd name="textAreaLeft" fmla="*/ 0 w 186840"/>
                    <a:gd name="textAreaRight" fmla="*/ 187200 w 18684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152" h="100">
                      <a:moveTo>
                        <a:pt x="152" y="100"/>
                      </a:move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lnTo>
                        <a:pt x="138" y="90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6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24" y="18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52" y="100"/>
                      </a:lnTo>
                      <a:lnTo>
                        <a:pt x="152" y="10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71"/>
                <p:cNvSpPr/>
                <p:nvPr/>
              </p:nvSpPr>
              <p:spPr>
                <a:xfrm>
                  <a:off x="8899560" y="14158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72"/>
                <p:cNvSpPr/>
                <p:nvPr/>
              </p:nvSpPr>
              <p:spPr>
                <a:xfrm>
                  <a:off x="8907480" y="1185480"/>
                  <a:ext cx="41040" cy="2221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34" h="180">
                      <a:moveTo>
                        <a:pt x="0" y="178"/>
                      </a:moveTo>
                      <a:lnTo>
                        <a:pt x="0" y="178"/>
                      </a:lnTo>
                      <a:lnTo>
                        <a:pt x="4" y="162"/>
                      </a:lnTo>
                      <a:lnTo>
                        <a:pt x="28" y="30"/>
                      </a:lnTo>
                      <a:lnTo>
                        <a:pt x="28" y="30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8" y="8"/>
                      </a:lnTo>
                      <a:lnTo>
                        <a:pt x="26" y="14"/>
                      </a:lnTo>
                      <a:lnTo>
                        <a:pt x="26" y="14"/>
                      </a:lnTo>
                      <a:lnTo>
                        <a:pt x="22" y="38"/>
                      </a:lnTo>
                      <a:lnTo>
                        <a:pt x="2" y="162"/>
                      </a:lnTo>
                      <a:lnTo>
                        <a:pt x="2" y="162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80"/>
                      </a:lnTo>
                      <a:lnTo>
                        <a:pt x="0" y="180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def5b9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73"/>
                <p:cNvSpPr/>
                <p:nvPr/>
              </p:nvSpPr>
              <p:spPr>
                <a:xfrm>
                  <a:off x="8323920" y="990360"/>
                  <a:ext cx="819720" cy="1066680"/>
                </a:xfrm>
                <a:custGeom>
                  <a:avLst/>
                  <a:gdLst>
                    <a:gd name="textAreaLeft" fmla="*/ 0 w 819720"/>
                    <a:gd name="textAreaRight" fmla="*/ 820080 w 81972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664" h="864">
                      <a:moveTo>
                        <a:pt x="566" y="472"/>
                      </a:moveTo>
                      <a:lnTo>
                        <a:pt x="566" y="472"/>
                      </a:lnTo>
                      <a:lnTo>
                        <a:pt x="568" y="472"/>
                      </a:lnTo>
                      <a:lnTo>
                        <a:pt x="572" y="476"/>
                      </a:lnTo>
                      <a:lnTo>
                        <a:pt x="582" y="488"/>
                      </a:lnTo>
                      <a:lnTo>
                        <a:pt x="612" y="532"/>
                      </a:lnTo>
                      <a:lnTo>
                        <a:pt x="660" y="604"/>
                      </a:lnTo>
                      <a:lnTo>
                        <a:pt x="660" y="604"/>
                      </a:lnTo>
                      <a:lnTo>
                        <a:pt x="664" y="608"/>
                      </a:lnTo>
                      <a:lnTo>
                        <a:pt x="664" y="356"/>
                      </a:lnTo>
                      <a:lnTo>
                        <a:pt x="664" y="356"/>
                      </a:lnTo>
                      <a:lnTo>
                        <a:pt x="650" y="354"/>
                      </a:lnTo>
                      <a:lnTo>
                        <a:pt x="650" y="354"/>
                      </a:lnTo>
                      <a:lnTo>
                        <a:pt x="664" y="346"/>
                      </a:lnTo>
                      <a:lnTo>
                        <a:pt x="664" y="0"/>
                      </a:lnTo>
                      <a:lnTo>
                        <a:pt x="664" y="0"/>
                      </a:lnTo>
                      <a:lnTo>
                        <a:pt x="638" y="20"/>
                      </a:lnTo>
                      <a:lnTo>
                        <a:pt x="624" y="34"/>
                      </a:lnTo>
                      <a:lnTo>
                        <a:pt x="608" y="50"/>
                      </a:lnTo>
                      <a:lnTo>
                        <a:pt x="608" y="50"/>
                      </a:lnTo>
                      <a:lnTo>
                        <a:pt x="594" y="68"/>
                      </a:lnTo>
                      <a:lnTo>
                        <a:pt x="580" y="86"/>
                      </a:lnTo>
                      <a:lnTo>
                        <a:pt x="568" y="104"/>
                      </a:lnTo>
                      <a:lnTo>
                        <a:pt x="558" y="124"/>
                      </a:lnTo>
                      <a:lnTo>
                        <a:pt x="548" y="146"/>
                      </a:lnTo>
                      <a:lnTo>
                        <a:pt x="540" y="166"/>
                      </a:lnTo>
                      <a:lnTo>
                        <a:pt x="524" y="214"/>
                      </a:lnTo>
                      <a:lnTo>
                        <a:pt x="524" y="214"/>
                      </a:lnTo>
                      <a:lnTo>
                        <a:pt x="514" y="254"/>
                      </a:lnTo>
                      <a:lnTo>
                        <a:pt x="508" y="294"/>
                      </a:lnTo>
                      <a:lnTo>
                        <a:pt x="504" y="330"/>
                      </a:lnTo>
                      <a:lnTo>
                        <a:pt x="502" y="356"/>
                      </a:lnTo>
                      <a:lnTo>
                        <a:pt x="502" y="356"/>
                      </a:lnTo>
                      <a:lnTo>
                        <a:pt x="498" y="358"/>
                      </a:lnTo>
                      <a:lnTo>
                        <a:pt x="498" y="358"/>
                      </a:lnTo>
                      <a:lnTo>
                        <a:pt x="490" y="350"/>
                      </a:lnTo>
                      <a:lnTo>
                        <a:pt x="490" y="350"/>
                      </a:lnTo>
                      <a:lnTo>
                        <a:pt x="490" y="346"/>
                      </a:lnTo>
                      <a:lnTo>
                        <a:pt x="490" y="342"/>
                      </a:lnTo>
                      <a:lnTo>
                        <a:pt x="490" y="342"/>
                      </a:lnTo>
                      <a:lnTo>
                        <a:pt x="488" y="340"/>
                      </a:lnTo>
                      <a:lnTo>
                        <a:pt x="484" y="338"/>
                      </a:lnTo>
                      <a:lnTo>
                        <a:pt x="480" y="336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8"/>
                      </a:lnTo>
                      <a:lnTo>
                        <a:pt x="476" y="336"/>
                      </a:lnTo>
                      <a:lnTo>
                        <a:pt x="474" y="336"/>
                      </a:lnTo>
                      <a:lnTo>
                        <a:pt x="472" y="338"/>
                      </a:lnTo>
                      <a:lnTo>
                        <a:pt x="472" y="338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8" y="336"/>
                      </a:lnTo>
                      <a:lnTo>
                        <a:pt x="466" y="338"/>
                      </a:lnTo>
                      <a:lnTo>
                        <a:pt x="464" y="338"/>
                      </a:lnTo>
                      <a:lnTo>
                        <a:pt x="464" y="340"/>
                      </a:lnTo>
                      <a:lnTo>
                        <a:pt x="462" y="340"/>
                      </a:lnTo>
                      <a:lnTo>
                        <a:pt x="462" y="342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4" y="344"/>
                      </a:lnTo>
                      <a:lnTo>
                        <a:pt x="460" y="344"/>
                      </a:lnTo>
                      <a:lnTo>
                        <a:pt x="460" y="344"/>
                      </a:lnTo>
                      <a:lnTo>
                        <a:pt x="456" y="346"/>
                      </a:lnTo>
                      <a:lnTo>
                        <a:pt x="454" y="350"/>
                      </a:lnTo>
                      <a:lnTo>
                        <a:pt x="454" y="354"/>
                      </a:lnTo>
                      <a:lnTo>
                        <a:pt x="456" y="358"/>
                      </a:lnTo>
                      <a:lnTo>
                        <a:pt x="456" y="358"/>
                      </a:lnTo>
                      <a:lnTo>
                        <a:pt x="458" y="362"/>
                      </a:lnTo>
                      <a:lnTo>
                        <a:pt x="458" y="362"/>
                      </a:lnTo>
                      <a:lnTo>
                        <a:pt x="458" y="370"/>
                      </a:lnTo>
                      <a:lnTo>
                        <a:pt x="458" y="374"/>
                      </a:lnTo>
                      <a:lnTo>
                        <a:pt x="458" y="374"/>
                      </a:lnTo>
                      <a:lnTo>
                        <a:pt x="456" y="376"/>
                      </a:lnTo>
                      <a:lnTo>
                        <a:pt x="456" y="376"/>
                      </a:lnTo>
                      <a:lnTo>
                        <a:pt x="434" y="360"/>
                      </a:lnTo>
                      <a:lnTo>
                        <a:pt x="406" y="338"/>
                      </a:lnTo>
                      <a:lnTo>
                        <a:pt x="372" y="314"/>
                      </a:lnTo>
                      <a:lnTo>
                        <a:pt x="336" y="294"/>
                      </a:lnTo>
                      <a:lnTo>
                        <a:pt x="336" y="294"/>
                      </a:lnTo>
                      <a:lnTo>
                        <a:pt x="292" y="272"/>
                      </a:lnTo>
                      <a:lnTo>
                        <a:pt x="270" y="264"/>
                      </a:lnTo>
                      <a:lnTo>
                        <a:pt x="248" y="256"/>
                      </a:lnTo>
                      <a:lnTo>
                        <a:pt x="226" y="250"/>
                      </a:lnTo>
                      <a:lnTo>
                        <a:pt x="204" y="246"/>
                      </a:lnTo>
                      <a:lnTo>
                        <a:pt x="182" y="244"/>
                      </a:lnTo>
                      <a:lnTo>
                        <a:pt x="160" y="242"/>
                      </a:lnTo>
                      <a:lnTo>
                        <a:pt x="160" y="242"/>
                      </a:lnTo>
                      <a:lnTo>
                        <a:pt x="138" y="242"/>
                      </a:lnTo>
                      <a:lnTo>
                        <a:pt x="116" y="242"/>
                      </a:lnTo>
                      <a:lnTo>
                        <a:pt x="84" y="248"/>
                      </a:lnTo>
                      <a:lnTo>
                        <a:pt x="62" y="252"/>
                      </a:lnTo>
                      <a:lnTo>
                        <a:pt x="56" y="256"/>
                      </a:lnTo>
                      <a:lnTo>
                        <a:pt x="30" y="266"/>
                      </a:lnTo>
                      <a:lnTo>
                        <a:pt x="8" y="282"/>
                      </a:lnTo>
                      <a:lnTo>
                        <a:pt x="0" y="296"/>
                      </a:lnTo>
                      <a:lnTo>
                        <a:pt x="0" y="324"/>
                      </a:lnTo>
                      <a:lnTo>
                        <a:pt x="2" y="330"/>
                      </a:lnTo>
                      <a:lnTo>
                        <a:pt x="14" y="344"/>
                      </a:lnTo>
                      <a:lnTo>
                        <a:pt x="28" y="358"/>
                      </a:lnTo>
                      <a:lnTo>
                        <a:pt x="28" y="358"/>
                      </a:lnTo>
                      <a:lnTo>
                        <a:pt x="36" y="364"/>
                      </a:lnTo>
                      <a:lnTo>
                        <a:pt x="42" y="366"/>
                      </a:lnTo>
                      <a:lnTo>
                        <a:pt x="46" y="368"/>
                      </a:lnTo>
                      <a:lnTo>
                        <a:pt x="46" y="368"/>
                      </a:lnTo>
                      <a:lnTo>
                        <a:pt x="52" y="368"/>
                      </a:lnTo>
                      <a:lnTo>
                        <a:pt x="56" y="372"/>
                      </a:lnTo>
                      <a:lnTo>
                        <a:pt x="60" y="376"/>
                      </a:lnTo>
                      <a:lnTo>
                        <a:pt x="60" y="376"/>
                      </a:lnTo>
                      <a:lnTo>
                        <a:pt x="64" y="380"/>
                      </a:lnTo>
                      <a:lnTo>
                        <a:pt x="70" y="384"/>
                      </a:lnTo>
                      <a:lnTo>
                        <a:pt x="78" y="386"/>
                      </a:lnTo>
                      <a:lnTo>
                        <a:pt x="78" y="386"/>
                      </a:lnTo>
                      <a:lnTo>
                        <a:pt x="84" y="386"/>
                      </a:lnTo>
                      <a:lnTo>
                        <a:pt x="92" y="390"/>
                      </a:lnTo>
                      <a:lnTo>
                        <a:pt x="98" y="394"/>
                      </a:lnTo>
                      <a:lnTo>
                        <a:pt x="100" y="398"/>
                      </a:lnTo>
                      <a:lnTo>
                        <a:pt x="100" y="398"/>
                      </a:lnTo>
                      <a:lnTo>
                        <a:pt x="104" y="402"/>
                      </a:lnTo>
                      <a:lnTo>
                        <a:pt x="112" y="406"/>
                      </a:lnTo>
                      <a:lnTo>
                        <a:pt x="120" y="410"/>
                      </a:lnTo>
                      <a:lnTo>
                        <a:pt x="120" y="410"/>
                      </a:lnTo>
                      <a:lnTo>
                        <a:pt x="126" y="418"/>
                      </a:lnTo>
                      <a:lnTo>
                        <a:pt x="130" y="426"/>
                      </a:lnTo>
                      <a:lnTo>
                        <a:pt x="130" y="430"/>
                      </a:lnTo>
                      <a:lnTo>
                        <a:pt x="130" y="430"/>
                      </a:lnTo>
                      <a:lnTo>
                        <a:pt x="132" y="434"/>
                      </a:lnTo>
                      <a:lnTo>
                        <a:pt x="136" y="436"/>
                      </a:lnTo>
                      <a:lnTo>
                        <a:pt x="142" y="438"/>
                      </a:lnTo>
                      <a:lnTo>
                        <a:pt x="142" y="438"/>
                      </a:lnTo>
                      <a:lnTo>
                        <a:pt x="146" y="442"/>
                      </a:lnTo>
                      <a:lnTo>
                        <a:pt x="150" y="446"/>
                      </a:lnTo>
                      <a:lnTo>
                        <a:pt x="152" y="452"/>
                      </a:lnTo>
                      <a:lnTo>
                        <a:pt x="152" y="452"/>
                      </a:lnTo>
                      <a:lnTo>
                        <a:pt x="152" y="456"/>
                      </a:lnTo>
                      <a:lnTo>
                        <a:pt x="154" y="458"/>
                      </a:lnTo>
                      <a:lnTo>
                        <a:pt x="158" y="466"/>
                      </a:lnTo>
                      <a:lnTo>
                        <a:pt x="166" y="472"/>
                      </a:lnTo>
                      <a:lnTo>
                        <a:pt x="170" y="474"/>
                      </a:lnTo>
                      <a:lnTo>
                        <a:pt x="170" y="474"/>
                      </a:lnTo>
                      <a:lnTo>
                        <a:pt x="174" y="476"/>
                      </a:lnTo>
                      <a:lnTo>
                        <a:pt x="178" y="480"/>
                      </a:lnTo>
                      <a:lnTo>
                        <a:pt x="182" y="486"/>
                      </a:lnTo>
                      <a:lnTo>
                        <a:pt x="182" y="486"/>
                      </a:lnTo>
                      <a:lnTo>
                        <a:pt x="186" y="490"/>
                      </a:lnTo>
                      <a:lnTo>
                        <a:pt x="192" y="494"/>
                      </a:lnTo>
                      <a:lnTo>
                        <a:pt x="200" y="500"/>
                      </a:lnTo>
                      <a:lnTo>
                        <a:pt x="200" y="500"/>
                      </a:lnTo>
                      <a:lnTo>
                        <a:pt x="216" y="510"/>
                      </a:lnTo>
                      <a:lnTo>
                        <a:pt x="224" y="516"/>
                      </a:lnTo>
                      <a:lnTo>
                        <a:pt x="224" y="516"/>
                      </a:lnTo>
                      <a:lnTo>
                        <a:pt x="230" y="518"/>
                      </a:lnTo>
                      <a:lnTo>
                        <a:pt x="238" y="518"/>
                      </a:lnTo>
                      <a:lnTo>
                        <a:pt x="246" y="518"/>
                      </a:lnTo>
                      <a:lnTo>
                        <a:pt x="268" y="512"/>
                      </a:lnTo>
                      <a:lnTo>
                        <a:pt x="288" y="504"/>
                      </a:lnTo>
                      <a:lnTo>
                        <a:pt x="306" y="496"/>
                      </a:lnTo>
                      <a:lnTo>
                        <a:pt x="332" y="486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50" y="482"/>
                      </a:lnTo>
                      <a:lnTo>
                        <a:pt x="334" y="504"/>
                      </a:lnTo>
                      <a:lnTo>
                        <a:pt x="320" y="526"/>
                      </a:lnTo>
                      <a:lnTo>
                        <a:pt x="320" y="526"/>
                      </a:lnTo>
                      <a:lnTo>
                        <a:pt x="302" y="566"/>
                      </a:lnTo>
                      <a:lnTo>
                        <a:pt x="298" y="576"/>
                      </a:lnTo>
                      <a:lnTo>
                        <a:pt x="298" y="582"/>
                      </a:lnTo>
                      <a:lnTo>
                        <a:pt x="298" y="586"/>
                      </a:lnTo>
                      <a:lnTo>
                        <a:pt x="300" y="586"/>
                      </a:lnTo>
                      <a:lnTo>
                        <a:pt x="302" y="586"/>
                      </a:lnTo>
                      <a:lnTo>
                        <a:pt x="310" y="598"/>
                      </a:lnTo>
                      <a:lnTo>
                        <a:pt x="310" y="598"/>
                      </a:lnTo>
                      <a:lnTo>
                        <a:pt x="318" y="604"/>
                      </a:lnTo>
                      <a:lnTo>
                        <a:pt x="334" y="622"/>
                      </a:lnTo>
                      <a:lnTo>
                        <a:pt x="344" y="630"/>
                      </a:lnTo>
                      <a:lnTo>
                        <a:pt x="356" y="638"/>
                      </a:lnTo>
                      <a:lnTo>
                        <a:pt x="366" y="644"/>
                      </a:lnTo>
                      <a:lnTo>
                        <a:pt x="376" y="646"/>
                      </a:lnTo>
                      <a:lnTo>
                        <a:pt x="376" y="646"/>
                      </a:lnTo>
                      <a:lnTo>
                        <a:pt x="384" y="646"/>
                      </a:lnTo>
                      <a:lnTo>
                        <a:pt x="390" y="648"/>
                      </a:lnTo>
                      <a:lnTo>
                        <a:pt x="396" y="650"/>
                      </a:lnTo>
                      <a:lnTo>
                        <a:pt x="398" y="654"/>
                      </a:lnTo>
                      <a:lnTo>
                        <a:pt x="402" y="660"/>
                      </a:lnTo>
                      <a:lnTo>
                        <a:pt x="404" y="662"/>
                      </a:lnTo>
                      <a:lnTo>
                        <a:pt x="404" y="662"/>
                      </a:lnTo>
                      <a:lnTo>
                        <a:pt x="414" y="670"/>
                      </a:lnTo>
                      <a:lnTo>
                        <a:pt x="424" y="676"/>
                      </a:lnTo>
                      <a:lnTo>
                        <a:pt x="428" y="678"/>
                      </a:lnTo>
                      <a:lnTo>
                        <a:pt x="434" y="676"/>
                      </a:lnTo>
                      <a:lnTo>
                        <a:pt x="434" y="676"/>
                      </a:lnTo>
                      <a:lnTo>
                        <a:pt x="438" y="678"/>
                      </a:lnTo>
                      <a:lnTo>
                        <a:pt x="444" y="680"/>
                      </a:lnTo>
                      <a:lnTo>
                        <a:pt x="454" y="692"/>
                      </a:lnTo>
                      <a:lnTo>
                        <a:pt x="460" y="704"/>
                      </a:lnTo>
                      <a:lnTo>
                        <a:pt x="464" y="710"/>
                      </a:lnTo>
                      <a:lnTo>
                        <a:pt x="464" y="710"/>
                      </a:lnTo>
                      <a:lnTo>
                        <a:pt x="466" y="716"/>
                      </a:lnTo>
                      <a:lnTo>
                        <a:pt x="470" y="730"/>
                      </a:lnTo>
                      <a:lnTo>
                        <a:pt x="472" y="740"/>
                      </a:lnTo>
                      <a:lnTo>
                        <a:pt x="472" y="750"/>
                      </a:lnTo>
                      <a:lnTo>
                        <a:pt x="470" y="760"/>
                      </a:lnTo>
                      <a:lnTo>
                        <a:pt x="468" y="770"/>
                      </a:lnTo>
                      <a:lnTo>
                        <a:pt x="468" y="770"/>
                      </a:lnTo>
                      <a:lnTo>
                        <a:pt x="460" y="788"/>
                      </a:lnTo>
                      <a:lnTo>
                        <a:pt x="456" y="800"/>
                      </a:lnTo>
                      <a:lnTo>
                        <a:pt x="454" y="810"/>
                      </a:lnTo>
                      <a:lnTo>
                        <a:pt x="454" y="810"/>
                      </a:lnTo>
                      <a:lnTo>
                        <a:pt x="452" y="816"/>
                      </a:lnTo>
                      <a:lnTo>
                        <a:pt x="452" y="824"/>
                      </a:lnTo>
                      <a:lnTo>
                        <a:pt x="454" y="832"/>
                      </a:lnTo>
                      <a:lnTo>
                        <a:pt x="454" y="832"/>
                      </a:lnTo>
                      <a:lnTo>
                        <a:pt x="458" y="852"/>
                      </a:lnTo>
                      <a:lnTo>
                        <a:pt x="462" y="858"/>
                      </a:lnTo>
                      <a:lnTo>
                        <a:pt x="466" y="864"/>
                      </a:lnTo>
                      <a:lnTo>
                        <a:pt x="466" y="864"/>
                      </a:lnTo>
                      <a:lnTo>
                        <a:pt x="468" y="864"/>
                      </a:lnTo>
                      <a:lnTo>
                        <a:pt x="472" y="864"/>
                      </a:lnTo>
                      <a:lnTo>
                        <a:pt x="472" y="864"/>
                      </a:lnTo>
                      <a:lnTo>
                        <a:pt x="476" y="860"/>
                      </a:lnTo>
                      <a:lnTo>
                        <a:pt x="480" y="858"/>
                      </a:lnTo>
                      <a:lnTo>
                        <a:pt x="496" y="810"/>
                      </a:lnTo>
                      <a:lnTo>
                        <a:pt x="490" y="798"/>
                      </a:lnTo>
                      <a:lnTo>
                        <a:pt x="490" y="798"/>
                      </a:lnTo>
                      <a:lnTo>
                        <a:pt x="492" y="792"/>
                      </a:lnTo>
                      <a:lnTo>
                        <a:pt x="494" y="786"/>
                      </a:lnTo>
                      <a:lnTo>
                        <a:pt x="498" y="784"/>
                      </a:lnTo>
                      <a:lnTo>
                        <a:pt x="498" y="784"/>
                      </a:lnTo>
                      <a:lnTo>
                        <a:pt x="502" y="778"/>
                      </a:lnTo>
                      <a:lnTo>
                        <a:pt x="506" y="770"/>
                      </a:lnTo>
                      <a:lnTo>
                        <a:pt x="508" y="758"/>
                      </a:lnTo>
                      <a:lnTo>
                        <a:pt x="508" y="758"/>
                      </a:lnTo>
                      <a:lnTo>
                        <a:pt x="512" y="748"/>
                      </a:lnTo>
                      <a:lnTo>
                        <a:pt x="520" y="726"/>
                      </a:lnTo>
                      <a:lnTo>
                        <a:pt x="520" y="726"/>
                      </a:lnTo>
                      <a:lnTo>
                        <a:pt x="524" y="694"/>
                      </a:lnTo>
                      <a:lnTo>
                        <a:pt x="526" y="676"/>
                      </a:lnTo>
                      <a:lnTo>
                        <a:pt x="524" y="662"/>
                      </a:lnTo>
                      <a:lnTo>
                        <a:pt x="524" y="662"/>
                      </a:lnTo>
                      <a:lnTo>
                        <a:pt x="504" y="578"/>
                      </a:lnTo>
                      <a:lnTo>
                        <a:pt x="494" y="526"/>
                      </a:lnTo>
                      <a:lnTo>
                        <a:pt x="492" y="510"/>
                      </a:lnTo>
                      <a:lnTo>
                        <a:pt x="492" y="504"/>
                      </a:lnTo>
                      <a:lnTo>
                        <a:pt x="494" y="502"/>
                      </a:lnTo>
                      <a:lnTo>
                        <a:pt x="494" y="502"/>
                      </a:lnTo>
                      <a:lnTo>
                        <a:pt x="498" y="498"/>
                      </a:lnTo>
                      <a:lnTo>
                        <a:pt x="500" y="492"/>
                      </a:lnTo>
                      <a:lnTo>
                        <a:pt x="504" y="474"/>
                      </a:lnTo>
                      <a:lnTo>
                        <a:pt x="512" y="500"/>
                      </a:lnTo>
                      <a:lnTo>
                        <a:pt x="518" y="508"/>
                      </a:lnTo>
                      <a:lnTo>
                        <a:pt x="518" y="520"/>
                      </a:lnTo>
                      <a:lnTo>
                        <a:pt x="526" y="538"/>
                      </a:lnTo>
                      <a:lnTo>
                        <a:pt x="528" y="542"/>
                      </a:lnTo>
                      <a:lnTo>
                        <a:pt x="538" y="568"/>
                      </a:lnTo>
                      <a:lnTo>
                        <a:pt x="542" y="568"/>
                      </a:lnTo>
                      <a:lnTo>
                        <a:pt x="544" y="572"/>
                      </a:lnTo>
                      <a:lnTo>
                        <a:pt x="542" y="576"/>
                      </a:lnTo>
                      <a:lnTo>
                        <a:pt x="548" y="588"/>
                      </a:lnTo>
                      <a:lnTo>
                        <a:pt x="556" y="608"/>
                      </a:lnTo>
                      <a:lnTo>
                        <a:pt x="570" y="620"/>
                      </a:lnTo>
                      <a:lnTo>
                        <a:pt x="588" y="626"/>
                      </a:lnTo>
                      <a:lnTo>
                        <a:pt x="584" y="614"/>
                      </a:lnTo>
                      <a:lnTo>
                        <a:pt x="590" y="624"/>
                      </a:lnTo>
                      <a:lnTo>
                        <a:pt x="598" y="608"/>
                      </a:lnTo>
                      <a:lnTo>
                        <a:pt x="598" y="590"/>
                      </a:lnTo>
                      <a:lnTo>
                        <a:pt x="590" y="570"/>
                      </a:lnTo>
                      <a:lnTo>
                        <a:pt x="586" y="558"/>
                      </a:lnTo>
                      <a:lnTo>
                        <a:pt x="580" y="556"/>
                      </a:lnTo>
                      <a:lnTo>
                        <a:pt x="580" y="552"/>
                      </a:lnTo>
                      <a:lnTo>
                        <a:pt x="582" y="548"/>
                      </a:lnTo>
                      <a:lnTo>
                        <a:pt x="572" y="524"/>
                      </a:lnTo>
                      <a:lnTo>
                        <a:pt x="570" y="520"/>
                      </a:lnTo>
                      <a:lnTo>
                        <a:pt x="562" y="502"/>
                      </a:lnTo>
                      <a:lnTo>
                        <a:pt x="554" y="492"/>
                      </a:lnTo>
                      <a:lnTo>
                        <a:pt x="550" y="484"/>
                      </a:lnTo>
                      <a:lnTo>
                        <a:pt x="538" y="460"/>
                      </a:lnTo>
                      <a:lnTo>
                        <a:pt x="538" y="460"/>
                      </a:lnTo>
                      <a:lnTo>
                        <a:pt x="554" y="470"/>
                      </a:lnTo>
                      <a:lnTo>
                        <a:pt x="560" y="472"/>
                      </a:lnTo>
                      <a:lnTo>
                        <a:pt x="566" y="472"/>
                      </a:lnTo>
                      <a:lnTo>
                        <a:pt x="566" y="472"/>
                      </a:lnTo>
                      <a:close/>
                      <a:moveTo>
                        <a:pt x="466" y="344"/>
                      </a:move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lnTo>
                        <a:pt x="466" y="344"/>
                      </a:lnTo>
                      <a:close/>
                    </a:path>
                  </a:pathLst>
                </a:custGeom>
                <a:solidFill>
                  <a:srgbClr val="d8f2ab">
                    <a:alpha val="7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sp>
          <p:nvSpPr>
            <p:cNvPr id="270" name="Oval 31"/>
            <p:cNvSpPr/>
            <p:nvPr/>
          </p:nvSpPr>
          <p:spPr>
            <a:xfrm>
              <a:off x="5478480" y="1438200"/>
              <a:ext cx="1087560" cy="1085760"/>
            </a:xfrm>
            <a:custGeom>
              <a:avLst/>
              <a:gdLst>
                <a:gd name="textAreaLeft" fmla="*/ 159120 w 1087560"/>
                <a:gd name="textAreaRight" fmla="*/ 928440 w 1087560"/>
                <a:gd name="textAreaTop" fmla="*/ 158760 h 1085760"/>
                <a:gd name="textAreaBottom" fmla="*/ 927000 h 1085760"/>
              </a:gdLst>
              <a:ahLst/>
              <a:rect l="textAreaLeft" t="textAreaTop" r="textAreaRight" b="textAreaBottom"/>
              <a:pathLst>
                <a:path w="1087020" h="1085914">
                  <a:moveTo>
                    <a:pt x="0" y="542957"/>
                  </a:moveTo>
                  <a:lnTo>
                    <a:pt x="0" y="542957"/>
                  </a:lnTo>
                  <a:arcTo wR="543510" hR="542957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32"/>
            <p:cNvSpPr/>
            <p:nvPr/>
          </p:nvSpPr>
          <p:spPr>
            <a:xfrm>
              <a:off x="5650200" y="1412640"/>
              <a:ext cx="830160" cy="830160"/>
            </a:xfrm>
            <a:custGeom>
              <a:avLst/>
              <a:gdLst>
                <a:gd name="textAreaLeft" fmla="*/ 121320 w 830160"/>
                <a:gd name="textAreaRight" fmla="*/ 708840 w 830160"/>
                <a:gd name="textAreaTop" fmla="*/ 121320 h 830160"/>
                <a:gd name="textAreaBottom" fmla="*/ 708840 h 830160"/>
              </a:gdLst>
              <a:ahLst/>
              <a:rect l="textAreaLeft" t="textAreaTop" r="textAreaRight" b="textAreaBottom"/>
              <a:pathLst>
                <a:path w="829944" h="830312">
                  <a:moveTo>
                    <a:pt x="0" y="415156"/>
                  </a:moveTo>
                  <a:lnTo>
                    <a:pt x="0" y="415156"/>
                  </a:lnTo>
                  <a:arcTo wR="414972" hR="415156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5256360" y="1895400"/>
              <a:ext cx="601560" cy="601560"/>
            </a:xfrm>
            <a:custGeom>
              <a:avLst/>
              <a:gdLst>
                <a:gd name="textAreaLeft" fmla="*/ 87840 w 601560"/>
                <a:gd name="textAreaRight" fmla="*/ 513720 w 601560"/>
                <a:gd name="textAreaTop" fmla="*/ 87840 h 601560"/>
                <a:gd name="textAreaBottom" fmla="*/ 513720 h 601560"/>
              </a:gdLst>
              <a:ahLst/>
              <a:rect l="textAreaLeft" t="textAreaTop" r="textAreaRight" b="textAreaBottom"/>
              <a:pathLst>
                <a:path w="601431" h="601698">
                  <a:moveTo>
                    <a:pt x="0" y="300849"/>
                  </a:moveTo>
                  <a:lnTo>
                    <a:pt x="0" y="300849"/>
                  </a:lnTo>
                  <a:arcTo wR="300716" hR="300849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0"/>
            <p:cNvSpPr/>
            <p:nvPr/>
          </p:nvSpPr>
          <p:spPr>
            <a:xfrm>
              <a:off x="5424480" y="1811160"/>
              <a:ext cx="488880" cy="490320"/>
            </a:xfrm>
            <a:custGeom>
              <a:avLst/>
              <a:gdLst>
                <a:gd name="textAreaLeft" fmla="*/ 71640 w 488880"/>
                <a:gd name="textAreaRight" fmla="*/ 417240 w 488880"/>
                <a:gd name="textAreaTop" fmla="*/ 71640 h 490320"/>
                <a:gd name="textAreaBottom" fmla="*/ 418680 h 490320"/>
              </a:gdLst>
              <a:ahLst/>
              <a:rect l="textAreaLeft" t="textAreaTop" r="textAreaRight" b="textAreaBottom"/>
              <a:pathLst>
                <a:path w="488763" h="490566">
                  <a:moveTo>
                    <a:pt x="0" y="245283"/>
                  </a:moveTo>
                  <a:lnTo>
                    <a:pt x="0" y="245283"/>
                  </a:lnTo>
                  <a:arcTo wR="244381" hR="245283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7"/>
            <p:cNvSpPr/>
            <p:nvPr/>
          </p:nvSpPr>
          <p:spPr>
            <a:xfrm>
              <a:off x="4718160" y="2084400"/>
              <a:ext cx="257040" cy="255600"/>
            </a:xfrm>
            <a:custGeom>
              <a:avLst/>
              <a:gdLst>
                <a:gd name="textAreaLeft" fmla="*/ 37440 w 257040"/>
                <a:gd name="textAreaRight" fmla="*/ 219600 w 257040"/>
                <a:gd name="textAreaTop" fmla="*/ 37440 h 255600"/>
                <a:gd name="textAreaBottom" fmla="*/ 218160 h 255600"/>
              </a:gdLst>
              <a:ahLst/>
              <a:rect l="textAreaLeft" t="textAreaTop" r="textAreaRight" b="textAreaBottom"/>
              <a:pathLst>
                <a:path w="257076" h="255602">
                  <a:moveTo>
                    <a:pt x="0" y="127801"/>
                  </a:moveTo>
                  <a:lnTo>
                    <a:pt x="0" y="127801"/>
                  </a:lnTo>
                  <a:arcTo wR="128538" hR="127801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6132600" y="993600"/>
              <a:ext cx="255600" cy="257040"/>
            </a:xfrm>
            <a:custGeom>
              <a:avLst/>
              <a:gdLst>
                <a:gd name="textAreaLeft" fmla="*/ 37440 w 255600"/>
                <a:gd name="textAreaRight" fmla="*/ 218160 w 255600"/>
                <a:gd name="textAreaTop" fmla="*/ 37440 h 257040"/>
                <a:gd name="textAreaBottom" fmla="*/ 219600 h 257040"/>
              </a:gdLst>
              <a:ahLst/>
              <a:rect l="textAreaLeft" t="textAreaTop" r="textAreaRight" b="textAreaBottom"/>
              <a:pathLst>
                <a:path w="255489" h="257190">
                  <a:moveTo>
                    <a:pt x="0" y="128595"/>
                  </a:moveTo>
                  <a:lnTo>
                    <a:pt x="0" y="128595"/>
                  </a:lnTo>
                  <a:arcTo wR="127745" hR="128595" stAng="10800000" swAng="0"/>
                  <a:close/>
                </a:path>
              </a:pathLst>
            </a:custGeom>
            <a:noFill/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3"/>
            <p:cNvSpPr/>
            <p:nvPr/>
          </p:nvSpPr>
          <p:spPr>
            <a:xfrm>
              <a:off x="5059440" y="1895400"/>
              <a:ext cx="196560" cy="196560"/>
            </a:xfrm>
            <a:custGeom>
              <a:avLst/>
              <a:gdLst>
                <a:gd name="textAreaLeft" fmla="*/ 28800 w 196560"/>
                <a:gd name="textAreaRight" fmla="*/ 167760 w 196560"/>
                <a:gd name="textAreaTop" fmla="*/ 28800 h 196560"/>
                <a:gd name="textAreaBottom" fmla="*/ 167760 h 196560"/>
              </a:gdLst>
              <a:ahLst/>
              <a:rect l="textAreaLeft" t="textAreaTop" r="textAreaRight" b="textAreaBottom"/>
              <a:pathLst>
                <a:path w="196775" h="196862">
                  <a:moveTo>
                    <a:pt x="0" y="98431"/>
                  </a:moveTo>
                  <a:lnTo>
                    <a:pt x="0" y="98431"/>
                  </a:lnTo>
                  <a:arcTo wR="98387" hR="98431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4"/>
            <p:cNvSpPr/>
            <p:nvPr/>
          </p:nvSpPr>
          <p:spPr>
            <a:xfrm>
              <a:off x="6148440" y="1061640"/>
              <a:ext cx="198360" cy="196560"/>
            </a:xfrm>
            <a:custGeom>
              <a:avLst/>
              <a:gdLst>
                <a:gd name="textAreaLeft" fmla="*/ 28800 w 198360"/>
                <a:gd name="textAreaRight" fmla="*/ 169560 w 198360"/>
                <a:gd name="textAreaTop" fmla="*/ 28800 h 196560"/>
                <a:gd name="textAreaBottom" fmla="*/ 167760 h 196560"/>
              </a:gdLst>
              <a:ahLst/>
              <a:rect l="textAreaLeft" t="textAreaTop" r="textAreaRight" b="textAreaBottom"/>
              <a:pathLst>
                <a:path w="198361" h="196862">
                  <a:moveTo>
                    <a:pt x="0" y="98431"/>
                  </a:moveTo>
                  <a:lnTo>
                    <a:pt x="0" y="98431"/>
                  </a:lnTo>
                  <a:arcTo wR="99181" hR="98431" stAng="10800000" swAng="0"/>
                  <a:close/>
                </a:path>
              </a:pathLst>
            </a:custGeom>
            <a:solidFill>
              <a:srgbClr val="c1ec76"/>
            </a:solidFill>
            <a:ln w="12600">
              <a:solidFill>
                <a:srgbClr val="c1ec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882-7A1F-46AE-822C-2FCCF5F6F6CE}" type="datetime">
              <a:rPr b="0" lang="es-ES" sz="900" spc="-1" strike="noStrike">
                <a:solidFill>
                  <a:srgbClr val="404040"/>
                </a:solidFill>
                <a:latin typeface="Verdana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D499-126E-4F76-AEF3-D5F2986EEA9B}" type="slidenum">
              <a:rPr b="0" lang="es-E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404040"/>
                </a:solidFill>
                <a:latin typeface="MV Boli"/>
                <a:ea typeface="MV Boli"/>
              </a:rPr>
              <a:t>TEMA 12:IMPACTOS EN LA BIOSFERA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 u="sng">
                <a:solidFill>
                  <a:srgbClr val="404040"/>
                </a:solidFill>
                <a:uFillTx/>
                <a:latin typeface="MV Boli"/>
                <a:ea typeface="MV Boli"/>
              </a:rPr>
              <a:t>LA BIODIVERSIDAD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40404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086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700" spc="-1" strike="noStrike">
                <a:solidFill>
                  <a:srgbClr val="404040"/>
                </a:solidFill>
                <a:latin typeface="MV Boli"/>
                <a:ea typeface="MV Boli"/>
              </a:rPr>
              <a:t>Distribución de la biodiversidad</a:t>
            </a:r>
            <a:endParaRPr b="0" lang="en-US" sz="37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Lejos de ser uniforme sí es apreciable un gradiente positivo desde los polos al ecuador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SELVAS TROPICALES albergan a más de la mitad de las especies conocidas, constituyendo tan sólo el 6% de la superficie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Otros ambientes con gran acumulación: arrecifes coralinos, praderas marinas, matorral sudafricano y suroccidente de Australi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Existen las llamadas ÁREAS DE ENDEMISMOS: zonas donde prolongadas condiciones de aislamiento y evolución propia han conducido a la existencia de flora y fauna peculiares, con especies exclusivas. Ej.: áreas de montaña e islas como Canarias, Madagascar o las Galápagos (10% aves conocidas)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404040"/>
                </a:solidFill>
                <a:latin typeface="Verdana"/>
              </a:rPr>
              <a:t>HACIENDO NÚMEROS…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Verdana"/>
              </a:rPr>
              <a:t>En la superficie de 10 campos de fútbol en la selva de Borneo encontramos más especies de árboles que en América al complet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Verdana"/>
              </a:rPr>
              <a:t>En un solo árbol en Perú se han contabilizado tantas especies de hormigas como el total que habita en las islas Británica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Verdana"/>
              </a:rPr>
              <a:t>Panamá, 6 veces más pequeña que España, tiene identificados 1424 especies de vertebrados frente a los 534 que tenemos aquí. Hay que tener en cuenta que nuestro país es uno de los enclaves europeos con mayor biodiversidad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5" name="3 Marcador de contenido" descr=""/>
          <p:cNvPicPr/>
          <p:nvPr/>
        </p:nvPicPr>
        <p:blipFill>
          <a:blip r:embed="rId1"/>
          <a:stretch/>
        </p:blipFill>
        <p:spPr>
          <a:xfrm>
            <a:off x="1763640" y="1123920"/>
            <a:ext cx="5904000" cy="444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1247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EL CASO DE ESPAÑA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1268280"/>
            <a:ext cx="712476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aís europeo con mayor diversidad de especies, gracias a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Variabilidad paisajística, orográfica y climátic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osición cercana a Áfric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Reciente historia natural con menor efecto de los hielos glaciare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80.000 especies: 8.000-9.000 plantas vasculares (80% de la UE, con 1.500 endémicas) 20.000 hongos, líquenes y musgos, 55.000 animales entre los que hay unos 100 mamíferos, 400 aves y 4.500 mariposas (400 endémicas)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royectos de inventariado y descripción: Flora Ibérica, Flora Micológica Ibérica, Fauna Ibérica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Gran problema: amenaza de extinción (recogido en listas rojas)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404040"/>
                </a:solidFill>
                <a:latin typeface="MV Boli"/>
                <a:ea typeface="MV Boli"/>
              </a:rPr>
              <a:t>IMPORTANCIA DE LA BIODIVERSIDAD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09800" y="1806120"/>
            <a:ext cx="7124400" cy="47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LA VIDA DEL HOMBRE EN LA TIERRA SERÍA IMPOSIBLE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DE ELLA DEPENDEN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La fotosíntesis, responsable a su vez de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roducción primaria. Base de toda red trófica de los ecosistemas, incluyendo el eslabón humano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roducción de 02 y eliminación de CO2. Imprescindible para la respiración de los organismos aerobios. Contribuye a mantener la composición gaseosa atmosférica y la estabilidad climátic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Formación y mantenimiento de los suelos. Gracias a ello existen las plantas y por extensión, la vida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9800" y="40752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980640"/>
            <a:ext cx="7124760" cy="50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Ciclos biogeoquímicos, por los cuales se recicla la materia de manera natural. Destacan la mineralización y saneamiento de productos orgánicos de desecho, lo que no sería posible sin microorganismos, hongos, artrópodos y otros invertebrados. Implicaría la inhabitabilidad de la biosfera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Los flujos energétic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Polinización y diseminación de semill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Control de la erosión del suelo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Control de poblaciones: la biodiversidad contribuye a mantener ajustes entre distintas poblaciones que evita crecimientos explosiv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V Boli"/>
                <a:ea typeface="MV Boli"/>
              </a:rPr>
              <a:t>Alimentación humana (depende un 99% de sustancias producidas directamente por seres vivos) y obtención de productos farmacéuticos (más del 40% de los medicamentos comercializados)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124760" cy="51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MV Boli"/>
                <a:ea typeface="MV Boli"/>
              </a:rPr>
              <a:t>¿CUÁNTOS NUEVOS PRODUCTOS (FARMACÉUTICOS,ALIMENTARIOS, INDUSTRIALES, ETC.) PROCEDENTES DE LA BIODIVERSIDAD SE PERDERÁN CON LA DESAPARICIÓN DE LAS NUEVAS ESPECIES, HOY TODAVÍA DESCONOCIDAS?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9800" y="549360"/>
            <a:ext cx="7124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800" spc="-1" strike="noStrike">
                <a:solidFill>
                  <a:srgbClr val="404040"/>
                </a:solidFill>
                <a:latin typeface="MV Boli"/>
                <a:ea typeface="MV Boli"/>
              </a:rPr>
              <a:t>RITMO DE LA DESAPARICIÓN DE ESPECIES</a:t>
            </a:r>
            <a:endParaRPr b="0" lang="en-US" sz="3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09800" y="2636640"/>
            <a:ext cx="712440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tualmente, se calcula que están desapareciendo unas 100.000 especies al año y que de seguir con este ritmo, en unos 30 años habrá desaparecido 1/4 de las especies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ayor pérdida de biodiversidad corresponde a la destrucción de uno de los ecosistemas mas ricos en la Tierra: el bosque tropical, del cual desaparecen unos 20 millones de hectáreas al año, que albergan una biodiversidad equivalente al total de España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ayor parte de las especies que se extinguen son desconocidas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99% de las extinciones tiene un único causante: el ser humano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56" name="Picture 2" descr="C:\Documents and Settings\Santii\Mis documentos\Mis imágenes\tala.jpg"/>
          <p:cNvPicPr/>
          <p:nvPr/>
        </p:nvPicPr>
        <p:blipFill>
          <a:blip r:embed="rId1"/>
          <a:stretch/>
        </p:blipFill>
        <p:spPr>
          <a:xfrm>
            <a:off x="1042920" y="1125360"/>
            <a:ext cx="6408720" cy="48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404040"/>
                </a:solidFill>
                <a:latin typeface="MV Boli"/>
                <a:ea typeface="MV Boli"/>
              </a:rPr>
              <a:t>CAUSAS HUMANAS DE LA DESAPARICIÓN DE ESPECIES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09800" y="3357360"/>
            <a:ext cx="7124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6000"/>
          </a:bodyPr>
          <a:p>
            <a:pPr marL="157680" indent="-157680">
              <a:buClr>
                <a:srgbClr val="40404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terioro, destrucción y fragmentación de los hábitat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Desecación de humedales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onstrucción de autopistas (Osos asturianos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Destrucción de bosqu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onstrucción de embalses que inundan vall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troducción de especies exótica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angrejo americano en Europ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Conejos en Australi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obreexplotación de especi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Deforestación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·Sobrepesc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aminación de suelos, atmósfera y agua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mbio climátic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buClr>
                <a:srgbClr val="404040"/>
              </a:buClr>
              <a:buFont typeface="Verdana"/>
              <a:buAutoNum type="arabicParenR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tensificación actividad ganadera y foresta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157680" indent="-1576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700" spc="-1" strike="noStrike">
                <a:solidFill>
                  <a:srgbClr val="404040"/>
                </a:solidFill>
                <a:latin typeface="MV Boli"/>
                <a:ea typeface="MV Boli"/>
              </a:rPr>
              <a:t>DIVERSIDAD BIOLÓGICA o BIODIVERSIDAD</a:t>
            </a:r>
            <a:endParaRPr b="0" lang="en-US" sz="47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COMO TÉRMINO: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Es un neologismo que se generalizó y empezó a tomar connotaciones de problema ambiental a partir de la conferencia de Naciones Unidas sobre Medio Ambiente y Desarrollo celebrada en Río de Janeiro en 1992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843280" y="3946680"/>
            <a:ext cx="3900600" cy="27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404040"/>
                </a:solidFill>
                <a:latin typeface="MV Boli"/>
                <a:ea typeface="MV Boli"/>
              </a:rPr>
              <a:t>CONSECUENCIAS DE LA PÉRDIDA DE BIODIVERSIDAD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Pérdida de posibles curas a enfermedades incurables hoy en día (SIDA, varios tipos de cáncer…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Hambre en el mund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Inundaciones (Consecuencia de la deforestación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Crisis económic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404040"/>
                </a:solidFill>
                <a:latin typeface="Verdana"/>
              </a:rPr>
              <a:t>Desertificación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1247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2" name="Picture 2" descr="C:\Documents and Settings\Santii\Mis documentos\Mis imágenes\Oso Pardo.gif"/>
          <p:cNvPicPr/>
          <p:nvPr/>
        </p:nvPicPr>
        <p:blipFill>
          <a:blip r:embed="rId1"/>
          <a:stretch/>
        </p:blipFill>
        <p:spPr>
          <a:xfrm>
            <a:off x="1835280" y="2349360"/>
            <a:ext cx="52578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4" name="Picture 2" descr="C:\Documents and Settings\Santii\Mis documentos\Mis imágenes\untitled.bmp"/>
          <p:cNvPicPr/>
          <p:nvPr/>
        </p:nvPicPr>
        <p:blipFill>
          <a:blip r:embed="rId1"/>
          <a:stretch/>
        </p:blipFill>
        <p:spPr>
          <a:xfrm>
            <a:off x="1763640" y="2421000"/>
            <a:ext cx="5256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6" name="Picture 2" descr="C:\Documents and Settings\Santii\Mis documentos\Mis imágenes\img_3.jpg"/>
          <p:cNvPicPr/>
          <p:nvPr/>
        </p:nvPicPr>
        <p:blipFill>
          <a:blip r:embed="rId1"/>
          <a:stretch/>
        </p:blipFill>
        <p:spPr>
          <a:xfrm>
            <a:off x="2190600" y="2112840"/>
            <a:ext cx="476280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68" name="Picture 2" descr="C:\Documents and Settings\Santii\Mis documentos\Mis imágenes\cicnig.jpg"/>
          <p:cNvPicPr/>
          <p:nvPr/>
        </p:nvPicPr>
        <p:blipFill>
          <a:blip r:embed="rId1"/>
          <a:stretch/>
        </p:blipFill>
        <p:spPr>
          <a:xfrm>
            <a:off x="2895480" y="1989000"/>
            <a:ext cx="33530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SPAÑA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0" name="Picture 2" descr="C:\Documents and Settings\Santii\Mis documentos\Mis imágenes\Urogallo.jpg"/>
          <p:cNvPicPr/>
          <p:nvPr/>
        </p:nvPicPr>
        <p:blipFill>
          <a:blip r:embed="rId1"/>
          <a:stretch/>
        </p:blipFill>
        <p:spPr>
          <a:xfrm>
            <a:off x="3143160" y="2243160"/>
            <a:ext cx="285768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L MUNDO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2" name="Picture 2" descr="C:\Documents and Settings\Santii\Mis documentos\Mis imágenes\cc26.jpg"/>
          <p:cNvPicPr/>
          <p:nvPr/>
        </p:nvPicPr>
        <p:blipFill>
          <a:blip r:embed="rId1"/>
          <a:stretch/>
        </p:blipFill>
        <p:spPr>
          <a:xfrm>
            <a:off x="2050920" y="2403360"/>
            <a:ext cx="47530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L MUNDO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4" name="Picture 2" descr="C:\Documents and Settings\Santii\Mis documentos\Mis imágenes\panda-gigante.jpg"/>
          <p:cNvPicPr/>
          <p:nvPr/>
        </p:nvPicPr>
        <p:blipFill>
          <a:blip r:embed="rId1"/>
          <a:stretch/>
        </p:blipFill>
        <p:spPr>
          <a:xfrm>
            <a:off x="2190600" y="2300400"/>
            <a:ext cx="47628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404040"/>
                </a:solidFill>
                <a:latin typeface="Verdana"/>
              </a:rPr>
              <a:t>ESPECIES EN VÍAS DE EXTINCIÓN EN EL MUNDO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76" name="Picture 2" descr="C:\Documents and Settings\Santii\Mis documentos\Mis imágenes\carey02.jpg"/>
          <p:cNvPicPr/>
          <p:nvPr/>
        </p:nvPicPr>
        <p:blipFill>
          <a:blip r:embed="rId1"/>
          <a:stretch/>
        </p:blipFill>
        <p:spPr>
          <a:xfrm>
            <a:off x="1835280" y="2532240"/>
            <a:ext cx="496872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404040"/>
                </a:solidFill>
                <a:latin typeface="MV Boli"/>
                <a:ea typeface="MV Boli"/>
              </a:rPr>
              <a:t>ACTUACIÓN PARA LA PROTECCIÓN DE ESPECIES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1601280"/>
            <a:ext cx="71247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Protección de especies en peligro de extinción: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catalogación de las distintas especies en peligro de extinción, establecimiento de una legislación para su protección y cumplimiento de la misma, tanto a nivel nacional como internacional. Se deberá evitar el comercio indiscriminado de las mima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Establecimiento de sistemas de explotación sostenible: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leyes de caza y pesca, establecimiento de cotos y períodos de veda que eviten la sobreexplotación de las distintas especies animales y vegetale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Protección de los distintos ecosistemas: 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si queremos que una especie perdure, no solamente se debe de proteger a esa especie evitando su caza o captura, sino conservar sus hábitats naturales. A ello contribuye el establecimiento de Reservas de la Biosfera, Parques Nacionales y espacios protegidos. Estos, además, generan turismo, permiten la investigación científica y contribuyen al equilibrio natural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Creación de bancos de genes, jardines botánicos y fomento, para determinadas especies, de cría en cautividad: 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Aunque no es la mejor solución puede contribuir a la perdurabilidad de ciertas especie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ts val="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A nivel personal, se deberá evitar el coleccionismo de especies vegetales o animales, tanto autóctonas como exóticas</a:t>
            </a:r>
            <a:r>
              <a:rPr b="0" lang="es-ES_tradnl" sz="1500" spc="-1" strike="noStrike">
                <a:solidFill>
                  <a:srgbClr val="000000"/>
                </a:solidFill>
                <a:latin typeface="MV Boli"/>
                <a:ea typeface="MV Boli"/>
              </a:rPr>
              <a:t>; la adquisición de animales de compañía en riesgo de extinción o la introducción de especies exóticas en nuestros hábitats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404040"/>
                </a:solidFill>
                <a:latin typeface="MV Boli"/>
                <a:ea typeface="MV Boli"/>
              </a:rPr>
              <a:t>Aclara el concepto de desarrollo sostenibl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« Los seres humanos constituyen el centro de las preocupaciones relacionadas con el desarrollo sostenible. Tienen derecho a una vida saludable y productiva en armonía con la naturaleza. », (Principio 1) « Para alcanzar el desarrollo sostenible, la protección del medio ambiente debe ser parte del proceso de desarrollo y no puede ser considerado por separado ». (Principio 4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9800" y="10512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MV Boli"/>
              <a:ea typeface="MV Bol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9640" y="1628280"/>
            <a:ext cx="7124760" cy="48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Ocasión para adoptar un programa de acción para el siglo XXI, llamado Programa 21 o Agenda 21. plan detallado de acciones que deben ser acometidas a nivel mundial, nacional y local por entidades de la ONU, los gobiernos y por grupos principales particular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Se destacó el papel de los diferentes actores en la aplicación del desarrollo sostenible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Se aprobó la Convención sobre el Cambio Climático, que afirma la necesidad de reducir las emisiones de gases de efecto invernadero que condujo a la firma en 1997 del Protocolo de Kyot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Declaración sobre los Bosques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MV Boli"/>
                <a:ea typeface="MV Boli"/>
              </a:rPr>
              <a:t>Convenio sobre la Diversidad Biológica, que supedita el uso de la herencia genética mundial a una serie de condiciones y presenta un primer nivel en este ámbito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¿QUÉ ES LA BIODIVERSIDAD?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1280" y="2060280"/>
            <a:ext cx="8137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Variabilidad de organismos de cualquier fuente, incluidos entre otros los ecosistemas terrestres, marinos, otros acuáticos y los complejos ecológicos de los que forman parte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MV Boli"/>
                <a:ea typeface="MV Boli"/>
              </a:rPr>
              <a:t>COMPONENTES DE LA BIODIVERSIDAD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Diversidad ecológica o de ecosistemas: diferentes hábitats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Diversidad específica o de especies: entidades biológicas naturales con capacidad de intercambio genético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MV Boli"/>
                <a:ea typeface="MV Boli"/>
              </a:rPr>
              <a:t>Diversidad genética: variabilidad de genes en poblaciones o individuos que les hace ser ligeramente diferentes y permite su evolución y adaptación al medio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32" name="4 Imagen" descr=""/>
          <p:cNvPicPr/>
          <p:nvPr/>
        </p:nvPicPr>
        <p:blipFill>
          <a:blip r:embed="rId1"/>
          <a:stretch/>
        </p:blipFill>
        <p:spPr>
          <a:xfrm>
            <a:off x="4788000" y="1123920"/>
            <a:ext cx="3632040" cy="4753080"/>
          </a:xfrm>
          <a:prstGeom prst="rect">
            <a:avLst/>
          </a:prstGeom>
          <a:ln w="0">
            <a:noFill/>
          </a:ln>
        </p:spPr>
      </p:pic>
      <p:pic>
        <p:nvPicPr>
          <p:cNvPr id="333" name="6 Marcador de contenido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36896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280" y="676440"/>
            <a:ext cx="820908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404040"/>
                </a:solidFill>
                <a:latin typeface="MV Boli"/>
                <a:ea typeface="MV Boli"/>
              </a:rPr>
              <a:t>ORIGEN DE LA BIODIVERSIDAD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La biodiversidad es el fruto de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Millones de años de evolució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Adaptación de la vida a los distintos ambiente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Verdana"/>
              </a:rPr>
              <a:t>Selección natural (descrito por Charles Darwin)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ESTUDIO DE LA BIODIVERSIDAD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ELABORACIÓN DE CATÁLOGOS FLORÍSTICOS O FAUNÍSTICOS BASADOS EN: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Fuentes bibliográficas existent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Trabajos de campo: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Para los vegetales dificultad mínima, de localización según las estaciones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MV Bol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04040"/>
                </a:solidFill>
                <a:latin typeface="MV Boli"/>
                <a:ea typeface="MV Boli"/>
              </a:rPr>
              <a:t>Para los animales se recurre a batidas, reclamos, rastros, estaciones de censo, capturas y marcado de ejemplares y puntos de observación fotográfica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MV Boli"/>
                <a:ea typeface="MV Boli"/>
              </a:rPr>
              <a:t>Magnitud de la biodiversidad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06064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Catalogadas y descritas 1’8 millones de especies aproximadamente. Coinciden con las más llamativas, de mayor tamaño y lugares de fácil acceso, mayoritariamente terrestres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Cada año se descubren unas 10.000 nuevas, de lugares cada vez más recónditos y correspondientes a microorganismos, hongos o invertebrados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MV Boli"/>
                <a:ea typeface="MV Boli"/>
              </a:rPr>
              <a:t>Estimaciones van desde los 5 ó 40 millones hasta los 100 millones de especies, lo que nos da una idea de nuestro desconocimiento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23:04:55Z</dcterms:created>
  <dc:creator>santitax</dc:creator>
  <dc:description/>
  <dc:language>en-US</dc:language>
  <cp:lastModifiedBy>santitax</cp:lastModifiedBy>
  <dcterms:modified xsi:type="dcterms:W3CDTF">2012-04-18T06:51:13Z</dcterms:modified>
  <cp:revision>23</cp:revision>
  <dc:subject/>
  <dc:title>DIVERSIDAD BIOLÓGICA o BIODIVERSIDAD</dc:title>
</cp:coreProperties>
</file>